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202-8E24-4457-8FBA-B64861F1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7AA-9C1E-4047-B5B4-883FE1A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0DD-469E-4205-959C-2DE0276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43B-DCA7-43EC-839B-FCF2B96B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82A3-4F47-4577-BFB2-2290EBBA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DD00-E87F-4667-933B-5AF4897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BD36-ED85-4083-9B68-1A4FDB69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7613-BD02-455A-91E8-DEC4BE4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C4F-D4E8-4D32-AB38-65EC92EB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0C1F-3912-4751-9A0D-9F0BB5E3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ACA-44F3-4372-BA06-530F18C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05D-D2CB-4F6F-9212-D0429AC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FA0-465C-458E-AAE0-26E049B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E1C-D685-496A-A522-59D5F00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7FB7-F9E3-423F-B53A-086E259E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DB8-38DF-41C0-947B-F8D62038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8DE-5556-416E-BF29-7C23C564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0E2-F318-49AD-8DDC-C032EE3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042-5AC8-4BA3-BACC-988AF80D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25A-F209-4754-9078-C1C8D4AD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B49-20B0-434E-BDCF-F2E7B7F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A85-529F-4F58-80A7-3324079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412-075C-4F7B-B444-F6A7AA0B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4EA-FA2B-4A4E-BD2A-214A1E8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9D64-7CD4-48A1-A703-F131893FC8C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87E7-6160-4271-9954-2C522ACF8AC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Bases para la formulación de un Plan Estraté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ementos de un 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tedec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criben los propósitos de un determinado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virán como criterio para la selección de curso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referirse a situaciones deseadas o valores que se desea implan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os y Preci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ducentes a un plan de acción v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den ser Generales o Específ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demos encontr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Producto: Bien o servicio entregado a la comunidad. N° de consultas, sesiones educativa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Efectos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bio de conducta esperado o inesperado como consecuencia de la utilización de los productos. Bajo consumo de grasas saturadas, realización de actividad física moderada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Proceso: Orientados a mejorar el proceso de gestión de las acciones en march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Impacto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dificación en la condición biológica y/o socioeconómica de la población,  como consecuencia de los efectos. Disminución de prevalencia de Obesi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medidas especificas de log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periodo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enerales o especif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producto, efecto e imp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as y Preci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presadas en una dimensión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valu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alis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4168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comuna de Providencia, al año 2009, una de sus prioridades de intervención fue las Enfermedades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2492280"/>
          <a:ext cx="8798040" cy="3702240"/>
        </p:xfrm>
        <a:graphic>
          <a:graphicData uri="http://schemas.openxmlformats.org/drawingml/2006/table">
            <a:tbl>
              <a:tblPr/>
              <a:tblGrid>
                <a:gridCol w="781200"/>
                <a:gridCol w="3540240"/>
                <a:gridCol w="4476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2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los pacientes HT bajo control adecuen su ingesta de sodio a la recomendación entregada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a los pacientes HT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 en un 5%, en un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al menos un 10% de los pacientes HT bajo control adecuen su ingesta de sodio a la recomendación entregada, entre un control y otro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en el 85%, durante el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voy a realizar para lograr mis objetivos y m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sulta nutricional con consejer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rol S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ervisión PNAC Y PA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quien lo va a hacer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hrs/ s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0 hr/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con qué lo va a hac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cant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 Box equip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144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81080"/>
            <a:ext cx="2133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PROGNOS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3429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S</a:t>
            </a: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PECIF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971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ATEG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343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LITIC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343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OGRAM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4864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5840" y="260280"/>
            <a:ext cx="451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METOD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213336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038480"/>
            <a:ext cx="21337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ALISI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OHERENC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3504960" y="1371240"/>
            <a:ext cx="3810600" cy="610200"/>
          </a:xfrm>
          <a:prstGeom prst="curvedConnector2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1" idx="2"/>
          </p:cNvCxnSpPr>
          <p:nvPr/>
        </p:nvCxnSpPr>
        <p:spPr>
          <a:xfrm>
            <a:off x="4419360" y="2361960"/>
            <a:ext cx="1905480" cy="24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endCxn id="93" idx="3"/>
          </p:cNvCxnSpPr>
          <p:nvPr/>
        </p:nvCxnSpPr>
        <p:spPr>
          <a:xfrm>
            <a:off x="3505320" y="3184560"/>
            <a:ext cx="3056400" cy="32400"/>
          </a:xfrm>
          <a:prstGeom prst="curvedConnector5">
            <a:avLst>
              <a:gd name="adj1" fmla="val 44881"/>
              <a:gd name="adj2" fmla="val 744943"/>
              <a:gd name="adj3" fmla="val 44881"/>
            </a:avLst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657240" y="5638320"/>
            <a:ext cx="3810600" cy="45792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8" idx="3"/>
          </p:cNvCxnSpPr>
          <p:nvPr/>
        </p:nvCxnSpPr>
        <p:spPr>
          <a:xfrm rot="5400000">
            <a:off x="3237480" y="5371920"/>
            <a:ext cx="91512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989640" y="5333760"/>
            <a:ext cx="83880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161520" y="3543120"/>
            <a:ext cx="457920" cy="114372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5400000">
            <a:off x="1599480" y="3581280"/>
            <a:ext cx="457920" cy="106776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2590920" y="388584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1" idx="3"/>
            <a:endCxn id="96" idx="2"/>
          </p:cNvCxnSpPr>
          <p:nvPr/>
        </p:nvCxnSpPr>
        <p:spPr>
          <a:xfrm flipV="1" rot="16200000">
            <a:off x="3996360" y="2631960"/>
            <a:ext cx="244800" cy="5037840"/>
          </a:xfrm>
          <a:prstGeom prst="curvedConnector5">
            <a:avLst>
              <a:gd name="adj1" fmla="val -48011"/>
              <a:gd name="adj2" fmla="val 49996"/>
              <a:gd name="adj3" fmla="val -48011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590920" y="1828800"/>
            <a:ext cx="0" cy="304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590920"/>
            <a:ext cx="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5" idx="3"/>
            <a:endCxn id="101" idx="0"/>
          </p:cNvCxnSpPr>
          <p:nvPr/>
        </p:nvCxnSpPr>
        <p:spPr>
          <a:xfrm>
            <a:off x="3504960" y="3428640"/>
            <a:ext cx="3886920" cy="61020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707880" y="624852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257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1.POLITICAS NACIONA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32416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2.ANALISIS DE 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UCTURA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UNCIONAMIENT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L SISTEM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38156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6.METOD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44824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5.INSTRUMENT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SPON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8156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4.CURS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CC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S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40048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3.DEMANDAS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SPIRACI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09960"/>
            <a:ext cx="25146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7" idx="1"/>
            <a:endCxn id="118" idx="0"/>
          </p:cNvCxnSpPr>
          <p:nvPr/>
        </p:nvCxnSpPr>
        <p:spPr>
          <a:xfrm flipV="1" rot="10800000">
            <a:off x="2171160" y="1599120"/>
            <a:ext cx="1028880" cy="72468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>
            <a:off x="6705360" y="1599840"/>
            <a:ext cx="267120" cy="80100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2"/>
          </p:cNvCxnSpPr>
          <p:nvPr/>
        </p:nvCxnSpPr>
        <p:spPr>
          <a:xfrm rot="10800000">
            <a:off x="2056680" y="5371560"/>
            <a:ext cx="991440" cy="5720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0" idx="3"/>
          </p:cNvCxnSpPr>
          <p:nvPr/>
        </p:nvCxnSpPr>
        <p:spPr>
          <a:xfrm rot="5400000">
            <a:off x="5828760" y="5105160"/>
            <a:ext cx="572040" cy="110556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2"/>
            <a:endCxn id="121" idx="1"/>
          </p:cNvCxnSpPr>
          <p:nvPr/>
        </p:nvCxnSpPr>
        <p:spPr>
          <a:xfrm flipH="1" rot="16200000">
            <a:off x="3238560" y="2400120"/>
            <a:ext cx="1410480" cy="35438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2"/>
            <a:endCxn id="121" idx="0"/>
          </p:cNvCxnSpPr>
          <p:nvPr/>
        </p:nvCxnSpPr>
        <p:spPr>
          <a:xfrm rot="5400000">
            <a:off x="6361920" y="377172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18" idx="1"/>
          </p:cNvCxnSpPr>
          <p:nvPr/>
        </p:nvCxnSpPr>
        <p:spPr>
          <a:xfrm flipH="1" rot="10800000">
            <a:off x="914040" y="289476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707880" y="617220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230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 Alimentari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Nutricio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86064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ursos de ac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515772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ioridad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133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álisis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acti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20500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610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Objetiv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Meta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5867280" cy="410364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66"/>
                </a:solidFill>
                <a:latin typeface="Verdana"/>
              </a:rPr>
              <a:t>Plan de trabaj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ocumento que materializa el proceso de Planific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fine el futuro deseado por la institución y las acciones necesarias para lograr ese fut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rmite establecer acuerdos y compromisos institucionales, en torno a determinados resultados espe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rdena las iniciativas del equipo planific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biera considerar iniciativas orientadas a lograra una mayor efectividad en la disminución de problemas nutri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iscute en t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or qué se va a actu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ara q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e va 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en esta dirig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ómo se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ien lo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on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uándo y don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y necesidades de la población son ilimitadas y los recursos esca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de salud prevalentes van cambiando en 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acciones de salud son por naturaleza complej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o con l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odelo de Salud Integral con enfoque familiar y comunitario se debe expresar en todos los momentos de la planificación, de modo que lo que se proponga realizar el equipo local considere a las personas, familias y comunidad como recursos para la mantención y recuperación de la salu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15:41Z</dcterms:created>
  <dc:creator>Usuario</dc:creator>
  <dc:description/>
  <dc:language>en-US</dc:language>
  <cp:lastModifiedBy>Usuario</cp:lastModifiedBy>
  <dcterms:modified xsi:type="dcterms:W3CDTF">2011-03-10T12:53:24Z</dcterms:modified>
  <cp:revision>20</cp:revision>
  <dc:subject/>
  <dc:title>Bases para la formulación de un Plan Estratégico</dc:title>
</cp:coreProperties>
</file>