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893-ABBC-434A-9B06-A495A2B8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7BA-C5E8-4E81-96D2-9AACEC21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003-19AA-4246-BCFA-D8958790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CB4-2911-483A-A573-BE16ED1D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A4E-DB45-4C37-BE2E-9C1A3F09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41A4-91AA-4DE9-B701-00F6A881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C1EA-E073-45A1-AFCD-C753DB2B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EF05-2FD5-49A2-BA76-77D5C606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BB26-DBB1-4AF4-8FC0-F01D34B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B7C7-1B8A-47C1-8362-3B970DE6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8DB7-156E-4388-AE5F-9EA856A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EC6-7094-461B-9140-E40F864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D9F5-A2C4-4EA4-8EFF-C5A4B2A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3374-DEBE-4FEC-9AEA-E6235D5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D323-5E99-4E65-A642-95376102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1199-3A9F-45F1-A56E-17266078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3608-A20A-48D1-BE7B-2BA1B53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90D-2A67-4B6E-9C69-14EDE3C5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6CA-CAB5-448A-AB0B-10431B0F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65B-A78F-4A0A-9B1C-73C0C4B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805-CABD-454F-985B-B804768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585-6154-46B9-9FE0-C34357D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B31-C9CB-42F2-9F93-50C11C9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03C-D072-4D07-88D1-E2BEF22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6EC-B434-41C8-9A0B-04991AC19EC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58B-FA00-40F9-A885-57142612397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Bases para la formulación de un Plan Estratég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ementos de un 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tedec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criben los propósitos de un determinado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virán como criterio para la selección de curso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referirse a situaciones deseadas o valores que se desea implan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os y Preci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ducentes a un plan de acción v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den ser Generales o Específic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demos encontr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Producto: Bien o servicio entregado a la comunidad. N° de consultas, sesiones educativa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Efectos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bio de conducta esperado o inesperado como consecuencia de la utilización de los productos. Bajo consumo de grasas saturadas, realización de actividad física moderada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Proceso: Orientados a mejorar el proceso de gestión de las acciones en march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Impacto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dificación en la condición biológica y/o socioeconómica de la población,  como consecuencia de los efectos. Disminución de prevalencia de Obesi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medidas especificas de log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periodo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enerales o especif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producto, efecto e imp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as y Precis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presadas en una dimensión temp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valu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alis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4168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comuna de Providencia, al año 2009, una de sus prioridades de intervención fue las Enfermedades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2492280"/>
          <a:ext cx="8798040" cy="3702240"/>
        </p:xfrm>
        <a:graphic>
          <a:graphicData uri="http://schemas.openxmlformats.org/drawingml/2006/table">
            <a:tbl>
              <a:tblPr/>
              <a:tblGrid>
                <a:gridCol w="781200"/>
                <a:gridCol w="3540240"/>
                <a:gridCol w="44766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21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los pacientes HT bajo control adecuen su ingesta de sodio a la recomendación entregada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a los pacientes HT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 en un 5%, en un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al menos un 10% de los pacientes HT bajo control adecuen su ingesta de sodio a la recomendación entregada, entre un control y otro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en el 85%, durante el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voy a realizar para lograr mis objetivos y m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sulta nutricional con consejer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rol S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ervisión PNAC Y PA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quien lo va a hacer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hrs/ s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0 hr/ s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con qué lo va a hac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cant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 Box equip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144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81080"/>
            <a:ext cx="2133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PROGNOS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3429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S</a:t>
            </a: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PECIF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971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ATEG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343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LITIC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3434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OGRAM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4864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5840" y="260280"/>
            <a:ext cx="451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METOD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213336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038480"/>
            <a:ext cx="21337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ALISI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OHERENC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3504960" y="1371240"/>
            <a:ext cx="3810600" cy="610200"/>
          </a:xfrm>
          <a:prstGeom prst="curvedConnector2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1" idx="2"/>
          </p:cNvCxnSpPr>
          <p:nvPr/>
        </p:nvCxnSpPr>
        <p:spPr>
          <a:xfrm>
            <a:off x="4419360" y="2361960"/>
            <a:ext cx="1905480" cy="24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endCxn id="93" idx="3"/>
          </p:cNvCxnSpPr>
          <p:nvPr/>
        </p:nvCxnSpPr>
        <p:spPr>
          <a:xfrm>
            <a:off x="3505320" y="3184560"/>
            <a:ext cx="3056400" cy="32400"/>
          </a:xfrm>
          <a:prstGeom prst="curvedConnector5">
            <a:avLst>
              <a:gd name="adj1" fmla="val 44881"/>
              <a:gd name="adj2" fmla="val 744943"/>
              <a:gd name="adj3" fmla="val 44881"/>
            </a:avLst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657240" y="5638320"/>
            <a:ext cx="3810600" cy="45792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97" idx="2"/>
            <a:endCxn id="98" idx="3"/>
          </p:cNvCxnSpPr>
          <p:nvPr/>
        </p:nvCxnSpPr>
        <p:spPr>
          <a:xfrm rot="5400000">
            <a:off x="3237480" y="5371920"/>
            <a:ext cx="91512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rot="16200000">
            <a:off x="989640" y="5333760"/>
            <a:ext cx="83880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161520" y="3543120"/>
            <a:ext cx="457920" cy="114372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rot="5400000">
            <a:off x="1599480" y="3581280"/>
            <a:ext cx="457920" cy="106776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flipV="1">
            <a:off x="2590920" y="388584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1" idx="3"/>
            <a:endCxn id="96" idx="2"/>
          </p:cNvCxnSpPr>
          <p:nvPr/>
        </p:nvCxnSpPr>
        <p:spPr>
          <a:xfrm flipV="1" rot="16200000">
            <a:off x="3996360" y="2631960"/>
            <a:ext cx="244800" cy="5037840"/>
          </a:xfrm>
          <a:prstGeom prst="curvedConnector5">
            <a:avLst>
              <a:gd name="adj1" fmla="val -48011"/>
              <a:gd name="adj2" fmla="val 49996"/>
              <a:gd name="adj3" fmla="val -48011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590920" y="1828800"/>
            <a:ext cx="0" cy="304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590920"/>
            <a:ext cx="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5" idx="3"/>
            <a:endCxn id="101" idx="0"/>
          </p:cNvCxnSpPr>
          <p:nvPr/>
        </p:nvCxnSpPr>
        <p:spPr>
          <a:xfrm>
            <a:off x="3504960" y="3428640"/>
            <a:ext cx="3886920" cy="61020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707880" y="624852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257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1.POLITICAS NACIONA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32416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2.ANALISIS DE L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UCTURA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UNCIONAMIENT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L SISTEM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38156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6.METOD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44824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5.INSTRUMENT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SPON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8156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4.CURS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CC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S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40048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3.DEMANDAS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SPIRACI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09960"/>
            <a:ext cx="25146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7" idx="1"/>
            <a:endCxn id="118" idx="0"/>
          </p:cNvCxnSpPr>
          <p:nvPr/>
        </p:nvCxnSpPr>
        <p:spPr>
          <a:xfrm flipV="1" rot="10800000">
            <a:off x="2171160" y="1599120"/>
            <a:ext cx="1028880" cy="72468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3"/>
            <a:endCxn id="122" idx="0"/>
          </p:cNvCxnSpPr>
          <p:nvPr/>
        </p:nvCxnSpPr>
        <p:spPr>
          <a:xfrm>
            <a:off x="6705360" y="1599840"/>
            <a:ext cx="267120" cy="80100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1"/>
            <a:endCxn id="119" idx="2"/>
          </p:cNvCxnSpPr>
          <p:nvPr/>
        </p:nvCxnSpPr>
        <p:spPr>
          <a:xfrm rot="10800000">
            <a:off x="2056680" y="5371560"/>
            <a:ext cx="991440" cy="5720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0" idx="3"/>
          </p:cNvCxnSpPr>
          <p:nvPr/>
        </p:nvCxnSpPr>
        <p:spPr>
          <a:xfrm rot="5400000">
            <a:off x="5828760" y="5105160"/>
            <a:ext cx="572040" cy="110556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8" idx="2"/>
            <a:endCxn id="121" idx="1"/>
          </p:cNvCxnSpPr>
          <p:nvPr/>
        </p:nvCxnSpPr>
        <p:spPr>
          <a:xfrm flipH="1" rot="16200000">
            <a:off x="3238560" y="2400120"/>
            <a:ext cx="1410480" cy="35438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2"/>
            <a:endCxn id="121" idx="0"/>
          </p:cNvCxnSpPr>
          <p:nvPr/>
        </p:nvCxnSpPr>
        <p:spPr>
          <a:xfrm rot="5400000">
            <a:off x="6361920" y="377172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1"/>
            <a:endCxn id="118" idx="1"/>
          </p:cNvCxnSpPr>
          <p:nvPr/>
        </p:nvCxnSpPr>
        <p:spPr>
          <a:xfrm flipH="1" rot="10800000">
            <a:off x="914040" y="2894760"/>
            <a:ext cx="2160" cy="19821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707880" y="617220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230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 Alimentari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Nutricio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86064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ursos de ac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515772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ioridad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133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álisis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acti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20500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610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Objetiv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165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Meta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5867280" cy="410364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66"/>
                </a:solidFill>
                <a:latin typeface="Verdana"/>
              </a:rPr>
              <a:t>Plan de trabaj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ocumento que materializa el proceso de Planific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fine el futuro deseado por la institución y las acciones necesarias para lograr ese fut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rmite establecer acuerdos y compromisos institucionales, en torno a determinados resultados espe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rdena las iniciativas del equipo planific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biera considerar iniciativas orientadas a lograra una mayor efectividad en la disminución de problemas nutri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iscute en t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or qué se va a actu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ara qu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e va 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en esta dirig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ómo se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ien lo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on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uándo y don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y necesidades de la población son ilimitadas y los recursos esca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de salud prevalentes van cambiando en 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acciones de salud son por naturaleza complej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o con l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odelo de Salud Integral con enfoque familiar y comunitario se debe expresar en todos los momentos de la planificación, de modo que lo que se proponga realizar el equipo local considere a las personas, familias y comunidad como recursos para la mantención y recuperación de la salu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5:15:41Z</dcterms:created>
  <dc:creator>Usuario</dc:creator>
  <dc:description/>
  <dc:language>en-US</dc:language>
  <cp:lastModifiedBy>Usuario</cp:lastModifiedBy>
  <dcterms:modified xsi:type="dcterms:W3CDTF">2011-03-10T12:53:24Z</dcterms:modified>
  <cp:revision>20</cp:revision>
  <dc:subject/>
  <dc:title>Bases para la formulación de un Plan Estratégico</dc:title>
</cp:coreProperties>
</file>