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360" y="-14185800"/>
            <a:ext cx="360" cy="297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864-2AD9-4D2C-BCA9-8BB082AE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93236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C45-FDED-4EF1-B73E-2844959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7DB-DC82-49DF-BF54-15A4A0FF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20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084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20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084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D84-E4E5-4F75-BBFB-9C074203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231-EC07-4E6D-840A-CB85D9C0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741-D358-4917-A18F-C8BE3312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108-6D55-4409-A57F-53F065C1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39D-5978-4E83-991C-6569F727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600"/>
            <a:ext cx="819792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ABB-0B05-4E1A-9F3C-167EDBE6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F0A-3547-41FA-B067-576773B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08C-CA51-4825-94AB-2835EEC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B70-6227-41D4-B988-D497585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1979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16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3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02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F7830-44C5-471A-B089-7AD9C3EE21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6160" y="1143000"/>
            <a:ext cx="465444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94320" y="1600200"/>
            <a:ext cx="227808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7480" y="2868480"/>
            <a:ext cx="3290760" cy="26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o de átomos en una molé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57280" y="1600200"/>
            <a:ext cx="5859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54080"/>
            <a:ext cx="8686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Un objeto oscila con movimiento arm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a lo largo del eje X, de acuerdo a la ecu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0292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3429000"/>
            <a:ext cx="8686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de “t” está expresado en segundos y el 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radi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ermine amplitud, frecuencia y periodo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54080"/>
            <a:ext cx="8686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ndo esta ecu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02920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297180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tene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8288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257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73240" y="3857760"/>
            <a:ext cx="160020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057400" y="4572000"/>
            <a:ext cx="502920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06640" y="5715000"/>
            <a:ext cx="30369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una expresión para la veloc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a un tiempo “t” cual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0292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54380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57200" y="4800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una expresión para la veloc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a un tiempo “t” cual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9760" y="2286000"/>
            <a:ext cx="86756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647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828800" y="1143000"/>
            <a:ext cx="502920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78040" y="1143000"/>
            <a:ext cx="486576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59932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5400" y="4800600"/>
            <a:ext cx="7275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8006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154320" y="4114800"/>
            <a:ext cx="41608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057400" y="4343400"/>
            <a:ext cx="93348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257800" cy="1219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3440" y="11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81160" y="2467080"/>
            <a:ext cx="6591240" cy="1876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708660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14400" y="5029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la máxima velocidad y máx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para el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4114800" cy="114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97180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ando que la función seno se mueve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 valores -1 y +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71600" y="4800600"/>
            <a:ext cx="6629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la máxima velocidad y máx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para el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2004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ndo el mismo razonamiento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2578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63720" y="4390920"/>
            <a:ext cx="7265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89680" y="1192320"/>
            <a:ext cx="3139920" cy="1322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106960" y="27432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764240" y="4699080"/>
            <a:ext cx="3924000" cy="12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154080"/>
            <a:ext cx="8686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ando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 obtiene el mismo result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11480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38862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76240" y="3429000"/>
            <a:ext cx="232416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933720" y="3333600"/>
            <a:ext cx="2924280" cy="1009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14400" y="5486400"/>
            <a:ext cx="251460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343400" y="5486400"/>
            <a:ext cx="3048120" cy="914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" y="45720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los valores ya cono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154080"/>
            <a:ext cx="868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amortigu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14800" y="822240"/>
            <a:ext cx="4305240" cy="78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354480" y="1828800"/>
            <a:ext cx="3960720" cy="11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638440" y="3200400"/>
            <a:ext cx="604836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886200" y="5257800"/>
            <a:ext cx="3200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154080"/>
            <a:ext cx="868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amortigu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638440" y="1371600"/>
            <a:ext cx="604836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743200" y="2743200"/>
            <a:ext cx="61722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Forzado Amortig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7400" y="1014480"/>
            <a:ext cx="6858000" cy="104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1822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25146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litud de osci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560" y="9144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264168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85800" y="5408640"/>
            <a:ext cx="80010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560" y="9144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29200" y="264168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57800" y="3886200"/>
            <a:ext cx="297180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257800" y="5257800"/>
            <a:ext cx="2971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910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910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56120" y="2743200"/>
            <a:ext cx="41878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029200" y="4562640"/>
            <a:ext cx="388620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624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7920" y="914400"/>
            <a:ext cx="452412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3434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3434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ía en el Oscilador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040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715000" cy="116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3335400"/>
            <a:ext cx="7543800" cy="1236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743200" y="4978440"/>
            <a:ext cx="3429000" cy="16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ía en el Oscilador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343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343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61722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172200" y="1600200"/>
            <a:ext cx="297180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Electricidad</dc:title>
</cp:coreProperties>
</file>