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-360" y="-14185800"/>
            <a:ext cx="360" cy="297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616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F64-73A6-4A3E-B7E4-3EE8914C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79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932360"/>
            <a:ext cx="81979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04CF-0178-4660-A05C-D720E0B6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59984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93236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493236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277-3A85-4D0E-8AC3-F906FFC5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395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9200" y="1599840"/>
            <a:ext cx="26395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0840" y="1599840"/>
            <a:ext cx="26395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932360"/>
            <a:ext cx="26395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9200" y="4932360"/>
            <a:ext cx="26395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0840" y="4932360"/>
            <a:ext cx="26395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7B4-07CB-4644-982E-2E4B1D2EE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197920" cy="63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DD88-FB9C-4418-92AE-5E62E9C8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97920" cy="63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3F6-EE2A-4D04-9112-150FF2BE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0320" cy="63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599840"/>
            <a:ext cx="4000320" cy="63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C124-6E4D-4B20-A497-7DAE1CD8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67B-349D-494E-9004-ABDCE52E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47600"/>
            <a:ext cx="8197920" cy="64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1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1BA-47E7-4F2D-8984-F24416B2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599840"/>
            <a:ext cx="4000320" cy="63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93236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495-8D9F-46A3-A6ED-8960FAB7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0320" cy="63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59984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493236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A293-1CB5-44C7-BE35-FC2637C1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6880"/>
            <a:ext cx="819792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599840"/>
            <a:ext cx="40003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932360"/>
            <a:ext cx="819792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BBF-6D3F-469F-AC10-57A144FB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7600"/>
            <a:ext cx="819792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197920" cy="638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298440">
              <a:lnSpc>
                <a:spcPct val="1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98440" indent="-298440">
              <a:lnSpc>
                <a:spcPct val="1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98440" indent="-298440">
              <a:lnSpc>
                <a:spcPct val="1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98440" indent="-298440">
              <a:lnSpc>
                <a:spcPct val="1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98440" indent="-298440">
              <a:lnSpc>
                <a:spcPct val="1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98440" indent="-298440">
              <a:lnSpc>
                <a:spcPct val="1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0168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638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0204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C791F-E03A-49BB-9736-7BBD1D68A38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1.png"/><Relationship Id="rId4" Type="http://schemas.openxmlformats.org/officeDocument/2006/relationships/image" Target="../media/image30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0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15408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6160" y="1143000"/>
            <a:ext cx="4654440" cy="5486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494320" y="1600200"/>
            <a:ext cx="227808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97480" y="2868480"/>
            <a:ext cx="3290760" cy="26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154080"/>
            <a:ext cx="8686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o de átomos en una molé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57280" y="1600200"/>
            <a:ext cx="58593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154080"/>
            <a:ext cx="868680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 Un objeto oscila con movimiento armó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 a lo largo del eje X, de acuerdo a la ecu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029200" cy="1371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3429000"/>
            <a:ext cx="8686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de “t” está expresado en segundos y el áng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radi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termine amplitud, frecuencia y periodo 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154080"/>
            <a:ext cx="86868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ando esta ecu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029200" cy="685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8600" y="297180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tenem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8288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00200" y="2057400"/>
            <a:ext cx="525780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200400" y="3200400"/>
            <a:ext cx="251460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28600" y="396252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173240" y="3857760"/>
            <a:ext cx="1600200" cy="628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057400" y="4572000"/>
            <a:ext cx="5029200" cy="914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906640" y="5715000"/>
            <a:ext cx="303696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54080"/>
            <a:ext cx="86868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uentre una expresión para la velocidad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eleración a un tiempo “t” cualqui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5029200" cy="914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7543800" cy="1371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143000" y="4343400"/>
            <a:ext cx="6858000" cy="2057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57200" y="4800600"/>
            <a:ext cx="6858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8600" y="154080"/>
            <a:ext cx="86868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uentre una expresión para la velocidad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eleración a un tiempo “t” cualquie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39760" y="2286000"/>
            <a:ext cx="867564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43000" y="4267080"/>
            <a:ext cx="7647120" cy="190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143000" y="1371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828800" y="1143000"/>
            <a:ext cx="502920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6858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" y="154080"/>
            <a:ext cx="86868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uentre posición, velocidad y acel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  t=1[s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78040" y="1143000"/>
            <a:ext cx="4865760" cy="1371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8599320" cy="1371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25400" y="4800600"/>
            <a:ext cx="7275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154080"/>
            <a:ext cx="86868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uentre posición, velocidad y acel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  t=1[s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114800" y="685800"/>
            <a:ext cx="4800600" cy="114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429000" y="914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154320" y="4114800"/>
            <a:ext cx="416088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2057400" y="4343400"/>
            <a:ext cx="933480" cy="10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154080"/>
            <a:ext cx="86868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uentre posición, velocidad y acel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a  t=1[s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429000" y="838080"/>
            <a:ext cx="5257800" cy="1219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503440" y="1128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181160" y="2467080"/>
            <a:ext cx="6591240" cy="1876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828800" y="4800600"/>
            <a:ext cx="7086600" cy="1600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914400" y="5029200"/>
            <a:ext cx="6858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154080"/>
            <a:ext cx="86868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uentre la máxima velocidad y máx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eleración para el 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971800" y="1371600"/>
            <a:ext cx="4114800" cy="1143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" y="2971800"/>
            <a:ext cx="8686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iderando que la función seno se mueve 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s valores -1 y +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371600" y="4800600"/>
            <a:ext cx="66294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8600" y="154080"/>
            <a:ext cx="868680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uentre la máxima velocidad y máx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eleración para el 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20040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ando el mismo razonamiento anter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5257800" cy="1219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86000" y="1600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963720" y="4390920"/>
            <a:ext cx="7265880" cy="20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15408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343400" cy="5715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089680" y="1192320"/>
            <a:ext cx="3139920" cy="1322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106960" y="2743200"/>
            <a:ext cx="289404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764240" y="4699080"/>
            <a:ext cx="3924000" cy="124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154080"/>
            <a:ext cx="868680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rdando 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51460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 obtiene el mismo resultado us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114800" cy="1371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3886200" cy="1371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876240" y="3429000"/>
            <a:ext cx="2324160" cy="91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933720" y="3333600"/>
            <a:ext cx="2924280" cy="1009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914400" y="5486400"/>
            <a:ext cx="2514600" cy="914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4343400" y="5486400"/>
            <a:ext cx="3048120" cy="914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28600" y="457200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 los valores ya conoci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154080"/>
            <a:ext cx="8686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cilador amortigu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1828800" cy="5486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214800" y="822240"/>
            <a:ext cx="4305240" cy="781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354480" y="1828800"/>
            <a:ext cx="3960720" cy="1133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2638440" y="3200400"/>
            <a:ext cx="6048360" cy="1828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886200" y="5257800"/>
            <a:ext cx="3200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8600" y="154080"/>
            <a:ext cx="8686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cilador amortigu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1828800" cy="5486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638440" y="1371600"/>
            <a:ext cx="6048360" cy="1371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029200" y="228600"/>
            <a:ext cx="3200400" cy="914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2743200" y="2743200"/>
            <a:ext cx="617220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154080"/>
            <a:ext cx="8686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cilador Forzado Amortigu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7400" y="1014480"/>
            <a:ext cx="6858000" cy="1042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4114800" cy="18223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4572000" cy="48006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72000" y="25146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plitud de oscil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15408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343400" cy="3200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35560" y="914400"/>
            <a:ext cx="2894040" cy="1600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029200" y="2641680"/>
            <a:ext cx="3924360" cy="1244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85800" y="4114800"/>
            <a:ext cx="800100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685800" y="5408640"/>
            <a:ext cx="8001000" cy="12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15408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343400" cy="5715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335560" y="914400"/>
            <a:ext cx="2894040" cy="1600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029200" y="2641680"/>
            <a:ext cx="3924360" cy="1244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257800" y="3886200"/>
            <a:ext cx="2971800" cy="1371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5257800" y="5257800"/>
            <a:ext cx="29718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15408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343400" cy="5715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991040" y="1143000"/>
            <a:ext cx="3924360" cy="1244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0" y="2743200"/>
            <a:ext cx="43434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5408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343400" cy="5715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991040" y="1143000"/>
            <a:ext cx="3924360" cy="1244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956120" y="2743200"/>
            <a:ext cx="4187880" cy="1600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029200" y="4562640"/>
            <a:ext cx="388620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15408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vimiento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762440" y="1143000"/>
            <a:ext cx="3924360" cy="1244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77920" y="914400"/>
            <a:ext cx="4524120" cy="571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72000" y="2514600"/>
            <a:ext cx="4343400" cy="1828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3434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154080"/>
            <a:ext cx="8686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ergía en el Oscilador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5904000" cy="914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2057400"/>
            <a:ext cx="5715000" cy="1160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85800" y="3335400"/>
            <a:ext cx="7543800" cy="1236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743200" y="4978440"/>
            <a:ext cx="3429000" cy="165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54080"/>
            <a:ext cx="8686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ergía en el Oscilador Armónico Simple 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34340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343400" cy="91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0" y="1600200"/>
            <a:ext cx="617220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172200" y="1600200"/>
            <a:ext cx="2971800" cy="914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0" y="2743200"/>
            <a:ext cx="9144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Electricidad</dc:title>
</cp:coreProperties>
</file>