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-360" y="-14185800"/>
            <a:ext cx="360" cy="297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928-D434-4BF7-9B93-109E0FA1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79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932360"/>
            <a:ext cx="81979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969-284B-43A8-998D-8820F73C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328-2AF3-47E0-B26F-661BE2F9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200" y="159984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0840" y="159984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93236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200" y="493236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0840" y="493236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3EC-3663-4DFB-A34D-448BC04E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97920" cy="63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B94-8A7E-45E0-AA84-D164E85F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79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A1A-671F-4E09-A211-104E171C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CF7-4B2B-45E9-AC70-44D401D5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D3C7-D808-4CB2-88EF-0256C5AB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7600"/>
            <a:ext cx="819792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CFD-FC34-4C79-AE33-0362BECC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2DA-36FA-4DEF-90B6-63906CE6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982-2EA9-4647-9D8C-B18AE22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932360"/>
            <a:ext cx="81979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64D-ED60-4610-87FA-27EA819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1979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979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16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3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02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4E979-A307-4AB4-8F8F-E613636E87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6160" y="1143000"/>
            <a:ext cx="465444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94320" y="1600200"/>
            <a:ext cx="227808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97480" y="2868480"/>
            <a:ext cx="3290760" cy="26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o de átomos en una molé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57280" y="1600200"/>
            <a:ext cx="5859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54080"/>
            <a:ext cx="86868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 Un objeto oscila con movimiento arm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a lo largo del eje X, de acuerdo a la ecu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02920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3429000"/>
            <a:ext cx="8686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de “t” está expresado en segundos y el 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radi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ermine amplitud, frecuencia y periodo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54080"/>
            <a:ext cx="8686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ndo esta ecu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02920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297180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tene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8288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257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73240" y="3857760"/>
            <a:ext cx="1600200" cy="628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057400" y="4572000"/>
            <a:ext cx="5029200" cy="914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06640" y="5715000"/>
            <a:ext cx="30369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una expresión para la velocida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a un tiempo “t” cual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0292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54380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685800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57200" y="4800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una expresión para la velocida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a un tiempo “t” cual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9760" y="2286000"/>
            <a:ext cx="867564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647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828800" y="1143000"/>
            <a:ext cx="502920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posición, velocidad y acel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 t=1[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78040" y="1143000"/>
            <a:ext cx="486576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59932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25400" y="4800600"/>
            <a:ext cx="7275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posición, velocidad y acel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 t=1[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8006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154320" y="4114800"/>
            <a:ext cx="41608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057400" y="4343400"/>
            <a:ext cx="93348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posición, velocidad y acel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 t=1[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257800" cy="1219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3440" y="1128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81160" y="2467080"/>
            <a:ext cx="6591240" cy="1876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7086600" cy="1600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914400" y="5029200"/>
            <a:ext cx="685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la máxima velocidad y máx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para el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971800" y="1371600"/>
            <a:ext cx="4114800" cy="1143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97180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ando que la función seno se mueve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 valores -1 y +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371600" y="4800600"/>
            <a:ext cx="66294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la máxima velocidad y máx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para el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20040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ndo el mismo razonamiento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5257800" cy="121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63720" y="4390920"/>
            <a:ext cx="726588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89680" y="1192320"/>
            <a:ext cx="3139920" cy="1322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106960" y="2743200"/>
            <a:ext cx="289404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764240" y="4699080"/>
            <a:ext cx="3924000" cy="12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154080"/>
            <a:ext cx="8686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ando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 obtiene el mismo resultado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11480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388620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76240" y="3429000"/>
            <a:ext cx="232416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933720" y="3333600"/>
            <a:ext cx="2924280" cy="1009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14400" y="5486400"/>
            <a:ext cx="251460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343400" y="5486400"/>
            <a:ext cx="3048120" cy="914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" y="45720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 los valores ya conoc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154080"/>
            <a:ext cx="8686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ador amortigu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828800" cy="5486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14800" y="822240"/>
            <a:ext cx="4305240" cy="78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354480" y="1828800"/>
            <a:ext cx="3960720" cy="113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638440" y="3200400"/>
            <a:ext cx="604836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886200" y="5257800"/>
            <a:ext cx="3200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154080"/>
            <a:ext cx="8686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ador amortigu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82880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638440" y="1371600"/>
            <a:ext cx="604836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743200" y="2743200"/>
            <a:ext cx="61722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ador Forzado Amortig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7400" y="1014480"/>
            <a:ext cx="6858000" cy="104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114800" cy="1822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25146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litud de osci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560" y="914400"/>
            <a:ext cx="289404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264168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85800" y="5408640"/>
            <a:ext cx="800100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5560" y="914400"/>
            <a:ext cx="289404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29200" y="264168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57800" y="3886200"/>
            <a:ext cx="297180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257800" y="5257800"/>
            <a:ext cx="2971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91040" y="114300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91040" y="114300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956120" y="2743200"/>
            <a:ext cx="418788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029200" y="4562640"/>
            <a:ext cx="388620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62440" y="114300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7920" y="914400"/>
            <a:ext cx="452412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3434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3434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ía en el Oscilador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0400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715000" cy="1160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3335400"/>
            <a:ext cx="7543800" cy="1236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743200" y="4978440"/>
            <a:ext cx="3429000" cy="16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ía en el Oscilador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343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343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61722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172200" y="1600200"/>
            <a:ext cx="297180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Electricidad</dc:title>
</cp:coreProperties>
</file>