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10.png" ContentType="image/png"/>
  <Override PartName="/ppt/media/image5.wmf" ContentType="image/x-wmf"/>
  <Override PartName="/ppt/media/image7.jpeg" ContentType="image/jpeg"/>
  <Override PartName="/ppt/media/image11.png" ContentType="image/png"/>
  <Override PartName="/ppt/media/image6.wmf" ContentType="image/x-wmf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435FF-3186-4450-8CB4-9C38A7EA2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8960" y="1676160"/>
            <a:ext cx="7391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18960" y="4143960"/>
            <a:ext cx="7391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B4B74-BFEE-4B8C-ADAE-2F6A621DA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18960" y="1676160"/>
            <a:ext cx="360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06520" y="1676160"/>
            <a:ext cx="360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18960" y="4143960"/>
            <a:ext cx="360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06520" y="4143960"/>
            <a:ext cx="360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D2BA7-3B25-4715-8FFA-404E74431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18960" y="1676160"/>
            <a:ext cx="237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18080" y="1676160"/>
            <a:ext cx="237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16840" y="1676160"/>
            <a:ext cx="237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18960" y="4143960"/>
            <a:ext cx="237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18080" y="4143960"/>
            <a:ext cx="237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16840" y="4143960"/>
            <a:ext cx="237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CC675-1FAB-42F9-8AD2-62274C499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B2ED8-4251-4FE4-A93B-379322012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218960" y="1676160"/>
            <a:ext cx="7391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EE1BA-E348-4B04-B7B1-555588D0A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18960" y="1676160"/>
            <a:ext cx="7391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B5C78-2F96-4396-B67E-F5727595B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18960" y="1676160"/>
            <a:ext cx="36068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06520" y="1676160"/>
            <a:ext cx="36068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58EB5-D889-4F69-A028-05526CC34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075B9-AD00-4C0F-94CB-1850084E4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218960" y="152280"/>
            <a:ext cx="739116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0C95A-CD72-4C02-AD35-5289907F9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18960" y="1676160"/>
            <a:ext cx="360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06520" y="1676160"/>
            <a:ext cx="36068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218960" y="4143960"/>
            <a:ext cx="360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97085-AE8A-4D45-8E18-E51681CF8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18960" y="1676160"/>
            <a:ext cx="7391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7B4C1-EB52-49B9-B8C0-CB0C91856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18960" y="1676160"/>
            <a:ext cx="36068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06520" y="1676160"/>
            <a:ext cx="360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06520" y="4143960"/>
            <a:ext cx="360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1B32E-21F7-4F3C-A331-F5EFF275B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8960" y="1676160"/>
            <a:ext cx="360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06520" y="1676160"/>
            <a:ext cx="360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8960" y="4143960"/>
            <a:ext cx="7391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F287B-018E-4598-89CA-C492A5B51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8960" y="1676160"/>
            <a:ext cx="7391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218960" y="4143960"/>
            <a:ext cx="7391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F779D-CB49-42DF-9AF6-A47EFA8EB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18960" y="1676160"/>
            <a:ext cx="360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06520" y="1676160"/>
            <a:ext cx="360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218960" y="4143960"/>
            <a:ext cx="360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06520" y="4143960"/>
            <a:ext cx="360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EA8E7-577B-45F6-ABED-50EE6491C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8960" y="1676160"/>
            <a:ext cx="237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18080" y="1676160"/>
            <a:ext cx="237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6840" y="1676160"/>
            <a:ext cx="237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218960" y="4143960"/>
            <a:ext cx="237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718080" y="4143960"/>
            <a:ext cx="237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6840" y="4143960"/>
            <a:ext cx="237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6CE01-6A2F-4551-B69C-364411C67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18960" y="1676160"/>
            <a:ext cx="7391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E7F3E-5E21-4F69-8A77-118AE84C1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18960" y="1676160"/>
            <a:ext cx="36068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06520" y="1676160"/>
            <a:ext cx="36068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B3486-7439-400D-AEBC-7F49D7C89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61258-5FB2-48FB-B105-43DE5AB58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18960" y="152280"/>
            <a:ext cx="739116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00E4D-EB55-42CE-8D79-E311A2B45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18960" y="1676160"/>
            <a:ext cx="360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06520" y="1676160"/>
            <a:ext cx="36068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18960" y="4143960"/>
            <a:ext cx="360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FDDD0-93B0-4569-99CC-BD3007FEC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8960" y="1676160"/>
            <a:ext cx="36068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06520" y="1676160"/>
            <a:ext cx="360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06520" y="4143960"/>
            <a:ext cx="360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181A5-4D83-492C-BD45-3B6A3AD5F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8960" y="1676160"/>
            <a:ext cx="360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06520" y="1676160"/>
            <a:ext cx="360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18960" y="4143960"/>
            <a:ext cx="7391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AB621-1A17-4134-B708-D653070CA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18960" y="1676160"/>
            <a:ext cx="7391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lvl="3" marL="1562040" indent="-228600">
              <a:spcBef>
                <a:spcPts val="7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lvl="4" marL="1981080" indent="-228600">
              <a:spcBef>
                <a:spcPts val="7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lvl="5" marL="1981080" indent="-22860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lvl="6" marL="1981080" indent="-22860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0E637-E4E7-46E1-A18A-02454ED6D5FC}" type="slidenum">
              <a:rPr b="0" lang="es-E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218960" y="1676160"/>
            <a:ext cx="7391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lvl="3" marL="1562040" indent="-228600">
              <a:spcBef>
                <a:spcPts val="7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lvl="4" marL="1981080" indent="-228600">
              <a:spcBef>
                <a:spcPts val="7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lvl="5" marL="1981080" indent="-22860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lvl="6" marL="1981080" indent="-22860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3366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215D0-0FD8-4D11-86ED-4F9E0BB2098D}" type="slidenum">
              <a:rPr b="0" lang="es-ES" sz="1400" spc="-1" strike="noStrike">
                <a:solidFill>
                  <a:srgbClr val="003366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76160" y="2895480"/>
            <a:ext cx="739116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66"/>
                </a:solidFill>
                <a:latin typeface="Tahoma"/>
              </a:rPr>
              <a:t>AISLAMIENTOS, USO DE DELANTAL, MASCARILLA Y LAVADO DE MANO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1240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d556f"/>
                </a:solidFill>
                <a:latin typeface="Tahoma"/>
              </a:rPr>
              <a:t>MIRELLA SANHUEZA H.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d556f"/>
                </a:solidFill>
                <a:latin typeface="Tahoma"/>
              </a:rPr>
              <a:t>ENFERMERA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4" descr="ENS2100_Manipulacion_Guantes_Esteriles[1]"/>
          <p:cNvPicPr/>
          <p:nvPr/>
        </p:nvPicPr>
        <p:blipFill>
          <a:blip r:embed="rId1"/>
          <a:stretch/>
        </p:blipFill>
        <p:spPr>
          <a:xfrm>
            <a:off x="5508720" y="1628640"/>
            <a:ext cx="2638440" cy="19796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18" name="Picture 5" descr="ENS2100_Manipulacion_Guantes_Esteriles[0"/>
          <p:cNvPicPr/>
          <p:nvPr/>
        </p:nvPicPr>
        <p:blipFill>
          <a:blip r:embed="rId2"/>
          <a:stretch/>
        </p:blipFill>
        <p:spPr>
          <a:xfrm>
            <a:off x="684360" y="1628640"/>
            <a:ext cx="2950920" cy="20401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19" name="Picture 6" descr="ENS2100_Manipulacion_Guantes_Esteriles[2"/>
          <p:cNvPicPr/>
          <p:nvPr/>
        </p:nvPicPr>
        <p:blipFill>
          <a:blip r:embed="rId3"/>
          <a:stretch/>
        </p:blipFill>
        <p:spPr>
          <a:xfrm>
            <a:off x="755640" y="4005360"/>
            <a:ext cx="2808360" cy="22842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20" name="Picture 7" descr="ENS2100_Manipulacion_Guantes_Esteriles[3"/>
          <p:cNvPicPr/>
          <p:nvPr/>
        </p:nvPicPr>
        <p:blipFill>
          <a:blip r:embed="rId4"/>
          <a:stretch/>
        </p:blipFill>
        <p:spPr>
          <a:xfrm>
            <a:off x="5508720" y="4076640"/>
            <a:ext cx="2665440" cy="21589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6" descr="ENS2100_Manipulacion_Guantes_Esteriles[4"/>
          <p:cNvPicPr/>
          <p:nvPr/>
        </p:nvPicPr>
        <p:blipFill>
          <a:blip r:embed="rId1"/>
          <a:stretch/>
        </p:blipFill>
        <p:spPr>
          <a:xfrm>
            <a:off x="900000" y="1341360"/>
            <a:ext cx="2521080" cy="18925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22" name="Picture 7" descr="ENS2100_Manipulacion_Guantes_Esteriles[5"/>
          <p:cNvPicPr/>
          <p:nvPr/>
        </p:nvPicPr>
        <p:blipFill>
          <a:blip r:embed="rId2"/>
          <a:stretch/>
        </p:blipFill>
        <p:spPr>
          <a:xfrm>
            <a:off x="5292720" y="1341360"/>
            <a:ext cx="2664000" cy="19987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23" name="Picture 8" descr="ENS2100_Manipulacion_Guantes_Esteriles[6"/>
          <p:cNvPicPr/>
          <p:nvPr/>
        </p:nvPicPr>
        <p:blipFill>
          <a:blip r:embed="rId3"/>
          <a:stretch/>
        </p:blipFill>
        <p:spPr>
          <a:xfrm>
            <a:off x="826920" y="3789360"/>
            <a:ext cx="2664000" cy="19969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24" name="Picture 9" descr="ENS2100_Manipulacion_Guantes_Esteriles[7"/>
          <p:cNvPicPr/>
          <p:nvPr/>
        </p:nvPicPr>
        <p:blipFill>
          <a:blip r:embed="rId4"/>
          <a:stretch/>
        </p:blipFill>
        <p:spPr>
          <a:xfrm>
            <a:off x="5292720" y="3860640"/>
            <a:ext cx="2665440" cy="20005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4" descr="ENS2100_Manipulacion_Guantes_Esteriles[8"/>
          <p:cNvPicPr/>
          <p:nvPr/>
        </p:nvPicPr>
        <p:blipFill>
          <a:blip r:embed="rId1"/>
          <a:stretch/>
        </p:blipFill>
        <p:spPr>
          <a:xfrm>
            <a:off x="2771640" y="1700280"/>
            <a:ext cx="3765600" cy="43210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676160" y="2895480"/>
            <a:ext cx="739116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Tahoma"/>
              </a:rPr>
              <a:t>Fin 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676160" y="3733560"/>
            <a:ext cx="7391160" cy="74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32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Tahoma"/>
              </a:rPr>
              <a:t>AISLAMIENTO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218960" y="1676160"/>
            <a:ext cx="73911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66"/>
                </a:solidFill>
                <a:latin typeface="Tahoma"/>
              </a:rPr>
              <a:t>Definición: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66"/>
                </a:solidFill>
                <a:latin typeface="Tahoma"/>
              </a:rPr>
              <a:t>Conjunto de procedimientos que 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66"/>
                </a:solidFill>
                <a:latin typeface="Tahoma"/>
              </a:rPr>
              <a:t>permite la separación de pacientes infectados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66"/>
                </a:solidFill>
                <a:latin typeface="Tahoma"/>
              </a:rPr>
              <a:t>de los huéspedes susceptibles, durante el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66"/>
                </a:solidFill>
                <a:latin typeface="Tahoma"/>
              </a:rPr>
              <a:t>período de transmisibilidad de la enfermedad,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66"/>
                </a:solidFill>
                <a:latin typeface="Tahoma"/>
              </a:rPr>
              <a:t>en lugares y condiciones tales que permitan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66"/>
                </a:solidFill>
                <a:latin typeface="Tahoma"/>
              </a:rPr>
              <a:t>cortar la cadena de transmisión de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66"/>
                </a:solidFill>
                <a:latin typeface="Tahoma"/>
              </a:rPr>
              <a:t>infecciones de acuerdo a la vía de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66"/>
                </a:solidFill>
                <a:latin typeface="Tahoma"/>
              </a:rPr>
              <a:t>transmisión de los patógenos involucrados 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Tahoma"/>
              </a:rPr>
              <a:t>Aislamiento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18960" y="1676160"/>
            <a:ext cx="73911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3366"/>
                </a:solidFill>
                <a:uFillTx/>
                <a:latin typeface="Tahoma"/>
              </a:rPr>
              <a:t>Objetivo: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003366"/>
                </a:solidFill>
                <a:latin typeface="Tahoma"/>
              </a:rPr>
              <a:t>Interrumpir la cadena de transmisión de una enfermedad infecciosa, a fin de prevenir el contagio entre pacientes y entre pacientes y personal hospitalario.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ahoma"/>
              </a:rPr>
              <a:t>Cadena de transmis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Oval 4"/>
          <p:cNvSpPr/>
          <p:nvPr/>
        </p:nvSpPr>
        <p:spPr>
          <a:xfrm>
            <a:off x="324000" y="3500280"/>
            <a:ext cx="1512720" cy="576360"/>
          </a:xfrm>
          <a:prstGeom prst="ellipse">
            <a:avLst/>
          </a:prstGeom>
          <a:solidFill>
            <a:srgbClr val="8eb3c8"/>
          </a:solidFill>
          <a:ln cap="sq"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0" name="Oval 5"/>
          <p:cNvSpPr/>
          <p:nvPr/>
        </p:nvSpPr>
        <p:spPr>
          <a:xfrm>
            <a:off x="4608000" y="5286240"/>
            <a:ext cx="3253320" cy="649800"/>
          </a:xfrm>
          <a:prstGeom prst="ellipse">
            <a:avLst/>
          </a:prstGeom>
          <a:solidFill>
            <a:srgbClr val="8eb3c8"/>
          </a:solidFill>
          <a:ln cap="sq"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Times New Roman"/>
              </a:rPr>
              <a:t>Puerta de entrada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1" name="Oval 6"/>
          <p:cNvSpPr/>
          <p:nvPr/>
        </p:nvSpPr>
        <p:spPr>
          <a:xfrm>
            <a:off x="4029120" y="3558960"/>
            <a:ext cx="4910400" cy="649800"/>
          </a:xfrm>
          <a:prstGeom prst="ellipse">
            <a:avLst/>
          </a:prstGeom>
          <a:solidFill>
            <a:srgbClr val="8eb3c8"/>
          </a:solidFill>
          <a:ln cap="sq"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Times New Roman"/>
              </a:rPr>
              <a:t>Mecanismo de transmisión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2" name="Oval 7"/>
          <p:cNvSpPr/>
          <p:nvPr/>
        </p:nvSpPr>
        <p:spPr>
          <a:xfrm>
            <a:off x="5834160" y="2119320"/>
            <a:ext cx="1382400" cy="649800"/>
          </a:xfrm>
          <a:prstGeom prst="ellipse">
            <a:avLst/>
          </a:prstGeom>
          <a:solidFill>
            <a:srgbClr val="8eb3c8"/>
          </a:solidFill>
          <a:ln cap="sq"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Times New Roman"/>
              </a:rPr>
              <a:t>agent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Oval 8"/>
          <p:cNvSpPr/>
          <p:nvPr/>
        </p:nvSpPr>
        <p:spPr>
          <a:xfrm>
            <a:off x="1800000" y="2119320"/>
            <a:ext cx="2990160" cy="649800"/>
          </a:xfrm>
          <a:prstGeom prst="ellipse">
            <a:avLst/>
          </a:prstGeom>
          <a:solidFill>
            <a:srgbClr val="8eb3c8"/>
          </a:solidFill>
          <a:ln cap="sq"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Times New Roman"/>
              </a:rPr>
              <a:t>Puerta de salida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4" name="Text Box 10"/>
          <p:cNvSpPr/>
          <p:nvPr/>
        </p:nvSpPr>
        <p:spPr>
          <a:xfrm>
            <a:off x="322560" y="3499200"/>
            <a:ext cx="152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Times New Roman"/>
              </a:rPr>
              <a:t>Reservorio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Oval 16"/>
          <p:cNvSpPr/>
          <p:nvPr/>
        </p:nvSpPr>
        <p:spPr>
          <a:xfrm>
            <a:off x="579240" y="4784400"/>
            <a:ext cx="2907720" cy="520200"/>
          </a:xfrm>
          <a:prstGeom prst="ellipse">
            <a:avLst/>
          </a:prstGeom>
          <a:solidFill>
            <a:srgbClr val="8eb3c8"/>
          </a:solidFill>
          <a:ln cap="sq"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3366"/>
                </a:solidFill>
                <a:latin typeface="Times New Roman"/>
              </a:rPr>
              <a:t>Huésped susceptible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6" name="AutoShape 17"/>
          <p:cNvSpPr/>
          <p:nvPr/>
        </p:nvSpPr>
        <p:spPr>
          <a:xfrm rot="17736000">
            <a:off x="874440" y="2588760"/>
            <a:ext cx="963720" cy="627120"/>
          </a:xfrm>
          <a:custGeom>
            <a:avLst/>
            <a:gdLst>
              <a:gd name="textAreaLeft" fmla="*/ 168480 w 963720"/>
              <a:gd name="textAreaRight" fmla="*/ 698760 w 963720"/>
              <a:gd name="textAreaTop" fmla="*/ 83880 h 627120"/>
              <a:gd name="textAreaBottom" fmla="*/ 543240 h 627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8eb3c8"/>
          </a:solidFill>
          <a:ln cap="sq"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AutoShape 19"/>
          <p:cNvSpPr/>
          <p:nvPr/>
        </p:nvSpPr>
        <p:spPr>
          <a:xfrm rot="5741400">
            <a:off x="7092720" y="4508280"/>
            <a:ext cx="1079640" cy="648000"/>
          </a:xfrm>
          <a:custGeom>
            <a:avLst/>
            <a:gdLst>
              <a:gd name="textAreaLeft" fmla="*/ 189000 w 1079640"/>
              <a:gd name="textAreaRight" fmla="*/ 783000 w 1079640"/>
              <a:gd name="textAreaTop" fmla="*/ 86760 h 648000"/>
              <a:gd name="textAreaBottom" fmla="*/ 561240 h 648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170208"/>
                <a:lnTo>
                  <a:pt x="20859" y="12273"/>
                </a:lnTo>
                <a:lnTo>
                  <a:pt x="17280" y="21600"/>
                </a:lnTo>
                <a:lnTo>
                  <a:pt x="12219" y="12273"/>
                </a:lnTo>
                <a:lnTo>
                  <a:pt x="14379" y="12273"/>
                </a:lnTo>
                <a:arcTo wR="7560" hR="21600" stAng="-3229792" swAng="-181277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8eb3c8"/>
          </a:solidFill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8" name="AutoShape 20"/>
          <p:cNvSpPr/>
          <p:nvPr/>
        </p:nvSpPr>
        <p:spPr>
          <a:xfrm rot="4131600">
            <a:off x="7288560" y="2423160"/>
            <a:ext cx="1079280" cy="934920"/>
          </a:xfrm>
          <a:custGeom>
            <a:avLst/>
            <a:gdLst>
              <a:gd name="textAreaLeft" fmla="*/ 188640 w 1079280"/>
              <a:gd name="textAreaRight" fmla="*/ 782640 w 1079280"/>
              <a:gd name="textAreaTop" fmla="*/ 125280 h 934920"/>
              <a:gd name="textAreaBottom" fmla="*/ 809640 h 934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8eb3c8"/>
          </a:solidFill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9" name="AutoShape 21"/>
          <p:cNvSpPr/>
          <p:nvPr/>
        </p:nvSpPr>
        <p:spPr>
          <a:xfrm>
            <a:off x="4859280" y="2060640"/>
            <a:ext cx="1008000" cy="288720"/>
          </a:xfrm>
          <a:custGeom>
            <a:avLst/>
            <a:gdLst>
              <a:gd name="textAreaLeft" fmla="*/ 176400 w 1008000"/>
              <a:gd name="textAreaRight" fmla="*/ 730800 w 1008000"/>
              <a:gd name="textAreaTop" fmla="*/ 38520 h 288720"/>
              <a:gd name="textAreaBottom" fmla="*/ 250200 h 288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8eb3c8"/>
          </a:solidFill>
          <a:ln cap="sq"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0" name="AutoShape 22"/>
          <p:cNvSpPr/>
          <p:nvPr/>
        </p:nvSpPr>
        <p:spPr>
          <a:xfrm rot="11937600">
            <a:off x="3228480" y="5375160"/>
            <a:ext cx="1224000" cy="433440"/>
          </a:xfrm>
          <a:custGeom>
            <a:avLst/>
            <a:gdLst>
              <a:gd name="textAreaLeft" fmla="*/ 214200 w 1224000"/>
              <a:gd name="textAreaRight" fmla="*/ 887400 w 1224000"/>
              <a:gd name="textAreaTop" fmla="*/ 57960 h 433440"/>
              <a:gd name="textAreaBottom" fmla="*/ 375480 h 4334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749571"/>
                <a:lnTo>
                  <a:pt x="21197" y="14646"/>
                </a:lnTo>
                <a:lnTo>
                  <a:pt x="17280" y="21600"/>
                </a:lnTo>
                <a:lnTo>
                  <a:pt x="12557" y="14646"/>
                </a:lnTo>
                <a:lnTo>
                  <a:pt x="14717" y="14646"/>
                </a:lnTo>
                <a:arcTo wR="7560" hR="21600" stAng="-2650429" swAng="-2392136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8eb3c8"/>
          </a:solidFill>
          <a:ln cap="sq"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ahoma"/>
              </a:rPr>
              <a:t>Mecanismos de transmis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19320" y="1676160"/>
            <a:ext cx="3619440" cy="472428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3366"/>
                </a:solidFill>
                <a:uFillTx/>
                <a:latin typeface="Tahoma"/>
              </a:rPr>
              <a:t>Directo</a:t>
            </a:r>
            <a:r>
              <a:rPr b="0" lang="es-ES_tradnl" sz="2400" spc="-1" strike="noStrike">
                <a:solidFill>
                  <a:srgbClr val="003366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Tahoma"/>
              </a:rPr>
              <a:t>-si la superficie corporal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Tahoma"/>
              </a:rPr>
              <a:t>infectada o colonizada se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Tahoma"/>
              </a:rPr>
              <a:t>pone en contacto con la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Tahoma"/>
              </a:rPr>
              <a:t>superficie del huésped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Tahoma"/>
              </a:rPr>
              <a:t>susceptible.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991040" y="1676160"/>
            <a:ext cx="3619440" cy="472428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3366"/>
                </a:solidFill>
                <a:uFillTx/>
                <a:latin typeface="Tahoma"/>
              </a:rPr>
              <a:t>Indirecto</a:t>
            </a:r>
            <a:r>
              <a:rPr b="0" lang="es-ES_tradnl" sz="2400" spc="-1" strike="noStrike">
                <a:solidFill>
                  <a:srgbClr val="003366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Tahoma"/>
              </a:rPr>
              <a:t>-si la transferencia de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Tahoma"/>
              </a:rPr>
              <a:t>microorganismo ocurre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Tahoma"/>
              </a:rPr>
              <a:t>cuando el huésped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Tahoma"/>
              </a:rPr>
              <a:t>susceptible entra en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Tahoma"/>
              </a:rPr>
              <a:t>contacto con un objeto,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Tahoma"/>
              </a:rPr>
              <a:t>generalmente inanimado,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Tahoma"/>
              </a:rPr>
              <a:t>contaminado. 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Tahoma"/>
              </a:rPr>
              <a:t>(vectores, vía aérea)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ahoma"/>
              </a:rPr>
              <a:t>Componentes fundamentales de aislamient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9320" y="1676160"/>
            <a:ext cx="36194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Tahoma"/>
              </a:rPr>
              <a:t>Lavado de manos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Tahoma"/>
              </a:rPr>
              <a:t>Mascarillas 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991040" y="1676160"/>
            <a:ext cx="36194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Tahoma"/>
              </a:rPr>
              <a:t>Uso de guantes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Tahoma"/>
              </a:rPr>
              <a:t>Delantal 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</p:txBody>
      </p:sp>
      <p:pic>
        <p:nvPicPr>
          <p:cNvPr id="107" name="Picture 8" descr="MCj02909460000[1]"/>
          <p:cNvPicPr/>
          <p:nvPr/>
        </p:nvPicPr>
        <p:blipFill>
          <a:blip r:embed="rId1"/>
          <a:stretch/>
        </p:blipFill>
        <p:spPr>
          <a:xfrm>
            <a:off x="5580000" y="2565360"/>
            <a:ext cx="2160720" cy="10065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3" descr="MCj02810630000[1]"/>
          <p:cNvPicPr/>
          <p:nvPr/>
        </p:nvPicPr>
        <p:blipFill>
          <a:blip r:embed="rId2"/>
          <a:stretch/>
        </p:blipFill>
        <p:spPr>
          <a:xfrm>
            <a:off x="1619280" y="4724280"/>
            <a:ext cx="2160720" cy="15210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4" descr="MCBD20109_0000[1]"/>
          <p:cNvPicPr/>
          <p:nvPr/>
        </p:nvPicPr>
        <p:blipFill>
          <a:blip r:embed="rId3"/>
          <a:stretch/>
        </p:blipFill>
        <p:spPr>
          <a:xfrm>
            <a:off x="5651640" y="4508640"/>
            <a:ext cx="1485720" cy="17539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5" descr="MCIN00388_0000[1]"/>
          <p:cNvPicPr/>
          <p:nvPr/>
        </p:nvPicPr>
        <p:blipFill>
          <a:blip r:embed="rId4"/>
          <a:stretch/>
        </p:blipFill>
        <p:spPr>
          <a:xfrm>
            <a:off x="1835280" y="2276640"/>
            <a:ext cx="1812960" cy="13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Tipos de aislamient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8960" y="1676160"/>
            <a:ext cx="73911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Tahoma"/>
              </a:rPr>
              <a:t>PRECAUCIONES ESTANDAR.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Tahoma"/>
              </a:rPr>
              <a:t>AISLAMIENTO POR VÍA AEREA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Tahoma"/>
              </a:rPr>
              <a:t>AISLAMIENTO POR GOTITAS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Tahoma"/>
              </a:rPr>
              <a:t>AISLAMIENTO DE CONTACTO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Tahoma"/>
              </a:rPr>
              <a:t>AISLAMIENTO EN COHORTE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MEDIDAS DE AISLAMIENTO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8960" y="1676160"/>
            <a:ext cx="73911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-591120">
              <a:lnSpc>
                <a:spcPct val="80000"/>
              </a:lnSpc>
              <a:spcBef>
                <a:spcPts val="601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Tahoma"/>
              </a:rPr>
              <a:t>Lavado clínico de manos 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591120" indent="-591120">
              <a:lnSpc>
                <a:spcPct val="80000"/>
              </a:lnSpc>
              <a:spcBef>
                <a:spcPts val="601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Tahoma"/>
              </a:rPr>
              <a:t>Uso de guantes de látex.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591120" indent="-591120">
              <a:lnSpc>
                <a:spcPct val="80000"/>
              </a:lnSpc>
              <a:spcBef>
                <a:spcPts val="601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Tahoma"/>
              </a:rPr>
              <a:t>Lugar de aislamiento (sala común o habitación individual)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591120" indent="-591120">
              <a:lnSpc>
                <a:spcPct val="80000"/>
              </a:lnSpc>
              <a:spcBef>
                <a:spcPts val="601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Tahoma"/>
              </a:rPr>
              <a:t>Transporte de pacientes.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591120" indent="-591120">
              <a:lnSpc>
                <a:spcPct val="80000"/>
              </a:lnSpc>
              <a:spcBef>
                <a:spcPts val="601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Tahoma"/>
              </a:rPr>
              <a:t>Mascarillas, protección respiratoria y ocular, lentes protectores.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591120" indent="-591120">
              <a:lnSpc>
                <a:spcPct val="80000"/>
              </a:lnSpc>
              <a:spcBef>
                <a:spcPts val="601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Tahoma"/>
              </a:rPr>
              <a:t>Delantal y otros elementos de protección.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591120" indent="-591120">
              <a:lnSpc>
                <a:spcPct val="80000"/>
              </a:lnSpc>
              <a:spcBef>
                <a:spcPts val="601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Tahoma"/>
              </a:rPr>
              <a:t>Equipos e insumos.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591120" indent="-591120">
              <a:lnSpc>
                <a:spcPct val="80000"/>
              </a:lnSpc>
              <a:spcBef>
                <a:spcPts val="601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Tahoma"/>
              </a:rPr>
              <a:t>Ropa del paciente.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591120" indent="-591120">
              <a:lnSpc>
                <a:spcPct val="80000"/>
              </a:lnSpc>
              <a:spcBef>
                <a:spcPts val="601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Tahoma"/>
              </a:rPr>
              <a:t>Artículos para alimentación.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591120" indent="-591120">
              <a:lnSpc>
                <a:spcPct val="80000"/>
              </a:lnSpc>
              <a:spcBef>
                <a:spcPts val="601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Tahoma"/>
              </a:rPr>
              <a:t>Limpieza concurrente (durante la hospitalización) y terminal (al alta del paciente).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Tahoma"/>
              </a:rPr>
              <a:t>Colocación de guant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6" name="Picture 8" descr="mascar2"/>
          <p:cNvPicPr/>
          <p:nvPr/>
        </p:nvPicPr>
        <p:blipFill>
          <a:blip r:embed="rId1"/>
          <a:stretch/>
        </p:blipFill>
        <p:spPr>
          <a:xfrm>
            <a:off x="2666880" y="1523880"/>
            <a:ext cx="3810240" cy="38102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5T20:21:14Z</dcterms:created>
  <dc:creator>Bj</dc:creator>
  <dc:description/>
  <dc:language>en-US</dc:language>
  <cp:lastModifiedBy>Pablo</cp:lastModifiedBy>
  <dcterms:modified xsi:type="dcterms:W3CDTF">2011-11-16T11:23:29Z</dcterms:modified>
  <cp:revision>13</cp:revision>
  <dc:subject/>
  <dc:title>AISLAMIENTOS, USO DE DELANTAL, MASCARILLA Y LAVADO DE MANOS</dc:title>
</cp:coreProperties>
</file>