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577F-436F-4DE6-B246-18BA93FE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7F4-9994-4008-888B-16191000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F2D-1CB5-43B2-894C-6CF4A598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391-13BB-4DE1-B890-011E9F2D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3E34-5BAB-472B-AC47-88039153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FAC0-1CBB-41A3-9AFE-C71898B8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655E-4829-4596-9C9D-1A1F376D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7053-1242-4C70-9C61-55D24D66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648A-6371-49EF-AF09-7810329B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3676-AE67-4185-AA53-13672E1E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AD43-696F-464A-BF6E-E93CACCB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B02-386E-40B7-B1BD-864A96AD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B39B-D0C0-4575-95AB-9A6C20C1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3560-14DD-4871-A8C2-0D972E32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FDD9-33DD-47CC-A756-5C83EB7A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E1F9-11E8-4E93-840C-656791C0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0B15-954C-492E-A5BC-E1D7A558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3CB-1C28-4632-AAAA-39DE4CA8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2A8-F13E-475D-AD4C-82B1475F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EEC6-B4E8-48D8-A722-1770C594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AE8-FEC4-467A-8F0D-3138FF57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A0F-0720-4756-AE59-8399E4EC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A28-5A11-473D-AB6F-C6082F83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DA3-C277-4B15-B70F-3CE657B8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9A91-FE64-4E50-800E-3F4477E4D39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09D6-56E6-4CFA-A379-20CA7D129DDC}" type="slidenum">
              <a:rPr b="0" lang="es-ES" sz="14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Tahoma"/>
              </a:rPr>
              <a:t>AISLAMIENTOS, USO DE DELANTAL, MASCARILLA Y LAVADO DE MAN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24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d556f"/>
                </a:solidFill>
                <a:latin typeface="Tahoma"/>
              </a:rPr>
              <a:t>MIRELLA SANHUEZA H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d556f"/>
                </a:solidFill>
                <a:latin typeface="Tahoma"/>
              </a:rPr>
              <a:t>ENFERMER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ENS2100_Manipulacion_Guantes_Esteriles[1]"/>
          <p:cNvPicPr/>
          <p:nvPr/>
        </p:nvPicPr>
        <p:blipFill>
          <a:blip r:embed="rId1"/>
          <a:stretch/>
        </p:blipFill>
        <p:spPr>
          <a:xfrm>
            <a:off x="5508720" y="1628640"/>
            <a:ext cx="2638440" cy="1979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8" name="Picture 5" descr="ENS2100_Manipulacion_Guantes_Esteriles[0"/>
          <p:cNvPicPr/>
          <p:nvPr/>
        </p:nvPicPr>
        <p:blipFill>
          <a:blip r:embed="rId2"/>
          <a:stretch/>
        </p:blipFill>
        <p:spPr>
          <a:xfrm>
            <a:off x="684360" y="1628640"/>
            <a:ext cx="2950920" cy="204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9" name="Picture 6" descr="ENS2100_Manipulacion_Guantes_Esteriles[2"/>
          <p:cNvPicPr/>
          <p:nvPr/>
        </p:nvPicPr>
        <p:blipFill>
          <a:blip r:embed="rId3"/>
          <a:stretch/>
        </p:blipFill>
        <p:spPr>
          <a:xfrm>
            <a:off x="755640" y="4005360"/>
            <a:ext cx="2808360" cy="2284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0" name="Picture 7" descr="ENS2100_Manipulacion_Guantes_Esteriles[3"/>
          <p:cNvPicPr/>
          <p:nvPr/>
        </p:nvPicPr>
        <p:blipFill>
          <a:blip r:embed="rId4"/>
          <a:stretch/>
        </p:blipFill>
        <p:spPr>
          <a:xfrm>
            <a:off x="5508720" y="4076640"/>
            <a:ext cx="2665440" cy="215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ENS2100_Manipulacion_Guantes_Esteriles[4"/>
          <p:cNvPicPr/>
          <p:nvPr/>
        </p:nvPicPr>
        <p:blipFill>
          <a:blip r:embed="rId1"/>
          <a:stretch/>
        </p:blipFill>
        <p:spPr>
          <a:xfrm>
            <a:off x="900000" y="1341360"/>
            <a:ext cx="2521080" cy="189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2" name="Picture 7" descr="ENS2100_Manipulacion_Guantes_Esteriles[5"/>
          <p:cNvPicPr/>
          <p:nvPr/>
        </p:nvPicPr>
        <p:blipFill>
          <a:blip r:embed="rId2"/>
          <a:stretch/>
        </p:blipFill>
        <p:spPr>
          <a:xfrm>
            <a:off x="5292720" y="1341360"/>
            <a:ext cx="2664000" cy="199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3" name="Picture 8" descr="ENS2100_Manipulacion_Guantes_Esteriles[6"/>
          <p:cNvPicPr/>
          <p:nvPr/>
        </p:nvPicPr>
        <p:blipFill>
          <a:blip r:embed="rId3"/>
          <a:stretch/>
        </p:blipFill>
        <p:spPr>
          <a:xfrm>
            <a:off x="826920" y="3789360"/>
            <a:ext cx="2664000" cy="199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4" name="Picture 9" descr="ENS2100_Manipulacion_Guantes_Esteriles[7"/>
          <p:cNvPicPr/>
          <p:nvPr/>
        </p:nvPicPr>
        <p:blipFill>
          <a:blip r:embed="rId4"/>
          <a:stretch/>
        </p:blipFill>
        <p:spPr>
          <a:xfrm>
            <a:off x="5292720" y="3860640"/>
            <a:ext cx="2665440" cy="2000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ENS2100_Manipulacion_Guantes_Esteriles[8"/>
          <p:cNvPicPr/>
          <p:nvPr/>
        </p:nvPicPr>
        <p:blipFill>
          <a:blip r:embed="rId1"/>
          <a:stretch/>
        </p:blipFill>
        <p:spPr>
          <a:xfrm>
            <a:off x="2771640" y="1700280"/>
            <a:ext cx="3765600" cy="432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in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3733560"/>
            <a:ext cx="73911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AISLA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Definición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Conjunto de procedimientos que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permite la separación de pacientes infectad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de los huéspedes susceptibles, durante 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período de transmisibilidad de la enfermedad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en lugares y condiciones tales que permita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cortar la cadena de transmisión 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infecciones de acuerdo a la vía 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transmisión de los patógenos involucrado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Aisla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3366"/>
                </a:solidFill>
                <a:uFillTx/>
                <a:latin typeface="Tahoma"/>
              </a:rPr>
              <a:t>Objetivo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Interrumpir la cadena de transmisión de una enfermedad infecciosa, a fin de prevenir el contagio entre pacientes y entre pacientes y personal hospitalario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adena de trans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Oval 4"/>
          <p:cNvSpPr/>
          <p:nvPr/>
        </p:nvSpPr>
        <p:spPr>
          <a:xfrm>
            <a:off x="324000" y="3500280"/>
            <a:ext cx="1512720" cy="57636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Oval 5"/>
          <p:cNvSpPr/>
          <p:nvPr/>
        </p:nvSpPr>
        <p:spPr>
          <a:xfrm>
            <a:off x="4608000" y="5286240"/>
            <a:ext cx="325332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uerta de entra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Oval 6"/>
          <p:cNvSpPr/>
          <p:nvPr/>
        </p:nvSpPr>
        <p:spPr>
          <a:xfrm>
            <a:off x="4029120" y="3558960"/>
            <a:ext cx="491040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Mecanismo de transmis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Oval 7"/>
          <p:cNvSpPr/>
          <p:nvPr/>
        </p:nvSpPr>
        <p:spPr>
          <a:xfrm>
            <a:off x="5834160" y="2119320"/>
            <a:ext cx="138240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agen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Oval 8"/>
          <p:cNvSpPr/>
          <p:nvPr/>
        </p:nvSpPr>
        <p:spPr>
          <a:xfrm>
            <a:off x="1800000" y="2119320"/>
            <a:ext cx="299016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uerta de sali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22560" y="3499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Reservo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579240" y="4784400"/>
            <a:ext cx="2907720" cy="5202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Times New Roman"/>
              </a:rPr>
              <a:t>Huésped susceptib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AutoShape 17"/>
          <p:cNvSpPr/>
          <p:nvPr/>
        </p:nvSpPr>
        <p:spPr>
          <a:xfrm rot="17736000">
            <a:off x="874440" y="2588760"/>
            <a:ext cx="963720" cy="627120"/>
          </a:xfrm>
          <a:custGeom>
            <a:avLst/>
            <a:gdLst>
              <a:gd name="textAreaLeft" fmla="*/ 168480 w 963720"/>
              <a:gd name="textAreaRight" fmla="*/ 698760 w 963720"/>
              <a:gd name="textAreaTop" fmla="*/ 83880 h 627120"/>
              <a:gd name="textAreaBottom" fmla="*/ 543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AutoShape 19"/>
          <p:cNvSpPr/>
          <p:nvPr/>
        </p:nvSpPr>
        <p:spPr>
          <a:xfrm rot="5741400">
            <a:off x="7092720" y="4508280"/>
            <a:ext cx="1079640" cy="648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86760 h 648000"/>
              <a:gd name="textAreaBottom" fmla="*/ 5612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170208"/>
                <a:lnTo>
                  <a:pt x="20859" y="12273"/>
                </a:lnTo>
                <a:lnTo>
                  <a:pt x="17280" y="21600"/>
                </a:lnTo>
                <a:lnTo>
                  <a:pt x="12219" y="12273"/>
                </a:lnTo>
                <a:lnTo>
                  <a:pt x="14379" y="12273"/>
                </a:lnTo>
                <a:arcTo wR="7560" hR="21600" stAng="-3229792" swAng="-181277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AutoShape 20"/>
          <p:cNvSpPr/>
          <p:nvPr/>
        </p:nvSpPr>
        <p:spPr>
          <a:xfrm rot="4131600">
            <a:off x="7288560" y="2423160"/>
            <a:ext cx="1079280" cy="934920"/>
          </a:xfrm>
          <a:custGeom>
            <a:avLst/>
            <a:gdLst>
              <a:gd name="textAreaLeft" fmla="*/ 188640 w 1079280"/>
              <a:gd name="textAreaRight" fmla="*/ 782640 w 1079280"/>
              <a:gd name="textAreaTop" fmla="*/ 125280 h 934920"/>
              <a:gd name="textAreaBottom" fmla="*/ 8096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AutoShape 21"/>
          <p:cNvSpPr/>
          <p:nvPr/>
        </p:nvSpPr>
        <p:spPr>
          <a:xfrm>
            <a:off x="4859280" y="2060640"/>
            <a:ext cx="1008000" cy="28872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AutoShape 22"/>
          <p:cNvSpPr/>
          <p:nvPr/>
        </p:nvSpPr>
        <p:spPr>
          <a:xfrm rot="11937600">
            <a:off x="3228480" y="5375160"/>
            <a:ext cx="1224000" cy="43344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749571"/>
                <a:lnTo>
                  <a:pt x="21197" y="14646"/>
                </a:lnTo>
                <a:lnTo>
                  <a:pt x="17280" y="21600"/>
                </a:lnTo>
                <a:lnTo>
                  <a:pt x="12557" y="14646"/>
                </a:lnTo>
                <a:lnTo>
                  <a:pt x="14717" y="14646"/>
                </a:lnTo>
                <a:arcTo wR="7560" hR="21600" stAng="-2650429" swAng="-2392136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Mecanismos de trans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66"/>
                </a:solidFill>
                <a:uFillTx/>
                <a:latin typeface="Tahoma"/>
              </a:rPr>
              <a:t>Directo</a:t>
            </a: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-si la superficie corp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infectada o colonizada s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pone en contacto con l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superficie del huéspe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susceptible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66"/>
                </a:solidFill>
                <a:uFillTx/>
                <a:latin typeface="Tahoma"/>
              </a:rPr>
              <a:t>Indirecto</a:t>
            </a: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-si la transferencia 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microorganismo ocurr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cuando el huéspe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susceptible entra e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contacto con un objeto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generalmente inanimado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contaminado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(vectores, vía aérea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Componentes fundamentales de aislamie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Lavado de man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Mascarilla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Uso de guant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Delantal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7" name="Picture 8" descr="MCj02909460000[1]"/>
          <p:cNvPicPr/>
          <p:nvPr/>
        </p:nvPicPr>
        <p:blipFill>
          <a:blip r:embed="rId1"/>
          <a:stretch/>
        </p:blipFill>
        <p:spPr>
          <a:xfrm>
            <a:off x="5580000" y="2565360"/>
            <a:ext cx="2160720" cy="1006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MCj02810630000[1]"/>
          <p:cNvPicPr/>
          <p:nvPr/>
        </p:nvPicPr>
        <p:blipFill>
          <a:blip r:embed="rId2"/>
          <a:stretch/>
        </p:blipFill>
        <p:spPr>
          <a:xfrm>
            <a:off x="1619280" y="4724280"/>
            <a:ext cx="2160720" cy="1521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MCBD20109_0000[1]"/>
          <p:cNvPicPr/>
          <p:nvPr/>
        </p:nvPicPr>
        <p:blipFill>
          <a:blip r:embed="rId3"/>
          <a:stretch/>
        </p:blipFill>
        <p:spPr>
          <a:xfrm>
            <a:off x="5651640" y="4508640"/>
            <a:ext cx="1485720" cy="175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MCIN00388_0000[1]"/>
          <p:cNvPicPr/>
          <p:nvPr/>
        </p:nvPicPr>
        <p:blipFill>
          <a:blip r:embed="rId4"/>
          <a:stretch/>
        </p:blipFill>
        <p:spPr>
          <a:xfrm>
            <a:off x="1835280" y="2276640"/>
            <a:ext cx="18129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pos de aisl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PRECAUCIONES ESTANDAR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AISLAMIENTO POR VÍA AERE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AISLAMIENTO POR GOTITA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AISLAMIENTO DE CONTACT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AISLAMIENTO EN COHORT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EDIDAS DE AISLAMIEN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Lavado clínico de mano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Uso de guantes de látex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Lugar de aislamiento (sala común o habitación individual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Transporte de paciente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Mascarillas, protección respiratoria y ocular, lentes protectore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Delantal y otros elementos de protección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Equipos e insum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Ropa del paciente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Artículos para alimentación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Limpieza concurrente (durante la hospitalización) y terminal (al alta del paciente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Colocación de guan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8" descr="mascar2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20:21:14Z</dcterms:created>
  <dc:creator>Bj</dc:creator>
  <dc:description/>
  <dc:language>en-US</dc:language>
  <cp:lastModifiedBy>Pablo</cp:lastModifiedBy>
  <dcterms:modified xsi:type="dcterms:W3CDTF">2011-11-16T11:23:29Z</dcterms:modified>
  <cp:revision>13</cp:revision>
  <dc:subject/>
  <dc:title>AISLAMIENTOS, USO DE DELANTAL, MASCARILLA Y LAVADO DE MANOS</dc:title>
</cp:coreProperties>
</file>