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25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A3D-04D7-47E1-B593-8B0AAB2C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70E-FD40-4467-BB28-4361084F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861-26C2-42F3-9B45-D04718D5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829-D634-4687-902C-5B42C36A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93D4-20D4-4A08-9A86-68F14DAF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5E5D-ACAF-45E1-A5D3-4BC08AFE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5621-C57B-4680-9CD3-4BE908FA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F3E-1BCA-4E9F-8C9A-72FE1F96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3B2C-B35D-4A56-811D-0F7E6AC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6F50-1F7A-46CB-A378-54D68D1C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A8AE-44C2-47B6-A00E-D582074B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87C-CA08-4E17-A55F-29AE3D30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204B-C119-456B-A2EB-3C64257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0681-B013-413A-A44C-6076B05B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1A27-BC82-4EE0-87ED-95EC2C5A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E39C-32D0-4F19-A748-2FCF3FF0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B1AE-D9E3-4E28-9761-B34E075A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ADCA-7E30-4513-967F-54FD10E3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3F7A-3EE1-4453-A46E-4EC41918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D81B-54FD-4914-93DD-C171D5B6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25B6-F62A-4B7D-98F0-1691C2A6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4E7B-FC77-48B4-A2C1-892324A5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E7E-1F6D-46EC-93FB-39C04DB8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D2B9-A80F-4E09-A9C7-980A1508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5E57-564C-4C45-BA3A-7720750C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29A7-7539-4B87-BA3B-B497D2B1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B638-6347-4F30-BC6C-FD0FC22E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6FE1-93D5-4531-BEFB-056542BA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E569-B4C9-4787-996D-2B17980C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4854-8C7B-45DF-AF57-10AB6716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56F5-3281-4B03-9374-580BD83F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FBD6-7C76-4A41-8D66-BC054686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00EEF-B135-4E75-8FF3-A985EB54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9D9-8939-4D0A-B0C3-F8B38023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FC82-D837-42FF-B466-FB6A99D9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7FB4D-D861-40D9-B40C-CF7491B1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9FA70-D5DA-445C-80E5-562754DD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568F-14A1-420F-A519-41725FAE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55CD7-64AF-4805-B545-A96EBEB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B292-CA4A-4D5B-95D9-50BF4AD1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D3311-E67C-4208-9A29-E8AACBC6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23BDF-E03C-4A32-A13B-EE54B3A0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BDF6C-EFE2-4F4B-92FE-6152CDBD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7BE23-7C77-4A67-8EAF-A0AE8CB9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538-8903-4557-89A1-86DED6C5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A3DB-80B3-4879-B453-EBDBF858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B4B7A-ED99-429F-A3A4-43C260D7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A129-7540-4407-98D4-64568721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35504-8221-4380-A733-224B70FA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AD54-269D-44B4-8A67-8B718A74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F594-1D2A-4186-95C9-908B5B1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B700-4796-481E-8C1D-070835E3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82A8-6B75-4797-A5FF-9D5F663F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A59A-BCA4-4FAF-B7EF-F9B5441C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0419-8E8B-4F8F-904E-A5AF6745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EFF-34C7-4905-8DAF-5B6763F7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A219C-DB10-4059-BEE2-AC356F78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EA2AC-A0BA-4020-A486-9DF48483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B7D0-FB25-4A19-BB19-B19A9CB2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FED63-DCE6-4C31-8BED-4401808D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1767-543A-4F36-B961-388DCA2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8D47A-2BFC-4E65-8522-BE8D9AAD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09F0-BE2C-4DC2-B213-850F7248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A359-91E1-41C2-B49E-CD2A00C0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B145-C553-452E-AFDF-42294B6B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DF70C-46A8-47AA-A86A-D9F2B617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399-7A8C-4870-822D-8536B97C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8D505-D50C-40EE-91D3-C8F32DD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09699-D4AD-45AB-A88C-F9C77E71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5E6EA-3888-4684-A0A6-702C33C9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C83-CF0F-4D72-A68B-723F269B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621-AE86-41A8-B34B-4D241E5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05E2-E5B0-4637-8BBD-96C1AF06FC8E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C872-038C-4429-9589-408963BCE881}" type="slidenum">
              <a:rPr b="0" lang="es-C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61FB-E84A-40AD-8C81-0FD1355583FE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9ECD-3000-42B6-9CB6-DDD88C6DA9C9}" type="slidenum">
              <a:rPr b="0" lang="es-C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10DA-91A2-4E3F-903A-BAA63924A573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9B5B-331A-49AE-B2B7-E5AC27866878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609480" y="1047600"/>
            <a:ext cx="8174160" cy="17510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908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Karen De la hoz 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Enfermer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9" descr="MCj03964640000[1]"/>
          <p:cNvPicPr/>
          <p:nvPr/>
        </p:nvPicPr>
        <p:blipFill>
          <a:blip r:embed="rId2"/>
          <a:stretch/>
        </p:blipFill>
        <p:spPr>
          <a:xfrm>
            <a:off x="1692360" y="2924280"/>
            <a:ext cx="1873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rdida de peso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nfermedades crónic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Requerimiento metaból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nfermedad o cirugía que interfieren en la ingesta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Alimentación enteral o parenteral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Uso de SNG SNY o Sonda gastrostomí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Picture 4" descr="MCj03207200000[1]"/>
          <p:cNvPicPr/>
          <p:nvPr/>
        </p:nvPicPr>
        <p:blipFill>
          <a:blip r:embed="rId2"/>
          <a:stretch/>
        </p:blipFill>
        <p:spPr>
          <a:xfrm>
            <a:off x="5964120" y="4581360"/>
            <a:ext cx="1406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rdida de pe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rdida de tejido subcutáne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Mala cicatrización de herid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dema ????.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iel seca y escamos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Mucosas pálida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rdida de pel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lo opaco-pajo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Lengua inflamad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stado nutricional inici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Control de inges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Control de perdid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xámenes de laboratori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Observar: evolución clín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valuar: necesidad de apoyo nutricio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Uso de prótesis den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Sabor de las comidas según diet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Observar deglución y estado de concienci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1 Imagen" descr="13545_207403776583_749076583_4102636_8380891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395280" y="1628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atisfacción de necesida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Personas integra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Credibilidad Médic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Debemos hacer lo necesario para satisfacer una necesid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3851280" y="3959280"/>
            <a:ext cx="2664000" cy="2638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800px-Pir%C3%A1mide_de_Maslow"/>
          <p:cNvPicPr/>
          <p:nvPr/>
        </p:nvPicPr>
        <p:blipFill>
          <a:blip r:embed="rId2"/>
          <a:stretch/>
        </p:blipFill>
        <p:spPr>
          <a:xfrm>
            <a:off x="762120" y="1322280"/>
            <a:ext cx="7049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Trebuchet MS"/>
              </a:rPr>
              <a:t>Necesidad de nutrientes, agua y electrolito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ngesta de alimentos y líquidos, uso de prótesis, mantención de higie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97" descr="http://biocuidados.files.wordpress.com/2008/07/alimentos_dieta_medit.jpg"/>
          <p:cNvPicPr/>
          <p:nvPr/>
        </p:nvPicPr>
        <p:blipFill>
          <a:blip r:embed="rId2"/>
          <a:stretch/>
        </p:blipFill>
        <p:spPr>
          <a:xfrm>
            <a:off x="2843280" y="4005360"/>
            <a:ext cx="3305160" cy="248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MCj03317280000[1]"/>
          <p:cNvPicPr/>
          <p:nvPr/>
        </p:nvPicPr>
        <p:blipFill>
          <a:blip r:embed="rId2"/>
          <a:stretch/>
        </p:blipFill>
        <p:spPr>
          <a:xfrm>
            <a:off x="1981080" y="4076640"/>
            <a:ext cx="2303640" cy="2249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MCj03012300000[1]"/>
          <p:cNvPicPr/>
          <p:nvPr/>
        </p:nvPicPr>
        <p:blipFill>
          <a:blip r:embed="rId3"/>
          <a:stretch/>
        </p:blipFill>
        <p:spPr>
          <a:xfrm>
            <a:off x="5796000" y="3860640"/>
            <a:ext cx="2301840" cy="2268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1"/>
          <p:cNvSpPr/>
          <p:nvPr/>
        </p:nvSpPr>
        <p:spPr>
          <a:xfrm>
            <a:off x="3419640" y="1773360"/>
            <a:ext cx="4824360" cy="1922760"/>
          </a:xfrm>
          <a:prstGeom prst="rect">
            <a:avLst/>
          </a:prstGeom>
          <a:noFill/>
          <a:ln w="5724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édico es quien indica el tipo de alimentación del paciente diariamente, y la nutricionista decide como cumplir esa ind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stablecer patrón nutricional inici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Historia clín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Historia dietét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xploración fís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Tall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IMC  (Peso/talla 2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xámenes de laboratorio (fierro o proteína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4" descr="MCj03479310000[1]"/>
          <p:cNvPicPr/>
          <p:nvPr/>
        </p:nvPicPr>
        <p:blipFill>
          <a:blip r:embed="rId2"/>
          <a:stretch/>
        </p:blipFill>
        <p:spPr>
          <a:xfrm>
            <a:off x="6443640" y="1916280"/>
            <a:ext cx="1684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Ingesta superior a las necesidades corpora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Ingesta inferior a las necesidades corpora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Riesgo de desnutri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Picture 4" descr="MCj03340800000[1]"/>
          <p:cNvPicPr/>
          <p:nvPr/>
        </p:nvPicPr>
        <p:blipFill>
          <a:blip r:embed="rId2"/>
          <a:stretch/>
        </p:blipFill>
        <p:spPr>
          <a:xfrm>
            <a:off x="5756400" y="4087800"/>
            <a:ext cx="18223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rebuchet MS"/>
              </a:rPr>
              <a:t>Metabolismo bas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rebuchet MS"/>
              </a:rPr>
              <a:t>Situaciones clínicas que vive el paci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rebuchet MS"/>
              </a:rPr>
              <a:t>El gasto energético de la actividad fís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9072b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7" descr="MCj03435270000[1]"/>
          <p:cNvPicPr/>
          <p:nvPr/>
        </p:nvPicPr>
        <p:blipFill>
          <a:blip r:embed="rId2"/>
          <a:stretch/>
        </p:blipFill>
        <p:spPr>
          <a:xfrm>
            <a:off x="5724360" y="4508640"/>
            <a:ext cx="20275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13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66ff"/>
                </a:solidFill>
                <a:latin typeface="Trebuchet MS"/>
              </a:rPr>
              <a:t>Ayuno prolongad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66ff"/>
                </a:solidFill>
                <a:latin typeface="Trebuchet MS"/>
              </a:rPr>
              <a:t>Importante en pacientes diabético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66ff"/>
                </a:solidFill>
                <a:latin typeface="Trebuchet MS"/>
              </a:rPr>
              <a:t>Estrés fisiológ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leva consumo de oxigeno y energí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13" descr="MCj02307600000[1]"/>
          <p:cNvPicPr/>
          <p:nvPr/>
        </p:nvPicPr>
        <p:blipFill>
          <a:blip r:embed="rId2"/>
          <a:stretch/>
        </p:blipFill>
        <p:spPr>
          <a:xfrm>
            <a:off x="5651640" y="44370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291" name="Line 14"/>
          <p:cNvSpPr/>
          <p:nvPr/>
        </p:nvSpPr>
        <p:spPr>
          <a:xfrm>
            <a:off x="3924360" y="2708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5:25:25Z</dcterms:created>
  <dc:creator>Claudio Borel Baeza</dc:creator>
  <dc:description/>
  <dc:language>en-US</dc:language>
  <cp:lastModifiedBy>Pablo</cp:lastModifiedBy>
  <dcterms:modified xsi:type="dcterms:W3CDTF">2011-11-03T23:54:23Z</dcterms:modified>
  <cp:revision>23</cp:revision>
  <dc:subject/>
  <dc:title>Necesidades alimentarias del paciente hospitalizado.</dc:title>
</cp:coreProperties>
</file>