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6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7.png" ContentType="image/png"/>
  <Override PartName="/ppt/media/image15.wmf" ContentType="image/x-wmf"/>
  <Override PartName="/ppt/media/image10.png" ContentType="image/png"/>
  <Override PartName="/ppt/media/image5.png" ContentType="image/png"/>
  <Override PartName="/ppt/media/image4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1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8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2.jpeg" ContentType="image/jpeg"/>
  <Override PartName="/ppt/media/image25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665F-00C7-438F-9A60-E015D1C0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5A39-4DDD-49D8-B8DD-3BE91536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E936-91DD-4981-A37A-6C968200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91D8-87AD-48A0-87E4-E60707DA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C50D-56D0-4C02-A197-396207F3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2F8A-B680-4A07-83F2-6849B163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4D95-16CE-4615-8BA2-975F26B2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CC93-364E-4C85-B1E7-72B5A46E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5653-40A8-4949-8210-D73C7F4E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F201-2DB2-4597-85F8-8473A92A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57C9-4B9B-4A32-89F7-B4973514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2BA1-51FF-4509-A230-302F2DFF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60ED-78F7-4420-8386-3C9AFE92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09EB-DA9D-498F-80A2-3ABBEA4D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8B95-468D-4257-9416-0E10AD55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DCB2-071D-4917-9C13-2B6C9F2E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5487-A792-462D-86FF-FE60353A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0A4E7-B56A-4A4C-8E14-CDCED415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C78D5-9CBE-4C25-9F8A-F7B1D070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A5EBA-3415-4830-BDA7-C9EBADEE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36422-AB62-4C5B-BD96-487C9358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8131D-19E8-4D55-85A0-810CD59B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D90A-CCF0-4E53-B4AF-89A232DD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E2748-C9F2-4C87-839A-D9EA4016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71E42-B390-4C17-ABDE-976B092F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00CF8-E537-4BFE-BB66-C16258E6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D1EF2-B913-4A3A-AADE-44FA307A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20137-C227-4D0C-96C7-4D89E655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8D4BE-1984-4C6D-AABF-FAE8C039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82980-E673-4640-968D-F9BA23CF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6D90E-0004-44DA-9B66-DA6187A4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35051-DF53-4E7D-9572-76F5AA80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B301D-947A-4464-98EA-3F4C6944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B5E8-659A-48C6-97D8-9D6FF646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834C0-07DE-40FD-8A75-A5045244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B27F2-4416-49E1-AA54-CD5E3EF4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F8053-C7EE-4EF8-B4CD-D9611843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034C4-DBC6-4FC3-93EA-135A8FEA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ED450-D365-4B91-8159-18ECB091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A6787-6866-4BD7-A4CB-D8DD7B15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E2BB2-2008-4F5B-8756-445E4E51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E9F22-F840-4E59-8EB7-6EC11421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039E7-2B21-44A4-947E-DD54B981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07747-3416-4077-B911-F7F90974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364C-A8D0-4E5F-B429-DEA002B6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CDCC7-60BD-46FA-B773-9647DDCF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FE449-DB13-4EDE-8CCC-7C14D312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BD44F-9EC8-44A0-95B1-C87BDFD3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F9E67-1A40-47D3-8064-29377F44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94DE8-EC3A-4319-85E4-39A670EC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852F1-77C8-48C1-AA3C-22429AC7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CFEFE-C6B1-4442-ADBE-DB42790B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071ED-2A02-4086-A824-CE0FBB6B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FBD61-5BC5-4175-AE5B-C382CDCE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C01DC-B5C3-4DAE-8046-78C03BF1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B282-3B72-45E3-B21D-D2A78685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7346A-A455-466B-A302-05B495DE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0C9DE-C352-40F4-BBB6-CC697772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C9E26-7F43-42C4-ADF4-D7D34043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4A939-8337-415F-87C1-A943CFA3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404FB-EDE9-45FF-835F-FF23870B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1ED70-5B57-4CEC-A5B3-BF296079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710BE-9A2B-4A80-8DAB-6541BA6A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72EA5-4DD6-4AD2-A0B1-33BFB768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8D7EC-2099-40A5-8E1D-F2D6DDB9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4DB8C-7B3F-4C36-B953-85FDB571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6043-50CC-4371-91DF-60935F02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D8CAA-90D1-466E-B936-FFB2187A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6114C-7BC8-4037-BDF3-66ECC485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9D79A-979E-45EC-BA6B-21F48FF7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2D51-DE72-4F72-B822-EAD514AF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A4CA-1F0E-4FE5-861A-061730F4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9960-DCD9-46AF-A133-FBCDE4ED87D8}" type="slidenum">
              <a:rPr b="0" lang="es-C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ctángulo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7 Rectángulo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9 Conector recto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D384-8B3C-4F50-BA93-E236C3D9A52E}" type="slidenum">
              <a:rPr b="0" lang="es-C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C227-A50D-4C61-92A8-69854CF6172B}" type="slidenum">
              <a:rPr b="0" lang="es-C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9 Rectángulo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DA4C-68AE-4A0E-9AF4-3C8CD7D8C9A1}" type="slidenum">
              <a:rPr b="0" lang="es-CL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C68E-BA62-462E-99F7-49AF7D94209F}" type="slidenum">
              <a:rPr b="0" lang="es-C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33D5-16E4-40E5-9C8D-43E6D75B5642}" type="slidenum">
              <a:rPr b="0" lang="es-C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2" descr=""/>
          <p:cNvPicPr/>
          <p:nvPr/>
        </p:nvPicPr>
        <p:blipFill>
          <a:blip r:embed="rId1"/>
          <a:stretch/>
        </p:blipFill>
        <p:spPr>
          <a:xfrm>
            <a:off x="609480" y="1047600"/>
            <a:ext cx="8174160" cy="17510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908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Karen De la hoz 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Enfermer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6" name="Picture 9" descr="MCj03964640000[1]"/>
          <p:cNvPicPr/>
          <p:nvPr/>
        </p:nvPicPr>
        <p:blipFill>
          <a:blip r:embed="rId2"/>
          <a:stretch/>
        </p:blipFill>
        <p:spPr>
          <a:xfrm>
            <a:off x="1692360" y="2924280"/>
            <a:ext cx="187308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Rectangle 2" descr=""/>
          <p:cNvPicPr/>
          <p:nvPr/>
        </p:nvPicPr>
        <p:blipFill>
          <a:blip r:embed="rId1"/>
          <a:stretch/>
        </p:blipFill>
        <p:spPr>
          <a:xfrm>
            <a:off x="285840" y="274680"/>
            <a:ext cx="8407440" cy="11523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Perdida de peso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Enfermedades crónica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Requerimiento metabólic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Enfermedad o cirugía que interfieren en la ingesta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Alimentación enteral o parenteral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Uso de SNG SNY o Sonda gastrostomía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4" name="Picture 4" descr="MCj03207200000[1]"/>
          <p:cNvPicPr/>
          <p:nvPr/>
        </p:nvPicPr>
        <p:blipFill>
          <a:blip r:embed="rId2"/>
          <a:stretch/>
        </p:blipFill>
        <p:spPr>
          <a:xfrm>
            <a:off x="5964120" y="4581360"/>
            <a:ext cx="1406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Perdida de pes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Perdida de tejido subcutáne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Mala cicatrización de herida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Edema ????...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Piel seca y escamos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Mucosas pálida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Perdida de pel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Pelo opaco-pajos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Lengua inflamad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Estado nutricional inici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Control de ingest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Control de perdida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Exámenes de laboratori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Observar: evolución clínic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Evaluar: necesidad de apoyo nutricion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Uso de prótesis dent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Sabor de las comidas según dieta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Observar deglución y estado de conciencia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1 Imagen" descr="13545_207403776583_749076583_4102636_8380891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395280" y="1628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Satisfacción de necesidad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Personas integral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Credibilidad Médic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Debemos hacer lo necesario para satisfacer una necesida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2"/>
          <a:stretch/>
        </p:blipFill>
        <p:spPr>
          <a:xfrm>
            <a:off x="3851280" y="3959280"/>
            <a:ext cx="2664000" cy="2638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800px-Pir%C3%A1mide_de_Maslow"/>
          <p:cNvPicPr/>
          <p:nvPr/>
        </p:nvPicPr>
        <p:blipFill>
          <a:blip r:embed="rId2"/>
          <a:stretch/>
        </p:blipFill>
        <p:spPr>
          <a:xfrm>
            <a:off x="762120" y="1322280"/>
            <a:ext cx="70498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s-MX" sz="3600" spc="-1" strike="noStrike">
                <a:solidFill>
                  <a:srgbClr val="000000"/>
                </a:solidFill>
                <a:latin typeface="Trebuchet MS"/>
              </a:rPr>
              <a:t>Necesidad de nutrientes, agua y electrolitos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Ingesta de alimentos y líquidos, uso de prótesis, mantención de higien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4" name="Picture 97" descr="http://biocuidados.files.wordpress.com/2008/07/alimentos_dieta_medit.jpg"/>
          <p:cNvPicPr/>
          <p:nvPr/>
        </p:nvPicPr>
        <p:blipFill>
          <a:blip r:embed="rId2"/>
          <a:stretch/>
        </p:blipFill>
        <p:spPr>
          <a:xfrm>
            <a:off x="2843280" y="4005360"/>
            <a:ext cx="3305160" cy="2485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MCj03317280000[1]"/>
          <p:cNvPicPr/>
          <p:nvPr/>
        </p:nvPicPr>
        <p:blipFill>
          <a:blip r:embed="rId2"/>
          <a:stretch/>
        </p:blipFill>
        <p:spPr>
          <a:xfrm>
            <a:off x="1981080" y="4076640"/>
            <a:ext cx="2303640" cy="2249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MCj03012300000[1]"/>
          <p:cNvPicPr/>
          <p:nvPr/>
        </p:nvPicPr>
        <p:blipFill>
          <a:blip r:embed="rId3"/>
          <a:stretch/>
        </p:blipFill>
        <p:spPr>
          <a:xfrm>
            <a:off x="5796000" y="3860640"/>
            <a:ext cx="2301840" cy="22687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1"/>
          <p:cNvSpPr/>
          <p:nvPr/>
        </p:nvSpPr>
        <p:spPr>
          <a:xfrm>
            <a:off x="3419640" y="1773360"/>
            <a:ext cx="4824360" cy="1922760"/>
          </a:xfrm>
          <a:prstGeom prst="rect">
            <a:avLst/>
          </a:prstGeom>
          <a:noFill/>
          <a:ln w="57240">
            <a:solidFill>
              <a:srgbClr val="d490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édico es quien indica el tipo de alimentación del paciente diariamente, y la nutricionista decide como cumplir esa indic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285840" y="274680"/>
            <a:ext cx="8407440" cy="1152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Establecer patrón nutricional inici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Historia clínic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Historia dietétic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Exploración físic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Tall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IMC  (Peso/talla 2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Exámenes de laboratorio (fierro o proteína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Picture 4" descr="MCj03479310000[1]"/>
          <p:cNvPicPr/>
          <p:nvPr/>
        </p:nvPicPr>
        <p:blipFill>
          <a:blip r:embed="rId2"/>
          <a:stretch/>
        </p:blipFill>
        <p:spPr>
          <a:xfrm>
            <a:off x="6443640" y="1916280"/>
            <a:ext cx="168444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85840" y="274680"/>
            <a:ext cx="8407440" cy="115236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Ingesta superior a las necesidades corporal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Ingesta inferior a las necesidades corporal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Riesgo de desnutrició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4" name="Picture 4" descr="MCj03340800000[1]"/>
          <p:cNvPicPr/>
          <p:nvPr/>
        </p:nvPicPr>
        <p:blipFill>
          <a:blip r:embed="rId2"/>
          <a:stretch/>
        </p:blipFill>
        <p:spPr>
          <a:xfrm>
            <a:off x="5756400" y="4087800"/>
            <a:ext cx="182232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rebuchet MS"/>
              </a:rPr>
              <a:t>Metabolismo bas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rebuchet MS"/>
              </a:rPr>
              <a:t>Situaciones clínicas que vive el pacien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rebuchet MS"/>
              </a:rPr>
              <a:t>El gasto energético de la actividad físic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7" name="Picture 7" descr="MCj03435270000[1]"/>
          <p:cNvPicPr/>
          <p:nvPr/>
        </p:nvPicPr>
        <p:blipFill>
          <a:blip r:embed="rId2"/>
          <a:stretch/>
        </p:blipFill>
        <p:spPr>
          <a:xfrm>
            <a:off x="5724360" y="4508640"/>
            <a:ext cx="202752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Rectangle 2" descr=""/>
          <p:cNvPicPr/>
          <p:nvPr/>
        </p:nvPicPr>
        <p:blipFill>
          <a:blip r:embed="rId1"/>
          <a:stretch/>
        </p:blipFill>
        <p:spPr>
          <a:xfrm>
            <a:off x="285840" y="274680"/>
            <a:ext cx="8407440" cy="1152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713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6666ff"/>
                </a:solidFill>
                <a:latin typeface="Trebuchet MS"/>
              </a:rPr>
              <a:t>Ayuno prolongad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6666ff"/>
                </a:solidFill>
                <a:latin typeface="Trebuchet MS"/>
              </a:rPr>
              <a:t>Importante en pacientes diabético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6666ff"/>
                </a:solidFill>
                <a:latin typeface="Trebuchet MS"/>
              </a:rPr>
              <a:t>Estrés fisiológic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Eleva consumo de oxigeno y energí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0" name="Picture 13" descr="MCj02307600000[1]"/>
          <p:cNvPicPr/>
          <p:nvPr/>
        </p:nvPicPr>
        <p:blipFill>
          <a:blip r:embed="rId2"/>
          <a:stretch/>
        </p:blipFill>
        <p:spPr>
          <a:xfrm>
            <a:off x="5651640" y="4437000"/>
            <a:ext cx="2232000" cy="1674720"/>
          </a:xfrm>
          <a:prstGeom prst="rect">
            <a:avLst/>
          </a:prstGeom>
          <a:ln w="0">
            <a:noFill/>
          </a:ln>
        </p:spPr>
      </p:pic>
      <p:sp>
        <p:nvSpPr>
          <p:cNvPr id="291" name="Line 14"/>
          <p:cNvSpPr/>
          <p:nvPr/>
        </p:nvSpPr>
        <p:spPr>
          <a:xfrm>
            <a:off x="3924360" y="270828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05:25:25Z</dcterms:created>
  <dc:creator>Claudio Borel Baeza</dc:creator>
  <dc:description/>
  <dc:language>en-US</dc:language>
  <cp:lastModifiedBy>Pablo</cp:lastModifiedBy>
  <dcterms:modified xsi:type="dcterms:W3CDTF">2011-11-03T23:54:23Z</dcterms:modified>
  <cp:revision>23</cp:revision>
  <dc:subject/>
  <dc:title>Necesidades alimentarias del paciente hospitalizado.</dc:title>
</cp:coreProperties>
</file>