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wmf" ContentType="image/x-wmf"/>
  <Override PartName="/ppt/media/image9.jpeg" ContentType="image/jpeg"/>
  <Override PartName="/ppt/media/image23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184-F38A-4D40-BAFF-6C8F2A36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BC1-3C74-4827-81EA-65A92A40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E17-0A6C-456C-8AC7-8D169FE3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85C-D0B5-4436-8E74-C77F4AFA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6BA8-5EA9-49F2-A8CA-C2AC9FF1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1D90-97D7-4FA6-B33C-3AC365C7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715D-5AC4-450B-96DA-D3CF79BF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A2E0-CEE8-4E4F-B78E-7CEE581A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6881-54F3-47EB-8316-78C68D54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C4B1-C08B-450E-9875-747D1DBC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60BD-FADA-4251-AE8D-7A6FA4E9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959-9F33-400A-A038-DFFA5A4D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F016-A09C-4B91-9056-880F7B3A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1D85-7629-47A1-BF91-F532CB63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BB88-E113-47E1-B89A-E3AC06E1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CE92-A5B3-4843-8972-8029BAA3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001F-B3A0-499E-B45C-E4C84A0A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F29EB-9CF0-44AD-A0E7-B778E829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2C238-2F79-4FF7-BCEE-C7300973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CBF65-A0F2-4CBA-A274-4863922E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CF3CF-FA4B-4FDE-AFDA-BF668537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4AF5C-0EFD-4475-AE36-EAF86A29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D0C-6817-4431-8A90-F6F835C2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D0E89-4383-429D-B77E-594535EC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684F4-2E68-4449-9177-6E092FD1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91061-3B57-4722-8A5A-1DF49771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1BF1D-D92D-4183-94CA-AC408960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41E9D-E757-46BF-BA9F-4ACF9C1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5F476-91BD-475B-829B-59B56F25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FAE97-1813-49F8-86D9-91563B37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4FA7-30AB-41B8-AA53-CFC2432D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B968D-8F9D-4EB2-9472-59B8E258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E6B0F-6C97-4A05-A218-0C5A9844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033-427D-4680-BA2C-CBCA597E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1B9DE-3335-4309-A875-27114C8F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5E839-BE66-4C57-B6D9-57DE5A24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A8A9-9778-492A-B337-EADE103C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0BC1-71AA-4488-8AE5-19B28D1F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DFEE-8814-43C8-B869-6393019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F789D-A8F8-4B75-BD92-575A8209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94947-8A0F-4149-A70A-0B0CBBE1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42F82-CFC5-4845-AC01-A3376024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758C-0715-497F-AFE4-68DA63B2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EAE0-9D5E-46E3-9434-6906A989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7ED-0D3F-4E74-9573-70F879C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1754-2C8D-4BDE-A1CA-1C43086C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8D959-056C-4498-AF82-1722C40D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237EB-39EF-439B-B39E-4203AA67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058E5-9556-4FDB-9953-D5BEE47D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3EFB4-1F5A-4EAE-98EE-B477B666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2580E-697C-414C-B2CA-7C9D9EF5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F1C94-C3DE-45EE-941D-CB933E23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BE4BA-C162-4026-807E-8FED4DA8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C67E4-A88E-438C-B61C-A78B6AC2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CB415-DC56-47BC-AC9A-BDEBAC79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A8D-36B5-430A-9EF5-FFC9DAF8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A0DBE-CD43-4817-9752-A606AD8C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F2E-6926-4533-AE71-07C6862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70A-3FAE-4EC3-9221-27941F80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ECC-FDF8-4EEB-8E58-9D8422D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97B3-6F20-4734-AB2C-F6E4911A028F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3409-D529-45DE-A092-D149F1CA1FE7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975E-9F3D-4AB2-A201-91A28CDCDA8A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FD44-5A83-4B22-8EDF-C270EA24AA20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1F8C-A296-433C-99F1-0419165C8B4F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ospitalcruces.com/salud/movilizaciondelpaciente.htm#up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2.bp.blogspot.com/_kNvjIGlOFRo/Seorx5n2tpI/AAAAAAAAAEQ/e8yLo9QtRSQ/s1600-h/Dibujo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vilización y cuidados del paciente hospitalizado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124000" y="465264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24456"/>
                </a:solidFill>
                <a:latin typeface="Georgia"/>
              </a:rPr>
              <a:t>Karen De la hoz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24456"/>
                </a:solidFill>
                <a:latin typeface="Georgia"/>
              </a:rPr>
              <a:t>Enfermer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24456"/>
                </a:solidFill>
                <a:latin typeface="Trebuchet MS"/>
              </a:rPr>
              <a:t>Movilización y cuidados  del paciente hospitalizado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Picture 12" descr="Información útil paciente y usuario"/>
          <p:cNvPicPr/>
          <p:nvPr/>
        </p:nvPicPr>
        <p:blipFill>
          <a:blip r:embed="rId1"/>
          <a:stretch/>
        </p:blipFill>
        <p:spPr>
          <a:xfrm>
            <a:off x="2627280" y="2349360"/>
            <a:ext cx="4249800" cy="364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Movilización y cuidados  del paciente hospitalizado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242100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a  movilización es un procedimiento que se emplea en enfermos encamado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á determinado por el estado de salud del pacient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CuidadosyRegistros                  29e       4"/>
          <p:cNvPicPr/>
          <p:nvPr/>
        </p:nvPicPr>
        <p:blipFill>
          <a:blip r:embed="rId1"/>
          <a:stretch/>
        </p:blipFill>
        <p:spPr>
          <a:xfrm>
            <a:off x="1476360" y="1628640"/>
            <a:ext cx="6288120" cy="4707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24456"/>
                </a:solidFill>
                <a:latin typeface="Trebuchet MS"/>
              </a:rPr>
              <a:t>Consideraciones previ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Consideraciones previa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as limitaciones o incapacidad de movilización del pacie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po de movilización que requiere y personas necesari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mitir y estimular la cooperación de la persona cuando es factibl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teger conexiones: sondas, drenajes, colectores, et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Objetivos del cambio de posición o movilización en cama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porcionar comodidad al pacie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venir úlceras de decúbito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tribuir en la prevención de flebotrombos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avorecer la movilización y eliminación de secrecion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Colocación de la "chata"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3" name="Picture 5" descr="chata"/>
          <p:cNvPicPr/>
          <p:nvPr/>
        </p:nvPicPr>
        <p:blipFill>
          <a:blip r:embed="rId1"/>
          <a:stretch/>
        </p:blipFill>
        <p:spPr>
          <a:xfrm>
            <a:off x="2987640" y="4249800"/>
            <a:ext cx="2736720" cy="219060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04" name="Picture 7" descr="chata2"/>
          <p:cNvPicPr/>
          <p:nvPr/>
        </p:nvPicPr>
        <p:blipFill>
          <a:blip r:embed="rId2"/>
          <a:stretch/>
        </p:blipFill>
        <p:spPr>
          <a:xfrm>
            <a:off x="684360" y="1882800"/>
            <a:ext cx="3046320" cy="195264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05" name="Picture 9" descr="chata3"/>
          <p:cNvPicPr/>
          <p:nvPr/>
        </p:nvPicPr>
        <p:blipFill>
          <a:blip r:embed="rId3"/>
          <a:stretch/>
        </p:blipFill>
        <p:spPr>
          <a:xfrm>
            <a:off x="4932360" y="1865160"/>
            <a:ext cx="2735280" cy="195588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Subir hacia la cabecera de la cama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7" name="Picture 7" descr="subir1"/>
          <p:cNvPicPr/>
          <p:nvPr/>
        </p:nvPicPr>
        <p:blipFill>
          <a:blip r:embed="rId1"/>
          <a:stretch/>
        </p:blipFill>
        <p:spPr>
          <a:xfrm>
            <a:off x="1332000" y="2733840"/>
            <a:ext cx="3095640" cy="249552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08" name="Picture 9" descr="subir2"/>
          <p:cNvPicPr/>
          <p:nvPr/>
        </p:nvPicPr>
        <p:blipFill>
          <a:blip r:embed="rId2"/>
          <a:stretch/>
        </p:blipFill>
        <p:spPr>
          <a:xfrm>
            <a:off x="5219640" y="2708280"/>
            <a:ext cx="3168720" cy="243828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Giro o volteo lateral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0" name="Picture 5" descr="giro"/>
          <p:cNvPicPr/>
          <p:nvPr/>
        </p:nvPicPr>
        <p:blipFill>
          <a:blip r:embed="rId1"/>
          <a:stretch/>
        </p:blipFill>
        <p:spPr>
          <a:xfrm>
            <a:off x="971640" y="3500280"/>
            <a:ext cx="3168720" cy="243864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11" name="Picture 7" descr="giro2"/>
          <p:cNvPicPr/>
          <p:nvPr/>
        </p:nvPicPr>
        <p:blipFill>
          <a:blip r:embed="rId2"/>
          <a:stretch/>
        </p:blipFill>
        <p:spPr>
          <a:xfrm>
            <a:off x="4788000" y="3541680"/>
            <a:ext cx="3313080" cy="245268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24456"/>
                </a:solidFill>
                <a:latin typeface="Trebuchet MS"/>
              </a:rPr>
              <a:t>Sentarse al borde de la cama</a:t>
            </a:r>
            <a:r>
              <a:rPr b="0" lang="es-ES_tradnl" sz="36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3" name="Picture 5" descr="sentars"/>
          <p:cNvPicPr/>
          <p:nvPr/>
        </p:nvPicPr>
        <p:blipFill>
          <a:blip r:embed="rId2"/>
          <a:stretch/>
        </p:blipFill>
        <p:spPr>
          <a:xfrm>
            <a:off x="900000" y="3165480"/>
            <a:ext cx="3095640" cy="249552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14" name="Picture 7" descr="sentars2"/>
          <p:cNvPicPr/>
          <p:nvPr/>
        </p:nvPicPr>
        <p:blipFill>
          <a:blip r:embed="rId3"/>
          <a:stretch/>
        </p:blipFill>
        <p:spPr>
          <a:xfrm>
            <a:off x="4716360" y="3166920"/>
            <a:ext cx="3095640" cy="286416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Traslado de la cama a la silla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6" name="Picture 5" descr="trasladoc_s"/>
          <p:cNvPicPr/>
          <p:nvPr/>
        </p:nvPicPr>
        <p:blipFill>
          <a:blip r:embed="rId1"/>
          <a:stretch/>
        </p:blipFill>
        <p:spPr>
          <a:xfrm>
            <a:off x="971640" y="1484280"/>
            <a:ext cx="3095640" cy="268920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17" name="Picture 7" descr="traslado2c_s"/>
          <p:cNvPicPr/>
          <p:nvPr/>
        </p:nvPicPr>
        <p:blipFill>
          <a:blip r:embed="rId2"/>
          <a:stretch/>
        </p:blipFill>
        <p:spPr>
          <a:xfrm>
            <a:off x="4932360" y="3024360"/>
            <a:ext cx="3240000" cy="272232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424456"/>
                </a:solidFill>
                <a:latin typeface="Trebuchet MS"/>
              </a:rPr>
              <a:t>Atención del paciente hospitalizado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3640" y="3141360"/>
            <a:ext cx="835164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da usuario es un ser individual, con características  tan diversas y variadas como son las personas, sus familias o comunidad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da uno de ellos tendrá diversos problemas de salud que debemos identificar en un todo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4" descr="MCj02908870000[1]"/>
          <p:cNvPicPr/>
          <p:nvPr/>
        </p:nvPicPr>
        <p:blipFill>
          <a:blip r:embed="rId1"/>
          <a:stretch/>
        </p:blipFill>
        <p:spPr>
          <a:xfrm>
            <a:off x="3132000" y="1486080"/>
            <a:ext cx="26798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Levantarse de una silla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9" name="Picture 6" descr="levant"/>
          <p:cNvPicPr/>
          <p:nvPr/>
        </p:nvPicPr>
        <p:blipFill>
          <a:blip r:embed="rId1"/>
          <a:stretch/>
        </p:blipFill>
        <p:spPr>
          <a:xfrm>
            <a:off x="2340000" y="2530440"/>
            <a:ext cx="4127400" cy="327492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6" descr=""/>
          <p:cNvPicPr/>
          <p:nvPr/>
        </p:nvPicPr>
        <p:blipFill>
          <a:blip r:embed="rId1"/>
          <a:srcRect l="0" t="6982" r="1022" b="2349"/>
          <a:stretch/>
        </p:blipFill>
        <p:spPr>
          <a:xfrm>
            <a:off x="611280" y="95400"/>
            <a:ext cx="7993080" cy="660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Enfermería básica y satisfacción de necesidade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000" y="1989000"/>
            <a:ext cx="8435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biológic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oxígeno, nutrientes, eliminación, higiene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emperatura, reposo y sueño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Psicosocial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pertenencia, seguridad, limpieza, comunicación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tc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Enfermería Básica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idados de higiene corpor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idados matutin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idados vespertino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años en ca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año en tina o duch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igiene buca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avado de cabeza en cam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asurado de barb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igiene genita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avado de manos y pies - recorte de uña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6" descr="MCj02178980000[1]"/>
          <p:cNvPicPr/>
          <p:nvPr/>
        </p:nvPicPr>
        <p:blipFill>
          <a:blip r:embed="rId1"/>
          <a:stretch/>
        </p:blipFill>
        <p:spPr>
          <a:xfrm>
            <a:off x="6156360" y="2133720"/>
            <a:ext cx="2448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banno1"/>
          <p:cNvPicPr/>
          <p:nvPr/>
        </p:nvPicPr>
        <p:blipFill>
          <a:blip r:embed="rId1"/>
          <a:stretch/>
        </p:blipFill>
        <p:spPr>
          <a:xfrm>
            <a:off x="900000" y="1125360"/>
            <a:ext cx="257184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9" name="Picture 7" descr="banno2"/>
          <p:cNvPicPr/>
          <p:nvPr/>
        </p:nvPicPr>
        <p:blipFill>
          <a:blip r:embed="rId2"/>
          <a:stretch/>
        </p:blipFill>
        <p:spPr>
          <a:xfrm>
            <a:off x="5219640" y="1125360"/>
            <a:ext cx="256212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0" name="Picture 9" descr="banno3"/>
          <p:cNvPicPr/>
          <p:nvPr/>
        </p:nvPicPr>
        <p:blipFill>
          <a:blip r:embed="rId3"/>
          <a:stretch/>
        </p:blipFill>
        <p:spPr>
          <a:xfrm>
            <a:off x="900000" y="4005360"/>
            <a:ext cx="2590920" cy="199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1" name="Picture 11" descr="banno4"/>
          <p:cNvPicPr/>
          <p:nvPr/>
        </p:nvPicPr>
        <p:blipFill>
          <a:blip r:embed="rId4"/>
          <a:stretch/>
        </p:blipFill>
        <p:spPr>
          <a:xfrm>
            <a:off x="5292720" y="4005360"/>
            <a:ext cx="2616120" cy="194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24456"/>
                </a:solidFill>
                <a:latin typeface="Trebuchet MS"/>
              </a:rPr>
              <a:t>Baño en cam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cabeza"/>
          <p:cNvPicPr/>
          <p:nvPr/>
        </p:nvPicPr>
        <p:blipFill>
          <a:blip r:embed="rId1"/>
          <a:stretch/>
        </p:blipFill>
        <p:spPr>
          <a:xfrm>
            <a:off x="2195640" y="1343160"/>
            <a:ext cx="5040360" cy="50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Lavado de pelo en cam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Lavado de p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6" name="Picture 4" descr="pies"/>
          <p:cNvPicPr/>
          <p:nvPr/>
        </p:nvPicPr>
        <p:blipFill>
          <a:blip r:embed="rId1"/>
          <a:stretch/>
        </p:blipFill>
        <p:spPr>
          <a:xfrm>
            <a:off x="1403280" y="1849320"/>
            <a:ext cx="6264360" cy="39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21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Mi cuidado de enfermería</a:t>
            </a:r>
            <a:br>
              <a:rPr sz="4000"/>
            </a:b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 debo registrarlo siemp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8" name="Picture 7" descr="Dibuj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773360"/>
            <a:ext cx="396072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IMPORTANCIA DE LOS REGISTRO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 NO ESTÁ ESCRITO, NO ESTÁ HECHO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JUDICI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DICACIÓN CONSIG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CCIÓN REALIZ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METROS Y VALOR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Picture 4" descr="MCj02980630000[1]"/>
          <p:cNvPicPr/>
          <p:nvPr/>
        </p:nvPicPr>
        <p:blipFill>
          <a:blip r:embed="rId1"/>
          <a:stretch/>
        </p:blipFill>
        <p:spPr>
          <a:xfrm>
            <a:off x="6804000" y="3645000"/>
            <a:ext cx="1270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6:53:42Z</dcterms:created>
  <dc:creator>Bj</dc:creator>
  <dc:description/>
  <dc:language>en-US</dc:language>
  <cp:lastModifiedBy>Pablo</cp:lastModifiedBy>
  <dcterms:modified xsi:type="dcterms:W3CDTF">2011-11-03T23:23:05Z</dcterms:modified>
  <cp:revision>19</cp:revision>
  <dc:subject/>
  <dc:title>Ingreso de un paciente a la atención pública </dc:title>
</cp:coreProperties>
</file>