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5CD-E4F7-438B-90B0-3014DA0D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6AE-26D9-4208-8F53-4A2F0B0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5C8-0913-4297-AE12-1BD9FE7E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685-3A1B-4BC3-BBE3-BCBE4F8A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7C43-1E96-4862-8744-23627671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5DAD-907C-4166-B10A-50D0E74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F05D-9E7F-420D-A9A0-2A33FBD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0BC1-F9D9-4DD3-A312-6E54AC7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D8D-3BBC-45F1-BA03-6A7A59A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31F1-1D1D-4C38-8B57-47C81338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FBD-C7A8-45F8-966C-7594E80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6E8-67AC-40C8-9A56-DF52586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5CA-B112-4BCC-8549-F894C86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49A-983E-447C-BD0C-2E37A97E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9FD3-A75F-4D4F-AEC1-51EA23B9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B29-1565-4DC9-B76D-AE73759D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726-FEEB-48EF-9248-C9AFB26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4E9FC-C3C6-44F7-AD22-77F8B8B5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AD844-BE62-4056-B01C-9C259CE9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4527-DDAC-437C-A5A2-18B1B91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4E006-A922-40D6-9A43-1D52D1E0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91B2C-2D81-4351-8B7D-3F6C2F1B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1FE-7C07-45C1-AD83-EC909B8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76FD3-EA36-4CB3-9194-E61E8C9F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1840D-0ACE-4F34-BD70-857E7C7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1FAC3-8250-4AB2-A82C-C5E4F99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2946A-C0A8-4FBF-8568-F87C20B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915F6-0B7A-449D-911F-7179DD0D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07C6E-CADC-43E6-9D33-A0EE8596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0C527-7527-49A3-A65C-26A29B48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83BD-0D63-4081-9F38-9626B140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7F88-0138-4AEB-A84F-063707C0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9836-47EC-49D8-89E2-F0F261E8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348-134F-49B8-BEE4-5C0A0A8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A03B-24EB-4C12-8787-897D22C4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97F2-472D-4480-BECA-76D21D6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D38B-D3A9-4838-8BE2-DB80B448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D137-FAFE-464B-9613-250E15F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18E8-FA24-49B8-B2DC-81F42469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C927-F247-4E39-AA1D-D365554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0DE5-BD97-4F4F-9782-A234105F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3CF9F-3D65-42A4-B21C-38AFF884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FC9F-5599-4E83-8185-864A0526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C5BC-A0C3-4D48-9087-2FA82004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A41-1966-46B0-97CE-5F11C8A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AEBA-C118-41C0-89C5-07E8578E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5556-7563-4B2E-A3FF-1641D9C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D096-F898-4753-82F0-B361C995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DD66-96C2-4869-B013-42DF8578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150B-08EB-4E1C-8E2F-448AA1AD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4B4BA-805A-47A6-AA6A-0CC3855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26996-A05B-4F00-82DF-83BA07F8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A00E4-9C3F-49D4-8584-54E017B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61089-2926-4A24-B4B0-EADD26FE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5436-C4FC-419B-BF59-59CC2B2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655-D623-4656-BC4E-17925B93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278A-AFA4-422A-ACB9-22CB5720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C5B-B379-4FE5-85CD-42AAC87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8CB-0B73-4C45-9427-9C74777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8A0-66C4-4465-9D09-04C183D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FE34-0EDE-491C-9AA9-D060052E4CE1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210E-02D1-4965-96A0-1DCEEEB2470F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784-7F3A-4863-B741-90AD93B5FDF3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F83-1C25-44FC-BB99-B14154AAB01C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0EE4-4D93-41C9-9CE7-F3AD01E28F06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spitalcruces.com/salud/movilizaciondelpaciente.htm#up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kNvjIGlOFRo/Seorx5n2tpI/AAAAAAAAAEQ/e8yLo9QtRSQ/s1600-h/Dibuj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vilización y cuidados del paciente hospitalizad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124000" y="465264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24456"/>
                </a:solidFill>
                <a:latin typeface="Georgia"/>
              </a:rPr>
              <a:t>Karen De la ho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24456"/>
                </a:solidFill>
                <a:latin typeface="Georgia"/>
              </a:rPr>
              <a:t>Enfermer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24456"/>
                </a:solidFill>
                <a:latin typeface="Trebuchet MS"/>
              </a:rPr>
              <a:t>Movilización y cuidados  del paciente hospitalizad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12" descr="Información útil paciente y usuario"/>
          <p:cNvPicPr/>
          <p:nvPr/>
        </p:nvPicPr>
        <p:blipFill>
          <a:blip r:embed="rId1"/>
          <a:stretch/>
        </p:blipFill>
        <p:spPr>
          <a:xfrm>
            <a:off x="2627280" y="2349360"/>
            <a:ext cx="4249800" cy="364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Movilización y cuidados  del paciente hospitalizado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242100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  movilización es un procedimiento que se emplea en enfermos encamado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á determinado por el estado de salud del pacient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CuidadosyRegistros                  29e       4"/>
          <p:cNvPicPr/>
          <p:nvPr/>
        </p:nvPicPr>
        <p:blipFill>
          <a:blip r:embed="rId1"/>
          <a:stretch/>
        </p:blipFill>
        <p:spPr>
          <a:xfrm>
            <a:off x="1476360" y="1628640"/>
            <a:ext cx="6288120" cy="470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24456"/>
                </a:solidFill>
                <a:latin typeface="Trebuchet MS"/>
              </a:rPr>
              <a:t>Consideraciones previ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Consideraciones previa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s limitaciones o incapacidad de movilización del pacie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po de movilización que requiere y personas necesari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mitir y estimular la cooperación de la persona cuando es factibl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teger conexiones: sondas, drenajes, colectores, et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Objetivos del cambio de posición o movilización en cama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porcionar comodidad al pacie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venir úlceras de decúbit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tribuir en la prevención de flebotrombos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avorecer la movilización y eliminación de secrecion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Colocación de la "chata"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3" name="Picture 5" descr="chata"/>
          <p:cNvPicPr/>
          <p:nvPr/>
        </p:nvPicPr>
        <p:blipFill>
          <a:blip r:embed="rId1"/>
          <a:stretch/>
        </p:blipFill>
        <p:spPr>
          <a:xfrm>
            <a:off x="2987640" y="4249800"/>
            <a:ext cx="2736720" cy="219060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04" name="Picture 7" descr="chata2"/>
          <p:cNvPicPr/>
          <p:nvPr/>
        </p:nvPicPr>
        <p:blipFill>
          <a:blip r:embed="rId2"/>
          <a:stretch/>
        </p:blipFill>
        <p:spPr>
          <a:xfrm>
            <a:off x="684360" y="1882800"/>
            <a:ext cx="3046320" cy="195264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05" name="Picture 9" descr="chata3"/>
          <p:cNvPicPr/>
          <p:nvPr/>
        </p:nvPicPr>
        <p:blipFill>
          <a:blip r:embed="rId3"/>
          <a:stretch/>
        </p:blipFill>
        <p:spPr>
          <a:xfrm>
            <a:off x="4932360" y="1865160"/>
            <a:ext cx="2735280" cy="195588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Subir hacia la cabecera de la cam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Picture 7" descr="subir1"/>
          <p:cNvPicPr/>
          <p:nvPr/>
        </p:nvPicPr>
        <p:blipFill>
          <a:blip r:embed="rId1"/>
          <a:stretch/>
        </p:blipFill>
        <p:spPr>
          <a:xfrm>
            <a:off x="1332000" y="2733840"/>
            <a:ext cx="3095640" cy="24955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08" name="Picture 9" descr="subir2"/>
          <p:cNvPicPr/>
          <p:nvPr/>
        </p:nvPicPr>
        <p:blipFill>
          <a:blip r:embed="rId2"/>
          <a:stretch/>
        </p:blipFill>
        <p:spPr>
          <a:xfrm>
            <a:off x="5219640" y="2708280"/>
            <a:ext cx="3168720" cy="243828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Giro o volteo lateral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0" name="Picture 5" descr="giro"/>
          <p:cNvPicPr/>
          <p:nvPr/>
        </p:nvPicPr>
        <p:blipFill>
          <a:blip r:embed="rId1"/>
          <a:stretch/>
        </p:blipFill>
        <p:spPr>
          <a:xfrm>
            <a:off x="971640" y="3500280"/>
            <a:ext cx="3168720" cy="243864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11" name="Picture 7" descr="giro2"/>
          <p:cNvPicPr/>
          <p:nvPr/>
        </p:nvPicPr>
        <p:blipFill>
          <a:blip r:embed="rId2"/>
          <a:stretch/>
        </p:blipFill>
        <p:spPr>
          <a:xfrm>
            <a:off x="4788000" y="3541680"/>
            <a:ext cx="3313080" cy="245268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24456"/>
                </a:solidFill>
                <a:latin typeface="Trebuchet MS"/>
              </a:rPr>
              <a:t>Sentarse al borde de la cama</a:t>
            </a:r>
            <a:r>
              <a:rPr b="0" lang="es-ES_tradnl" sz="36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3" name="Picture 5" descr="sentars"/>
          <p:cNvPicPr/>
          <p:nvPr/>
        </p:nvPicPr>
        <p:blipFill>
          <a:blip r:embed="rId2"/>
          <a:stretch/>
        </p:blipFill>
        <p:spPr>
          <a:xfrm>
            <a:off x="900000" y="3165480"/>
            <a:ext cx="3095640" cy="24955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14" name="Picture 7" descr="sentars2"/>
          <p:cNvPicPr/>
          <p:nvPr/>
        </p:nvPicPr>
        <p:blipFill>
          <a:blip r:embed="rId3"/>
          <a:stretch/>
        </p:blipFill>
        <p:spPr>
          <a:xfrm>
            <a:off x="4716360" y="3166920"/>
            <a:ext cx="3095640" cy="286416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Traslado de la cama a la sill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6" name="Picture 5" descr="trasladoc_s"/>
          <p:cNvPicPr/>
          <p:nvPr/>
        </p:nvPicPr>
        <p:blipFill>
          <a:blip r:embed="rId1"/>
          <a:stretch/>
        </p:blipFill>
        <p:spPr>
          <a:xfrm>
            <a:off x="971640" y="1484280"/>
            <a:ext cx="3095640" cy="268920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  <p:pic>
        <p:nvPicPr>
          <p:cNvPr id="317" name="Picture 7" descr="traslado2c_s"/>
          <p:cNvPicPr/>
          <p:nvPr/>
        </p:nvPicPr>
        <p:blipFill>
          <a:blip r:embed="rId2"/>
          <a:stretch/>
        </p:blipFill>
        <p:spPr>
          <a:xfrm>
            <a:off x="4932360" y="3024360"/>
            <a:ext cx="3240000" cy="27223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24456"/>
                </a:solidFill>
                <a:latin typeface="Trebuchet MS"/>
              </a:rPr>
              <a:t>Atención del paciente hospitalizad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3516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da usuario es un ser individual, con características  tan diversas y variadas como son las personas, sus familias o comunidad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da uno de ellos tendrá diversos problemas de salud que debemos identificar en un tod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4" descr="MCj02908870000[1]"/>
          <p:cNvPicPr/>
          <p:nvPr/>
        </p:nvPicPr>
        <p:blipFill>
          <a:blip r:embed="rId1"/>
          <a:stretch/>
        </p:blipFill>
        <p:spPr>
          <a:xfrm>
            <a:off x="3132000" y="1486080"/>
            <a:ext cx="267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Levantarse de una sill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9" name="Picture 6" descr="levant"/>
          <p:cNvPicPr/>
          <p:nvPr/>
        </p:nvPicPr>
        <p:blipFill>
          <a:blip r:embed="rId1"/>
          <a:stretch/>
        </p:blipFill>
        <p:spPr>
          <a:xfrm>
            <a:off x="2340000" y="2530440"/>
            <a:ext cx="4127400" cy="3274920"/>
          </a:xfrm>
          <a:prstGeom prst="rect">
            <a:avLst/>
          </a:prstGeom>
          <a:ln w="2844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"/>
          <p:cNvPicPr/>
          <p:nvPr/>
        </p:nvPicPr>
        <p:blipFill>
          <a:blip r:embed="rId1"/>
          <a:srcRect l="0" t="6982" r="1022" b="2349"/>
          <a:stretch/>
        </p:blipFill>
        <p:spPr>
          <a:xfrm>
            <a:off x="611280" y="95400"/>
            <a:ext cx="7993080" cy="660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Enfermería básica y satisfacción de necesidad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000" y="198900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biológ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oxígeno, nutrientes, eliminación, higiene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emperatura, reposo y sueño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Psicosocial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pertenencia, seguridad, limpieza, comunicación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tc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Enfermería Básica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idados de higiene corpor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idados matutin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idados vespertino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ños en ca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ño en tina o duch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igiene buca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vado de cabeza en cam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asurado de barb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igiene genita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avado de manos y pies - recorte de uña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6" descr="MCj02178980000[1]"/>
          <p:cNvPicPr/>
          <p:nvPr/>
        </p:nvPicPr>
        <p:blipFill>
          <a:blip r:embed="rId1"/>
          <a:stretch/>
        </p:blipFill>
        <p:spPr>
          <a:xfrm>
            <a:off x="6156360" y="2133720"/>
            <a:ext cx="2448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banno1"/>
          <p:cNvPicPr/>
          <p:nvPr/>
        </p:nvPicPr>
        <p:blipFill>
          <a:blip r:embed="rId1"/>
          <a:stretch/>
        </p:blipFill>
        <p:spPr>
          <a:xfrm>
            <a:off x="900000" y="1125360"/>
            <a:ext cx="25718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9" name="Picture 7" descr="banno2"/>
          <p:cNvPicPr/>
          <p:nvPr/>
        </p:nvPicPr>
        <p:blipFill>
          <a:blip r:embed="rId2"/>
          <a:stretch/>
        </p:blipFill>
        <p:spPr>
          <a:xfrm>
            <a:off x="5219640" y="1125360"/>
            <a:ext cx="256212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0" name="Picture 9" descr="banno3"/>
          <p:cNvPicPr/>
          <p:nvPr/>
        </p:nvPicPr>
        <p:blipFill>
          <a:blip r:embed="rId3"/>
          <a:stretch/>
        </p:blipFill>
        <p:spPr>
          <a:xfrm>
            <a:off x="900000" y="4005360"/>
            <a:ext cx="259092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1" name="Picture 11" descr="banno4"/>
          <p:cNvPicPr/>
          <p:nvPr/>
        </p:nvPicPr>
        <p:blipFill>
          <a:blip r:embed="rId4"/>
          <a:stretch/>
        </p:blipFill>
        <p:spPr>
          <a:xfrm>
            <a:off x="5292720" y="4005360"/>
            <a:ext cx="261612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24456"/>
                </a:solidFill>
                <a:latin typeface="Trebuchet MS"/>
              </a:rPr>
              <a:t>Baño en ca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abeza"/>
          <p:cNvPicPr/>
          <p:nvPr/>
        </p:nvPicPr>
        <p:blipFill>
          <a:blip r:embed="rId1"/>
          <a:stretch/>
        </p:blipFill>
        <p:spPr>
          <a:xfrm>
            <a:off x="2195640" y="1343160"/>
            <a:ext cx="5040360" cy="50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Lavado de pelo en ca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Lavado de p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4" descr="pies"/>
          <p:cNvPicPr/>
          <p:nvPr/>
        </p:nvPicPr>
        <p:blipFill>
          <a:blip r:embed="rId1"/>
          <a:stretch/>
        </p:blipFill>
        <p:spPr>
          <a:xfrm>
            <a:off x="1403280" y="1849320"/>
            <a:ext cx="6264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2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Mi cuidado de enfermería</a:t>
            </a:r>
            <a:br>
              <a:rPr sz="4000"/>
            </a:br>
            <a:r>
              <a:rPr b="0" lang="es-ES_tradnl" sz="4000" spc="-1" strike="noStrike">
                <a:solidFill>
                  <a:srgbClr val="424456"/>
                </a:solidFill>
                <a:latin typeface="Trebuchet MS"/>
              </a:rPr>
              <a:t> debo registrarlo siemp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8" name="Picture 7" descr="Dibuj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73360"/>
            <a:ext cx="396072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24456"/>
                </a:solidFill>
                <a:latin typeface="Trebuchet MS"/>
              </a:rPr>
              <a:t>IMPORTANCIA DE LOS REGISTRO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 NO ESTÁ ESCRITO, NO ESTÁ HECHO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JUDICI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CIÓN CONSIG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CIÓN REALIZ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METROS Y VALO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4" descr="MCj02980630000[1]"/>
          <p:cNvPicPr/>
          <p:nvPr/>
        </p:nvPicPr>
        <p:blipFill>
          <a:blip r:embed="rId1"/>
          <a:stretch/>
        </p:blipFill>
        <p:spPr>
          <a:xfrm>
            <a:off x="6804000" y="3645000"/>
            <a:ext cx="127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6:53:42Z</dcterms:created>
  <dc:creator>Bj</dc:creator>
  <dc:description/>
  <dc:language>en-US</dc:language>
  <cp:lastModifiedBy>Pablo</cp:lastModifiedBy>
  <dcterms:modified xsi:type="dcterms:W3CDTF">2011-11-03T23:23:05Z</dcterms:modified>
  <cp:revision>19</cp:revision>
  <dc:subject/>
  <dc:title>Ingreso de un paciente a la atención pública </dc:title>
</cp:coreProperties>
</file>