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F866-13EA-4BBD-9C1E-237D13B9B7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42B-B493-4EF8-826F-BDE56AD512D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769-C661-4BB7-B337-77DAD69490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B4A-1783-4159-A18A-FD6A7F4E156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1EF-B647-4348-BE9B-128872E757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3A6-01ED-47A5-87BE-41BABA1E095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842-EB95-4C65-9DC4-2E9FD566FB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A7DE-3450-4EF2-B49D-BACAADB198E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225F-AB64-474C-A79C-274D5B8520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3574-5167-4FFC-92B9-612DDEDBD91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606-CBFF-49AA-BC59-EA2DCAA345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7B4-9BA8-4389-8732-61E6D676321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DE75-0968-492C-A34C-3F495B2CE4F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62F3-EBF2-40AB-AA1B-5C42A7016D3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F8D-64ED-4127-BDBD-F8348202409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13A-3D6A-4C77-912B-EFCA2648502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4075-56B3-4A78-A82B-C8D111D4EE0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88FC-04A3-484D-A642-2205B7FE494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5EE-1B41-4171-AD7F-E76293056C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842-90D4-4B0A-8967-8DA48403AE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679-EE96-4086-9286-2DEBA4251C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F21-D6A8-4A95-A0F3-CB90BFC166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B76-068F-4626-B3E5-C3805DFA6D0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D9F-66D3-43D5-859E-46C203871C6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1B1A-8BB3-479F-BD7E-C81E368649E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DFE-CA9B-4377-B739-E78CDFC987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E12D-0C5F-4DBE-BBC7-8D601267D8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202-B4A9-4EAA-9C2F-F002A10BF61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E6E-E6E8-43C7-B16D-9AA2BFCC0E3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57D-7AAA-4E87-BD44-AD58DE40C9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362-126D-4CBF-84B6-1BBDD88CB2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9264-14C5-4EBE-8CED-9D34AF36E1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41F-C511-4B5F-B644-7886DB0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75B-4EF0-4959-84F0-C9A8E076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9D3-73E3-4B55-9BFD-AEE3F085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ADE-A303-43C2-8916-60F898E4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AD8F-78B9-4B99-9527-B833BF4F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20C-8476-4043-B535-1A9D38B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00F-FE9B-42E2-8222-970CBF2A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D270-9E60-4A55-95E6-6344E45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BE5-6254-4EFD-985A-6F73ACE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B26-EC42-46FE-97D4-1E9CD42A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B5D-AE7D-4537-BA04-60098EB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99B-0164-47F9-8AA4-AB60882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B429-CB41-4C9C-BC89-2F77D11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3DC-2D71-4CD7-AD44-D9F2101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054-E6DF-4534-A529-4FE7523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2EA-5E6D-4A63-8A32-5D867F0E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B42-5A95-46A3-91DB-E24F77D1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D37-9DB4-4CDA-B17B-02D32DD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11F-1325-4832-8757-2D06336D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71A-186B-4866-AA46-975D1958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721-C99E-4DCA-BECF-2D23B4C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756-8405-4B9E-8CF0-19B8EF3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2B1-6D05-4721-BB60-C67A662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F57-0571-44B8-8FAC-E1D0E24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BA9-5B46-4D9F-BB1E-2102C2F064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C14-08FB-404C-8DF0-FFE7007608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ecsaddd.com/img/desinfeccion.jpg&amp;imgrefurl=http://www.cecsaddd.com/desinfecta.php&amp;h=233&amp;w=200&amp;sz=32&amp;hl=es&amp;start=9&amp;um=1&amp;tbnid=ayQbFBkQh-ntyM:&amp;tbnh=109&amp;tbnw=94&amp;prev=/images%3Fq%3Ddesinfeccion%26svnum%3D10%26um%3D1%26hl%3Des%26cr%3DcountryC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mg297.imageshack.us/img297/3205/caballeroscompleto11rp.jpg&amp;imgrefurl=http://escuelajuridica.blogspot.com/2005/11/mesa-redonda.html&amp;h=531&amp;w=709&amp;sz=433&amp;hl=es&amp;start=1&amp;tbnid=Br4a-dKqSNiFNM:&amp;tbnh=105&amp;tbnw=140&amp;prev=/images%3Fq%3Dmesa%2Bredonda%26gbv%3D2%26svnum%3D10%26hl%3Des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C3E1-E0D9-46A2-B6FC-D2F70D9739D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402920" y="4869000"/>
            <a:ext cx="6782040" cy="1224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ocente: Srta. Lucía To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U. Encargada Unidad Coronaria (U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SJ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82692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ASEPSIA , ANTISEPSIA </a:t>
            </a: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Y </a:t>
            </a:r>
            <a:br>
              <a:rPr sz="6600"/>
            </a:br>
            <a:r>
              <a:rPr b="0" lang="es-CL" sz="6600" spc="-1" strike="noStrike">
                <a:solidFill>
                  <a:srgbClr val="ccecff"/>
                </a:solidFill>
                <a:latin typeface="Arial"/>
              </a:rPr>
              <a:t>DESINFECCIÓN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33EB-C41C-43E1-9399-53DC166FCE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250920" y="2492280"/>
            <a:ext cx="4321080" cy="3529080"/>
          </a:xfrm>
          <a:prstGeom prst="cloudCallout">
            <a:avLst>
              <a:gd name="adj1" fmla="val 31412"/>
              <a:gd name="adj2" fmla="val -8459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ÉCNICA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ÉPTICA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Métodos para prevenir la contaminación con microorganismos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4427640" y="2133720"/>
            <a:ext cx="4176720" cy="3816360"/>
          </a:xfrm>
          <a:prstGeom prst="cloudCallout">
            <a:avLst>
              <a:gd name="adj1" fmla="val -25560"/>
              <a:gd name="adj2" fmla="val -7329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ÉCNICA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TÉR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étodos para prevenir la contaminación por M.O y mantener la esterilidad durante el procedimiento quirúrgico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FA1-C89E-47F3-AE3D-6B8215C796B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0" y="1773360"/>
            <a:ext cx="4500720" cy="4465440"/>
          </a:xfrm>
          <a:prstGeom prst="cloudCallout">
            <a:avLst>
              <a:gd name="adj1" fmla="val 40759"/>
              <a:gd name="adj2" fmla="val -6212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FLORA MICROBIANA RESID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Población microbiológica estable de la piel, compuesta por microorganismos que crecen, se multiplican y permanecen en un nivel estable en la piel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067280" y="1484280"/>
            <a:ext cx="5076720" cy="5373720"/>
          </a:xfrm>
          <a:prstGeom prst="cloudCallout">
            <a:avLst>
              <a:gd name="adj1" fmla="val -19388"/>
              <a:gd name="adj2" fmla="val -544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FLORA MICROBIANA TRANSI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ormada por M.O que se encuentran en la piel pero sin multiplicarse, muy variado en el tipo y cantidad de ellos. No se reproducen, la mayoría muere o desaparece por efecto mecánico o con el lavado habitual de la pi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BE2-175C-4302-A2C5-9C00571422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324000" y="1916280"/>
            <a:ext cx="8064360" cy="4752720"/>
          </a:xfrm>
          <a:prstGeom prst="cloudCallout">
            <a:avLst>
              <a:gd name="adj1" fmla="val 2481"/>
              <a:gd name="adj2" fmla="val -6476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ENFERMEDAD TRANSM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fermedad causada por un agente infeccioso específico o sus productos tóx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La responsabilidad de los profesion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Mantener normas de calidad de la atención, educar a la población en promoción de conductas de autocui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6C4-69B3-43B6-891D-B47DE882784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desinfecc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12F-2CA4-4F45-94A3-B7D9410C4CE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Limpi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539640" y="2565360"/>
            <a:ext cx="8209080" cy="3527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la eliminación mecánica por arra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agentes infecciosos y sustancias orgánic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superficies en las cuales los M.O pueden encont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diciones favorables para sobrevivir y multiplica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realizarse a diario en todos los Servic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í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 rot="1022400">
            <a:off x="3635280" y="1197000"/>
            <a:ext cx="1324080" cy="1157400"/>
          </a:xfrm>
          <a:custGeom>
            <a:avLst/>
            <a:gdLst>
              <a:gd name="textAreaLeft" fmla="*/ 231480 w 1324080"/>
              <a:gd name="textAreaRight" fmla="*/ 960120 w 1324080"/>
              <a:gd name="textAreaTop" fmla="*/ 154800 h 1157400"/>
              <a:gd name="textAreaBottom" fmla="*/ 1002600 h 11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47CF-B842-492D-8614-787005BB92E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68360" y="2708280"/>
            <a:ext cx="8207280" cy="36003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oceso que elimina los M.O patógenos (no espor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que se encuentran en objetos inanim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 una medida intermedia entre la limpieza y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teri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e efectúa mediante la aplicación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gentes quím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 rot="811800">
            <a:off x="3924000" y="1197000"/>
            <a:ext cx="1295280" cy="115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54080 h 1152360"/>
              <a:gd name="textAreaBottom" fmla="*/ 9982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459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EE5-6190-4D13-98C1-0F7C4E123D2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CLASIFICACIÓN DE LOS DESINFECTANTES SEGÚ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EL TIPO DE AGENTE QUE DESTRUY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9A64-ED84-46A1-8B4A-C9FF2D00E34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de Alto Niv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pleo de un procedimiento químico con el que se consigue destruir todos los microorganismos, excepto esporas bacterian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procedimiento se deja exclusivamente para aquel material semicrítico termosensible que no puede ser esterilizado en los métodos tradicionales, como los endoscop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más utilizados so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Yodófo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Formaldehíd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Glutaraldehí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AA7-EC9C-4AD9-BA1A-CAF66E92A9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Nivel Interme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mpleo de un procedimiento químico con el que se consigue inactivar todas las formas bacterianas vegetativas, el complejo Mycobacterium tuberculosis, así como la mayoría de los virus y hongos, pero que no asegura necesariamente la destrucción de esporas bacteria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88E-FE6E-44E8-BDA5-9A6FFF1A446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de Bajo Nivel</a:t>
            </a: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mpleo de un procedimiento químico con el que se pueden destruir la mayor parte de las formas vegetativas bacterianas, algunos virus y hongos, pero no el Mycobacterium tuberculosis ni las esporas bacteria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jemplo: uso de alcohol 70° en elementos de oxigen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EF3-7D7C-48E1-B1D6-AC6A1175D67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40268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8" descr="Grabado alegorico sobre la Peste"/>
          <p:cNvPicPr/>
          <p:nvPr/>
        </p:nvPicPr>
        <p:blipFill>
          <a:blip r:embed="rId1"/>
          <a:stretch/>
        </p:blipFill>
        <p:spPr>
          <a:xfrm>
            <a:off x="4932360" y="1628640"/>
            <a:ext cx="3384720" cy="4321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300px-Black_Death"/>
          <p:cNvPicPr/>
          <p:nvPr/>
        </p:nvPicPr>
        <p:blipFill>
          <a:blip r:embed="rId2"/>
          <a:stretch/>
        </p:blipFill>
        <p:spPr>
          <a:xfrm>
            <a:off x="900000" y="170028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4B6-6D17-4B6F-8601-620D5506BB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Cloud"/>
          <p:cNvSpPr/>
          <p:nvPr/>
        </p:nvSpPr>
        <p:spPr>
          <a:xfrm>
            <a:off x="1258920" y="765000"/>
            <a:ext cx="6553080" cy="5256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El grado de desinfección produ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pende esencialmente de la calidad y concentración del agente usado, de la naturaleza de la contaminación y del tiempo de expo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8EB-B417-4C12-BB87-506D3E4F2FB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Concurr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Cloud"/>
          <p:cNvSpPr/>
          <p:nvPr/>
        </p:nvSpPr>
        <p:spPr>
          <a:xfrm>
            <a:off x="468360" y="1628640"/>
            <a:ext cx="8064360" cy="4392720"/>
          </a:xfrm>
          <a:prstGeom prst="pi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Es aquella que se realiza diariamente mediante la aplicación de agentes desinfectantes. La desinfección concurrente siempre debe estar precedida de una limpiez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78A7-50D8-4B64-A17A-EB8BCB0CE5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Desinfección Termi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Cloud"/>
          <p:cNvSpPr/>
          <p:nvPr/>
        </p:nvSpPr>
        <p:spPr>
          <a:xfrm>
            <a:off x="539640" y="1700280"/>
            <a:ext cx="8209080" cy="4321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Es la que se realiza cuando el paciente hace abandono de la habitación o unidad. Esta desinfección incluye todos los elementos que están en la habitación. Además se realiza según calendarización en el resto de la planta física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de un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CE05-AC94-4230-A638-A598FAFCB5E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ff00"/>
                </a:solidFill>
                <a:latin typeface="Arial"/>
              </a:rPr>
              <a:t>Desinfecta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gentes que destruyen las formas vegetativas o en crecimiento de los microorganismos, eliminándolos por complet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bje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nanim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Panel_2"/>
          <p:cNvPicPr/>
          <p:nvPr/>
        </p:nvPicPr>
        <p:blipFill>
          <a:blip r:embed="rId1"/>
          <a:stretch/>
        </p:blipFill>
        <p:spPr>
          <a:xfrm>
            <a:off x="4643280" y="1557360"/>
            <a:ext cx="39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5" name="3 Marcador de contenido" descr="imagesCAA1SQ6T.jpg"/>
          <p:cNvPicPr/>
          <p:nvPr/>
        </p:nvPicPr>
        <p:blipFill>
          <a:blip r:embed="rId1"/>
          <a:stretch/>
        </p:blipFill>
        <p:spPr>
          <a:xfrm>
            <a:off x="971640" y="2492280"/>
            <a:ext cx="3816360" cy="3457800"/>
          </a:xfrm>
          <a:prstGeom prst="rect">
            <a:avLst/>
          </a:prstGeom>
          <a:ln w="0">
            <a:noFill/>
          </a:ln>
        </p:spPr>
      </p:pic>
      <p:pic>
        <p:nvPicPr>
          <p:cNvPr id="316" name="4 Imagen" descr="untitled.bmp"/>
          <p:cNvPicPr/>
          <p:nvPr/>
        </p:nvPicPr>
        <p:blipFill>
          <a:blip r:embed="rId2"/>
          <a:stretch/>
        </p:blipFill>
        <p:spPr>
          <a:xfrm>
            <a:off x="4140360" y="2133720"/>
            <a:ext cx="446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3 Marcador de contenido" descr="untitled2.bmp"/>
          <p:cNvPicPr/>
          <p:nvPr/>
        </p:nvPicPr>
        <p:blipFill>
          <a:blip r:embed="rId1"/>
          <a:stretch/>
        </p:blipFill>
        <p:spPr>
          <a:xfrm>
            <a:off x="1332000" y="256536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319" name="4 Imagen" descr="22.bmp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F136-1F22-4E0B-A7AB-4E69234CF2C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ff00"/>
                </a:solidFill>
                <a:latin typeface="Arial"/>
              </a:rPr>
              <a:t>Características de un Buen Desinfectan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destruir M.O patóge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ebe ser neutralizado por jabones, proteínas o deterg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ebe dañar la piel de quien lo ap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dañar el material o superficies en las que se util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 ser estable en 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6" descr="yogurt5"/>
          <p:cNvPicPr/>
          <p:nvPr/>
        </p:nvPicPr>
        <p:blipFill>
          <a:blip r:embed="rId1"/>
          <a:stretch/>
        </p:blipFill>
        <p:spPr>
          <a:xfrm>
            <a:off x="4643280" y="1557360"/>
            <a:ext cx="2089440" cy="2449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germsoap[1]"/>
          <p:cNvPicPr/>
          <p:nvPr/>
        </p:nvPicPr>
        <p:blipFill>
          <a:blip r:embed="rId2"/>
          <a:stretch/>
        </p:blipFill>
        <p:spPr>
          <a:xfrm>
            <a:off x="6699240" y="3716280"/>
            <a:ext cx="2049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2262-31C6-4C33-979C-EC5EFC4DD94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ff00"/>
                </a:solidFill>
                <a:latin typeface="Arial"/>
              </a:rPr>
              <a:t>Características Desinfectan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1600200"/>
          <a:ext cx="8362800" cy="4959360"/>
        </p:xfrm>
        <a:graphic>
          <a:graphicData uri="http://schemas.openxmlformats.org/drawingml/2006/table">
            <a:tbl>
              <a:tblPr/>
              <a:tblGrid>
                <a:gridCol w="1395360"/>
                <a:gridCol w="1392120"/>
                <a:gridCol w="1395720"/>
                <a:gridCol w="1392120"/>
                <a:gridCol w="1395360"/>
                <a:gridCol w="139212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RROS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FECTO RESIDU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ACTIVACION </a:t>
                      </a:r>
                      <a:r>
                        <a:rPr b="0" lang="es-E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TERIA ORGANICA</a:t>
                      </a: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RRITAN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XIC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 7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ldehido 4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o 0.5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lutaraldehido  2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9E4-2564-4F96-88A0-E61A00DF3D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"/>
              </a:rPr>
              <a:t>Antisé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900000" y="2060640"/>
            <a:ext cx="6912000" cy="3529080"/>
          </a:xfrm>
          <a:prstGeom prst="cloudCallout">
            <a:avLst>
              <a:gd name="adj1" fmla="val -1699"/>
              <a:gd name="adj2" fmla="val -75504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Arial"/>
              </a:rPr>
              <a:t>Agente germicida usado sobre la piel y tejido vivo para inhibir o eliminar los M.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3 Marcador de contenido" descr="untitled33.bmp"/>
          <p:cNvPicPr/>
          <p:nvPr/>
        </p:nvPicPr>
        <p:blipFill>
          <a:blip r:embed="rId1"/>
          <a:stretch/>
        </p:blipFill>
        <p:spPr>
          <a:xfrm>
            <a:off x="684360" y="1484280"/>
            <a:ext cx="2141280" cy="2143080"/>
          </a:xfrm>
          <a:prstGeom prst="rect">
            <a:avLst/>
          </a:prstGeom>
          <a:ln w="0">
            <a:noFill/>
          </a:ln>
        </p:spPr>
      </p:pic>
      <p:pic>
        <p:nvPicPr>
          <p:cNvPr id="333" name="4 Imagen" descr="untitled22.bmp"/>
          <p:cNvPicPr/>
          <p:nvPr/>
        </p:nvPicPr>
        <p:blipFill>
          <a:blip r:embed="rId2"/>
          <a:stretch/>
        </p:blipFill>
        <p:spPr>
          <a:xfrm>
            <a:off x="5580000" y="1413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34" name="5 Imagen" descr="imagesCAP0QOKX.jpg"/>
          <p:cNvPicPr/>
          <p:nvPr/>
        </p:nvPicPr>
        <p:blipFill>
          <a:blip r:embed="rId3"/>
          <a:stretch/>
        </p:blipFill>
        <p:spPr>
          <a:xfrm>
            <a:off x="2916360" y="3860640"/>
            <a:ext cx="2133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03F-61B4-4F00-9F76-744056E3CD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1" descr="Peste negra-21K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SE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Povidona yodada (7,5% - 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esto de yodo soluble en agua que permite una liberación gradual. Efecto residual de 4 horas y se inactiva en presencia de materia orgá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Clorhexidina (2% - 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duce la flora microbiana a los 15”.  Efecto residual de 6 horas, no se inactiva en presencia de materia orgánica. Tóxico para oídos y oj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Alcohol  (7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esto de efecto rápido y casi sin efectos adve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7F0-7236-4562-B297-932DDB0DB17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Características de un Buen Antisépt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n poder germic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mplio espectro antimicrobi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ción ráp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fecto acumul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ja inactivación en presencia de materia orgá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rgo efecto res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ja tox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sto raz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7" descr="ACF4A6"/>
          <p:cNvPicPr/>
          <p:nvPr/>
        </p:nvPicPr>
        <p:blipFill>
          <a:blip r:embed="rId1"/>
          <a:stretch/>
        </p:blipFill>
        <p:spPr>
          <a:xfrm>
            <a:off x="6588000" y="1557360"/>
            <a:ext cx="208764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su-7c"/>
          <p:cNvPicPr/>
          <p:nvPr/>
        </p:nvPicPr>
        <p:blipFill>
          <a:blip r:embed="rId2"/>
          <a:stretch/>
        </p:blipFill>
        <p:spPr>
          <a:xfrm>
            <a:off x="6588000" y="393372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F31-D131-4778-A5E6-58F61AE93E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57200" y="1600200"/>
          <a:ext cx="8229600" cy="4813200"/>
        </p:xfrm>
        <a:graphic>
          <a:graphicData uri="http://schemas.openxmlformats.org/drawingml/2006/table">
            <a:tbl>
              <a:tblPr/>
              <a:tblGrid>
                <a:gridCol w="1450800"/>
                <a:gridCol w="1584360"/>
                <a:gridCol w="1584360"/>
                <a:gridCol w="3610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centr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pec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ción    Persiste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ápida             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hexi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-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        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ntura de Y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ápida             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vidona Yo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5-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pl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        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iclosá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-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345" name="Line 125"/>
          <p:cNvSpPr/>
          <p:nvPr/>
        </p:nvSpPr>
        <p:spPr>
          <a:xfrm>
            <a:off x="6516720" y="170028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829-642D-4E97-9E35-29CC8F35F87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c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rrit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gu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activa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coho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secación de pi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flam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rhexi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j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ín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ntura de Y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flam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vidona Yo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gular (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 (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riclosá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íni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2FC9-FB5C-4075-A30F-B06025B7C6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gular actividad contra el bacilo de koch y algunos bacilos gram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 trabajos que muestran su actividad a los 15 s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ergias en individuos suscept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r con precaución en recién nacidos y quem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"/>
              </a:rPr>
              <a:t>Propiedades de Diferentes Antisép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cecff"/>
                </a:solidFill>
                <a:uFillTx/>
                <a:latin typeface="Arial"/>
              </a:rPr>
              <a:t>ESTERILIZ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ceso físico o químico que permite destruir microorganismos, incluidas las esporas y micobacteri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frece el máximo nivel de segur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Métodos de Esteriliz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Autocl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Método más costo-efectivo, actúa desnaturalizando las proteínas de los microorganism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Oxido de Eti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oceso químico capaz de esterilizar a baja temperatura, pero con un tiempo prolongado de exposició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Otros métodos de esteri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- Plasma de peróxido de hidrógeno, radiaciones ionizantes y gas de formaldehído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UTOCLA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autoclave-de-laboratorio-con-puerta-hidraulica-305058"/>
          <p:cNvPicPr/>
          <p:nvPr/>
        </p:nvPicPr>
        <p:blipFill>
          <a:blip r:embed="rId1"/>
          <a:stretch/>
        </p:blipFill>
        <p:spPr>
          <a:xfrm>
            <a:off x="2050920" y="2060640"/>
            <a:ext cx="523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OXIDO ETILE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5" descr="ANd9GcSml8zKbS0llIwhjUrl63SJbnqqB2V1KsXWSTJyVjQZRHZp96E&amp;t=1&amp;usg=__vNeGWV-gKoPDwcSePNISdaBxL9I="/>
          <p:cNvPicPr/>
          <p:nvPr/>
        </p:nvPicPr>
        <p:blipFill>
          <a:blip r:embed="rId1"/>
          <a:stretch/>
        </p:blipFill>
        <p:spPr>
          <a:xfrm>
            <a:off x="3571920" y="2895480"/>
            <a:ext cx="3333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SISTEMAS</a:t>
            </a:r>
            <a:br>
              <a:rPr sz="4000"/>
            </a:b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CONTROL DE ESTERILIZA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Fís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specie de termómetros que registra las temperaturas en una gráfica. Solo se registran en un lugar determinado del esterilizador, donde esta situado el sensor térmico, lo que puede inducir a err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03C1-C08F-4354-B3C8-5B7CC80DDA1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4360" y="4365720"/>
            <a:ext cx="309564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Determina la forma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Transmisión de la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fie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Puerp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Lavado de manos obli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gua, jabón, cepillo, cloro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435640" y="4365720"/>
            <a:ext cx="3313080" cy="180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Basados en los descu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brimientos de Pasteur, utili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l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cido fenico</a:t>
            </a: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, como m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sép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1692360" y="3213000"/>
            <a:ext cx="792000" cy="1130400"/>
          </a:xfrm>
          <a:prstGeom prst="downArrowCallout">
            <a:avLst>
              <a:gd name="adj1" fmla="val 25002"/>
              <a:gd name="adj2" fmla="val 25000"/>
              <a:gd name="adj3" fmla="val 23788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6659640" y="3141720"/>
            <a:ext cx="865080" cy="1201680"/>
          </a:xfrm>
          <a:prstGeom prst="downArrowCallout">
            <a:avLst>
              <a:gd name="adj1" fmla="val 25002"/>
              <a:gd name="adj2" fmla="val 25000"/>
              <a:gd name="adj3" fmla="val 23152"/>
              <a:gd name="adj4" fmla="val 6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826920" y="1700280"/>
            <a:ext cx="2735280" cy="1368360"/>
          </a:xfrm>
          <a:prstGeom prst="wedgeRoundRectCallout">
            <a:avLst>
              <a:gd name="adj1" fmla="val -40018"/>
              <a:gd name="adj2" fmla="val 14037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GNA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SEMMELW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(M. austro-húnga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80800" y="1679040"/>
            <a:ext cx="2534760" cy="1267920"/>
          </a:xfrm>
          <a:prstGeom prst="rect">
            <a:avLst/>
          </a:prstGeom>
          <a:blipFill rotWithShape="0">
            <a:blip r:embed="rId5"/>
            <a:stretch/>
          </a:blip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JOSE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LI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(C.Ingl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Quím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e llaman también indicadores colormétricos.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on tiras reactivas,  con dibujos compuestos de sales metálicas que cambian su color a determinadas temperaturas.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olo indican si la temperatura alcanzada es correcta o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Controles Biológicos: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nsisten en ampollas de vidrio o plástico que contienen en su interior esporas atenuadas de microorganismos no patológicos, pero muy resistentes a los agentes esteriliz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os controles son los que en realidad hacen saber si se ha producido la destrucción de los gér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 introducen en la parte más intima del paqu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os controles Biológicos se someten a un cultivo. Cuando existe un aumento de bacterias se produce una modificación del color (por que los productos de desecho modifican el pH del caldo de cultivo que cambiara a amarillo). Inicialmente es de color azul. Esto puede ser observado fácilmente por cualquier perso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0" name="3 Marcador de contenido" descr="images3.jpg"/>
          <p:cNvPicPr/>
          <p:nvPr/>
        </p:nvPicPr>
        <p:blipFill>
          <a:blip r:embed="rId1"/>
          <a:stretch/>
        </p:blipFill>
        <p:spPr>
          <a:xfrm>
            <a:off x="684360" y="40464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2" name="3 Marcador de contenido" descr="images2.jpg"/>
          <p:cNvPicPr/>
          <p:nvPr/>
        </p:nvPicPr>
        <p:blipFill>
          <a:blip r:embed="rId1"/>
          <a:stretch/>
        </p:blipFill>
        <p:spPr>
          <a:xfrm>
            <a:off x="684360" y="620640"/>
            <a:ext cx="4032000" cy="5472360"/>
          </a:xfrm>
          <a:prstGeom prst="rect">
            <a:avLst/>
          </a:prstGeom>
          <a:ln w="0">
            <a:noFill/>
          </a:ln>
        </p:spPr>
      </p:pic>
      <p:pic>
        <p:nvPicPr>
          <p:cNvPr id="373" name="4 Imagen" descr="images.jpg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ANd9GcSwSmTNVaMPjAs9A52gVIlZ-BMimmTY5V86bg_mn_EzRvJpvgQ&amp;t=1&amp;usg=__sVy3bV3gZQuxJc2S3-s9gZRnNCk="/>
          <p:cNvPicPr/>
          <p:nvPr/>
        </p:nvPicPr>
        <p:blipFill>
          <a:blip r:embed="rId1"/>
          <a:stretch/>
        </p:blipFill>
        <p:spPr>
          <a:xfrm>
            <a:off x="2843280" y="333360"/>
            <a:ext cx="3168720" cy="3166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ANd9GcQigrxL37GB5ZOMH32wt_tGq0IJpy1ygiYCsb1lUpj823UHCFU&amp;t=1&amp;usg=__yrxGlgC8TNf7JZ5ziz-DHQQeyNk="/>
          <p:cNvPicPr/>
          <p:nvPr/>
        </p:nvPicPr>
        <p:blipFill>
          <a:blip r:embed="rId2"/>
          <a:stretch/>
        </p:blipFill>
        <p:spPr>
          <a:xfrm>
            <a:off x="755640" y="3933720"/>
            <a:ext cx="2808360" cy="2159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ANd9GcQ-qVhX4FfXTUlWLRyU-rZo-3Zvevd3sZGyw-1kTbskSXE1B4c&amp;t=1&amp;usg=__Rv9kRC3aX_SBkioqPHdaZOkc5XE="/>
          <p:cNvPicPr/>
          <p:nvPr/>
        </p:nvPicPr>
        <p:blipFill>
          <a:blip r:embed="rId3"/>
          <a:stretch/>
        </p:blipFill>
        <p:spPr>
          <a:xfrm>
            <a:off x="5580000" y="3933720"/>
            <a:ext cx="26416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EF4-C923-4576-AE4C-8634E70791C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Dock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387-3578-4445-82A4-DB70163C5F8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11280" y="1413000"/>
            <a:ext cx="2879640" cy="1439640"/>
          </a:xfrm>
          <a:prstGeom prst="wedgeRoundRectCallout">
            <a:avLst>
              <a:gd name="adj1" fmla="val -48013"/>
              <a:gd name="adj2" fmla="val 2585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RN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V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BERG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(Ciruj. Bérli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619280" y="2997360"/>
            <a:ext cx="936720" cy="1346040"/>
          </a:xfrm>
          <a:prstGeom prst="downArrowCallout">
            <a:avLst>
              <a:gd name="adj1" fmla="val 25002"/>
              <a:gd name="adj2" fmla="val 25000"/>
              <a:gd name="adj3" fmla="val 23950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4360" y="4365720"/>
            <a:ext cx="3095640" cy="18000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Utiliza vapor, para destru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Gérme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UTOCLAVE (orig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960" y="1608120"/>
            <a:ext cx="2810880" cy="12690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TERRIER Y TERRIL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300720" y="2997360"/>
            <a:ext cx="936720" cy="1346040"/>
          </a:xfrm>
          <a:prstGeom prst="downArrowCallout">
            <a:avLst>
              <a:gd name="adj1" fmla="val 25002"/>
              <a:gd name="adj2" fmla="val 25000"/>
              <a:gd name="adj3" fmla="val 23950"/>
              <a:gd name="adj4" fmla="val 66667"/>
            </a:avLst>
          </a:prstGeom>
          <a:gradFill rotWithShape="0">
            <a:gsLst>
              <a:gs pos="0">
                <a:srgbClr val="cce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1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932360" y="4365720"/>
            <a:ext cx="3598920" cy="180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Salas de cirugía con piso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Paredes lavables, mue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Metá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Uso del autoclave y estufa se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-Agua, jabón, OH y bicloruro de hg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124000" y="508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1BB-2D47-429E-861F-C82A6DE373C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eseña Histó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835280" y="3141720"/>
            <a:ext cx="1079280" cy="1297080"/>
          </a:xfrm>
          <a:prstGeom prst="downArrowCallout">
            <a:avLst>
              <a:gd name="adj1" fmla="val 25002"/>
              <a:gd name="adj2" fmla="val 25000"/>
              <a:gd name="adj3" fmla="val 20030"/>
              <a:gd name="adj4" fmla="val 6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18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900000" y="4508640"/>
            <a:ext cx="3167280" cy="14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corpora guantes de g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Asép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4788000" y="1628640"/>
            <a:ext cx="2879640" cy="1295640"/>
          </a:xfrm>
          <a:prstGeom prst="wedgeRoundRectCallout">
            <a:avLst>
              <a:gd name="adj1" fmla="val -48013"/>
              <a:gd name="adj2" fmla="val 3431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IG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X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5867280" y="3068640"/>
            <a:ext cx="936720" cy="1297080"/>
          </a:xfrm>
          <a:prstGeom prst="downArrowCallout">
            <a:avLst>
              <a:gd name="adj1" fmla="val 25002"/>
              <a:gd name="adj2" fmla="val 25000"/>
              <a:gd name="adj3" fmla="val 23078"/>
              <a:gd name="adj4" fmla="val 66667"/>
            </a:avLst>
          </a:prstGeom>
          <a:solidFill>
            <a:srgbClr val="ff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500720" y="4508640"/>
            <a:ext cx="3527280" cy="14191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Descubrimientos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A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Vestuarios de cirugía, unifi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-Estandarización de equi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Quirúrg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1042920" y="1700280"/>
            <a:ext cx="2665440" cy="1295280"/>
          </a:xfrm>
          <a:prstGeom prst="wedgeRoundRectCallout">
            <a:avLst>
              <a:gd name="adj1" fmla="val -34337"/>
              <a:gd name="adj2" fmla="val 649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W.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HALS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(CIRUJ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E45-A59F-4E0A-AA34-8EA026D2109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635280" y="620640"/>
            <a:ext cx="1473120" cy="1346400"/>
          </a:xfrm>
          <a:prstGeom prst="downArrowCallout">
            <a:avLst>
              <a:gd name="adj1" fmla="val 27355"/>
              <a:gd name="adj2" fmla="val 27353"/>
              <a:gd name="adj3" fmla="val 16667"/>
              <a:gd name="adj4" fmla="val 6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19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2124000" y="2205000"/>
            <a:ext cx="4535640" cy="1584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Se crean los Cómite de Inf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rahospital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00000" y="3933720"/>
            <a:ext cx="7559640" cy="208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oordinar el programa o plan local de control I.I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ara asegurar impacto, continuidad y solidez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s procesos involuc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8" descr="caballeroscompleto11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765000"/>
            <a:ext cx="194328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reclamaciones"/>
          <p:cNvPicPr/>
          <p:nvPr/>
        </p:nvPicPr>
        <p:blipFill>
          <a:blip r:embed="rId3"/>
          <a:stretch/>
        </p:blipFill>
        <p:spPr>
          <a:xfrm>
            <a:off x="1042920" y="620640"/>
            <a:ext cx="172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239-ADAF-4769-BF80-6BB09BAE849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250920" y="1844640"/>
            <a:ext cx="3889440" cy="3816360"/>
          </a:xfrm>
          <a:prstGeom prst="cloudCallout">
            <a:avLst>
              <a:gd name="adj1" fmla="val 41101"/>
              <a:gd name="adj2" fmla="val -70592"/>
            </a:avLst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sencia de sepsis por existencia de M.O patógenos</a:t>
            </a: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40360" y="1916280"/>
            <a:ext cx="4752720" cy="3673440"/>
          </a:xfrm>
          <a:prstGeom prst="cloudCallout">
            <a:avLst>
              <a:gd name="adj1" fmla="val -27587"/>
              <a:gd name="adj2" fmla="val -7268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ANTISEP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revención de la sepsis por la exclusión, destrucción o inhibición del crecimiento o multiplicación de M.O de los tejidos y líquidos corpo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E5A6-1867-4BD1-A62B-2D1EBA7488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ff00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324000" y="2205000"/>
            <a:ext cx="4176720" cy="3960720"/>
          </a:xfrm>
          <a:prstGeom prst="cloudCallout">
            <a:avLst>
              <a:gd name="adj1" fmla="val 29134"/>
              <a:gd name="adj2" fmla="val -7497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 MÉ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rotección de los pacientes y del personal del hospital contra la infección o la reinfección por la transferencia de M.O patógenos de una persona a otra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500720" y="2133720"/>
            <a:ext cx="4103640" cy="3887640"/>
          </a:xfrm>
          <a:prstGeom prst="cloudCallout">
            <a:avLst>
              <a:gd name="adj1" fmla="val -38435"/>
              <a:gd name="adj2" fmla="val -7229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SEPSIA QUIRÚR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s la esterilización completa y ausencia total de bacte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0:11:52Z</dcterms:created>
  <dc:creator>Rosella</dc:creator>
  <dc:description/>
  <dc:language>en-US</dc:language>
  <cp:lastModifiedBy>Fac. de Medicina</cp:lastModifiedBy>
  <dcterms:modified xsi:type="dcterms:W3CDTF">2011-09-22T19:16:51Z</dcterms:modified>
  <cp:revision>44</cp:revision>
  <dc:subject/>
  <dc:title> ASEPSIA Y ANTISEPSIA</dc:title>
</cp:coreProperties>
</file>