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A865-07D7-4DFF-887C-87B124682A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B087-4B93-4D70-BF48-0123689C3B6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C34-CCD1-44B4-80EE-AD4B66455F4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86DE-0C3F-4804-B781-124C23144E3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8D2C-D92B-4FC3-9C2E-26C896FC19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B53A-36D3-4ED4-BFE9-61E17D8CE4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D634-702A-45F2-A41D-7FA0AAB929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60AB-E4E6-49DE-8C24-E8EEE083B49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C35-3532-4D2C-89B1-1911D63882C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719-4387-44D2-AB4F-9C14783112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C9DC-1E3F-4C3C-A4F5-74A7B4A014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677-E2FA-4AA9-832F-91C468D6C28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418-4E56-46C1-953C-97FEDC52D5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FC7-E050-4399-B8B3-5316448E62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179B-5BC9-44C7-A57A-B509E1DED13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37FE-3D7A-4332-9F01-64C62D66F0B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9E8-45E3-4393-A7CB-7290154D50A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561-670F-4C1C-B040-FD0D1176BFE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9674-5BBF-4FA7-84E1-B4D0AB948A1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1CF-81C6-48DA-A57F-A31B447436E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7D5A-62F9-4F8B-B7CE-21908F6565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591-BE08-4257-BB18-DFCD4E63C43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5D70-4EFE-4D0C-BD9C-4354DC8358C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C7D9-9D84-46E5-A4D2-3FA2D43FF21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87B9-5E79-4F13-82EB-EDBCEBF6304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D4C1-922D-4951-82AB-8C2B07B697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E821-4328-42B5-ABC0-74030048196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6E9-B683-44B1-A3C0-D9EF1708C0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B64-E25D-4914-968C-6BC2B07D15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0D5B-9946-40BB-8F15-885CD405CC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3B94-78ED-47AB-9D92-6DF91ED1FB0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50D-9D9F-4513-902F-B11B4E7A646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608-7BF3-4C68-831F-44A9CE7F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06A-16B3-444D-B9CD-73AB7D1E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3C4-1668-42FF-8513-5EFDD943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B11-84AF-47A6-9566-9B99FA61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2BFE-4A6E-4F97-A45E-0A01FF68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B605-01B0-4BA5-8A5B-5E77FA8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5FD9-43A2-48DB-80F4-D1076DDE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8D84-91C5-4B63-B12C-66875567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6A0E-DC94-4537-A6E4-DEB0006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094A-5499-4CE2-BDA1-E2CE1BAA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A27-5260-4F31-A8AB-5D4B9FF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5EA-B7DF-4680-8B74-CF672B7C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F7BA-B5DE-4C5E-A17C-6DFFA1D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218-A93D-4586-A5B6-FF4EE53A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414B-63B9-4D7B-986E-46DC1538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9AF6-7FB9-4CE9-9AA8-A44FA424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37C2-1F6F-46B1-B39C-938A078B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0BB-0879-4901-A633-F50A251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0C8-0003-4A05-A29E-6F8AFC39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767-BB8C-4599-877C-B12D181B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1FE-2AA9-44F4-BB07-854C0515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FD7-8E0F-4816-8CA2-9AEF36A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373-131F-4982-90C0-85DBB10E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D0F-6286-4649-8526-8B78B7A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A473-CC89-45BC-A75A-20887C0167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DAD-9CF4-428F-9987-2225831DEE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ecsaddd.com/img/desinfeccion.jpg&amp;imgrefurl=http://www.cecsaddd.com/desinfecta.php&amp;h=233&amp;w=200&amp;sz=32&amp;hl=es&amp;start=9&amp;um=1&amp;tbnid=ayQbFBkQh-ntyM:&amp;tbnh=109&amp;tbnw=94&amp;prev=/images%3Fq%3Ddesinfeccion%26svnum%3D10%26um%3D1%26hl%3Des%26cr%3DcountryC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mg297.imageshack.us/img297/3205/caballeroscompleto11rp.jpg&amp;imgrefurl=http://escuelajuridica.blogspot.com/2005/11/mesa-redonda.html&amp;h=531&amp;w=709&amp;sz=433&amp;hl=es&amp;start=1&amp;tbnid=Br4a-dKqSNiFNM:&amp;tbnh=105&amp;tbnw=140&amp;prev=/images%3Fq%3Dmesa%2Bredonda%26gbv%3D2%26svnum%3D10%26hl%3Des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F35-46E3-4F3C-950A-0C2F96B8977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402920" y="4869000"/>
            <a:ext cx="6782040" cy="1224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ocente: Srta. Lucía To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U. Encargada Unidad Coronaria (U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HSJ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82692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s-CL" sz="6600" spc="-1" strike="noStrike">
                <a:solidFill>
                  <a:srgbClr val="ccecff"/>
                </a:solidFill>
                <a:latin typeface="Arial"/>
              </a:rPr>
              <a:t>ASEPSIA , ANTISEPSIA </a:t>
            </a:r>
            <a:br>
              <a:rPr sz="6600"/>
            </a:br>
            <a:r>
              <a:rPr b="0" lang="es-CL" sz="6600" spc="-1" strike="noStrike">
                <a:solidFill>
                  <a:srgbClr val="ccecff"/>
                </a:solidFill>
                <a:latin typeface="Arial"/>
              </a:rPr>
              <a:t>Y </a:t>
            </a:r>
            <a:br>
              <a:rPr sz="6600"/>
            </a:br>
            <a:r>
              <a:rPr b="0" lang="es-CL" sz="6600" spc="-1" strike="noStrike">
                <a:solidFill>
                  <a:srgbClr val="ccecff"/>
                </a:solidFill>
                <a:latin typeface="Arial"/>
              </a:rPr>
              <a:t>DESINFECCIÓN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B82F-756B-49E3-B29D-C90C6ACFA8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250920" y="2492280"/>
            <a:ext cx="4321080" cy="3529080"/>
          </a:xfrm>
          <a:prstGeom prst="cloudCallout">
            <a:avLst>
              <a:gd name="adj1" fmla="val 31412"/>
              <a:gd name="adj2" fmla="val -8459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ÉCNICA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SÉPTICA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Métodos para prevenir la contaminación con microorganismos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4427640" y="2133720"/>
            <a:ext cx="4176720" cy="3816360"/>
          </a:xfrm>
          <a:prstGeom prst="cloudCallout">
            <a:avLst>
              <a:gd name="adj1" fmla="val -25560"/>
              <a:gd name="adj2" fmla="val -7329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ÉCNICA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TÉR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étodos para prevenir la contaminación por M.O y mantener la esterilidad durante el procedimiento quirúrgico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81D7-6E3B-43AC-9844-0F536438F9B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0" y="1773360"/>
            <a:ext cx="4500720" cy="4465440"/>
          </a:xfrm>
          <a:prstGeom prst="cloudCallout">
            <a:avLst>
              <a:gd name="adj1" fmla="val 40759"/>
              <a:gd name="adj2" fmla="val -6212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FLORA MICROBIANA RESID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Población microbiológica estable de la piel, compuesta por microorganismos que crecen, se multiplican y permanecen en un nivel estable en la piel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067280" y="1484280"/>
            <a:ext cx="5076720" cy="5373720"/>
          </a:xfrm>
          <a:prstGeom prst="cloudCallout">
            <a:avLst>
              <a:gd name="adj1" fmla="val -19388"/>
              <a:gd name="adj2" fmla="val -544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FLORA MICROBIANA TRANSI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ormada por M.O que se encuentran en la piel pero sin multiplicarse, muy variado en el tipo y cantidad de ellos. No se reproducen, la mayoría muere o desaparece por efecto mecánico o con el lavado habitual de la pi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5D5-C796-4DD4-A0C6-4A804299131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324000" y="1916280"/>
            <a:ext cx="8064360" cy="4752720"/>
          </a:xfrm>
          <a:prstGeom prst="cloudCallout">
            <a:avLst>
              <a:gd name="adj1" fmla="val 2481"/>
              <a:gd name="adj2" fmla="val -6476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ENFERMEDAD TRANSM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nfermedad causada por un agente infeccioso específico o sus productos tóx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La responsabilidad de los profesion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Mantener normas de calidad de la atención, educar a la población en promoción de conductas de autocui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E90-CD9C-4A43-BA29-265B017FDC5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desinfecc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66CB-F8D9-44EF-B032-D4D88C5E362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Limpie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539640" y="2565360"/>
            <a:ext cx="8209080" cy="3527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la eliminación mecánica por arras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agentes infecciosos y sustancias orgánic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superficies en las cuales los M.O pueden encont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diciones favorables para sobrevivir y multiplica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 realizarse a diario en todos los Servic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í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 rot="1022400">
            <a:off x="3635280" y="1197000"/>
            <a:ext cx="1324080" cy="1157400"/>
          </a:xfrm>
          <a:custGeom>
            <a:avLst/>
            <a:gdLst>
              <a:gd name="textAreaLeft" fmla="*/ 231480 w 1324080"/>
              <a:gd name="textAreaRight" fmla="*/ 960120 w 1324080"/>
              <a:gd name="textAreaTop" fmla="*/ 154800 h 1157400"/>
              <a:gd name="textAreaBottom" fmla="*/ 1002600 h 11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8FF8-DC89-44E6-BBDE-1962F50F9C2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68360" y="2708280"/>
            <a:ext cx="8207280" cy="36003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oceso que elimina los M.O patógenos (no espor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que se encuentran en objetos inanim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s una medida intermedia entre la limpieza y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steri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Se efectúa mediante la aplicación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gentes quím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 rot="811800">
            <a:off x="3924000" y="1197000"/>
            <a:ext cx="1295280" cy="115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54080 h 1152360"/>
              <a:gd name="textAreaBottom" fmla="*/ 9982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459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B9E-046B-4726-AA4F-7169A74AF53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ff00"/>
                </a:solidFill>
                <a:latin typeface="Arial"/>
              </a:rPr>
              <a:t>CLASIFICACIÓN DE LOS DESINFECTANTES SEGÚ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ff00"/>
                </a:solidFill>
                <a:latin typeface="Arial"/>
              </a:rPr>
              <a:t>EL TIPO DE AGENTE QUE DESTRUY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C145-C8F6-4B74-841E-B0526FE1543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de Alto Niv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mpleo de un procedimiento químico con el que se consigue destruir todos los microorganismos, excepto esporas bacterian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procedimiento se deja exclusivamente para aquel material semicrítico termosensible que no puede ser esterilizado en los métodos tradicionales, como los endoscop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más utilizados so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Yodófo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Formaldehíd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Glutaraldehí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3F8-E7DC-4056-853E-8E32E91A278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Nivel Interme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mpleo de un procedimiento químico con el que se consigue inactivar todas las formas bacterianas vegetativas, el complejo Mycobacterium tuberculosis, así como la mayoría de los virus y hongos, pero que no asegura necesariamente la destrucción de esporas bacteria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16CF-CFC8-484D-8D6B-1B27DF74BF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de Bajo Nivel</a:t>
            </a: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mpleo de un procedimiento químico con el que se pueden destruir la mayor parte de las formas vegetativas bacterianas, algunos virus y hongos, pero no el Mycobacterium tuberculosis ni las esporas bacteria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emplo: uso de alcohol 70° en elementos de oxigen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CC3-E0DE-4259-92EA-4B2D2F8E8F3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40268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8" descr="Grabado alegorico sobre la Peste"/>
          <p:cNvPicPr/>
          <p:nvPr/>
        </p:nvPicPr>
        <p:blipFill>
          <a:blip r:embed="rId1"/>
          <a:stretch/>
        </p:blipFill>
        <p:spPr>
          <a:xfrm>
            <a:off x="4932360" y="1628640"/>
            <a:ext cx="3384720" cy="4321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300px-Black_Death"/>
          <p:cNvPicPr/>
          <p:nvPr/>
        </p:nvPicPr>
        <p:blipFill>
          <a:blip r:embed="rId2"/>
          <a:stretch/>
        </p:blipFill>
        <p:spPr>
          <a:xfrm>
            <a:off x="900000" y="1700280"/>
            <a:ext cx="374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BB2-815C-453C-90AD-42CE24589E5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Cloud"/>
          <p:cNvSpPr/>
          <p:nvPr/>
        </p:nvSpPr>
        <p:spPr>
          <a:xfrm>
            <a:off x="1258920" y="765000"/>
            <a:ext cx="6553080" cy="5256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El grado de desinfección produ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pende esencialmente de la calidad y concentración del agente usado, de la naturaleza de la contaminación y del tiempo de expo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7A27-09A4-498A-BECE-85A308B023C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Concurr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Cloud"/>
          <p:cNvSpPr/>
          <p:nvPr/>
        </p:nvSpPr>
        <p:spPr>
          <a:xfrm>
            <a:off x="468360" y="1628640"/>
            <a:ext cx="8064360" cy="4392720"/>
          </a:xfrm>
          <a:prstGeom prst="pi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Es aquella que se realiza diariamente mediante la aplicación de agentes desinfectantes. La desinfección concurrente siempre debe estar precedida de una limpiez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14F0-7EE4-4C6A-BC42-7D27781403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Termin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Cloud"/>
          <p:cNvSpPr/>
          <p:nvPr/>
        </p:nvSpPr>
        <p:spPr>
          <a:xfrm>
            <a:off x="539640" y="1700280"/>
            <a:ext cx="8209080" cy="4321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Es la que se realiza cuando el paciente hace abandono de la habitación o unidad. Esta desinfección incluye todos los elementos que están en la habitación. Además se realiza según calendarización en el resto de la planta física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de un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633E-D59F-42C8-95ED-F92C2234F98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ff00"/>
                </a:solidFill>
                <a:latin typeface="Arial"/>
              </a:rPr>
              <a:t>Desinfecta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gentes que destruyen las formas vegetativas o en crecimiento de los microorganismos, eliminándolos por complet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bje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nanim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Panel_2"/>
          <p:cNvPicPr/>
          <p:nvPr/>
        </p:nvPicPr>
        <p:blipFill>
          <a:blip r:embed="rId1"/>
          <a:stretch/>
        </p:blipFill>
        <p:spPr>
          <a:xfrm>
            <a:off x="4643280" y="1557360"/>
            <a:ext cx="396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5" name="3 Marcador de contenido" descr="imagesCAA1SQ6T.jpg"/>
          <p:cNvPicPr/>
          <p:nvPr/>
        </p:nvPicPr>
        <p:blipFill>
          <a:blip r:embed="rId1"/>
          <a:stretch/>
        </p:blipFill>
        <p:spPr>
          <a:xfrm>
            <a:off x="971640" y="2492280"/>
            <a:ext cx="3816360" cy="3457800"/>
          </a:xfrm>
          <a:prstGeom prst="rect">
            <a:avLst/>
          </a:prstGeom>
          <a:ln w="0">
            <a:noFill/>
          </a:ln>
        </p:spPr>
      </p:pic>
      <p:pic>
        <p:nvPicPr>
          <p:cNvPr id="316" name="4 Imagen" descr="untitled.bmp"/>
          <p:cNvPicPr/>
          <p:nvPr/>
        </p:nvPicPr>
        <p:blipFill>
          <a:blip r:embed="rId2"/>
          <a:stretch/>
        </p:blipFill>
        <p:spPr>
          <a:xfrm>
            <a:off x="4140360" y="2133720"/>
            <a:ext cx="446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3 Marcador de contenido" descr="untitled2.bmp"/>
          <p:cNvPicPr/>
          <p:nvPr/>
        </p:nvPicPr>
        <p:blipFill>
          <a:blip r:embed="rId1"/>
          <a:stretch/>
        </p:blipFill>
        <p:spPr>
          <a:xfrm>
            <a:off x="1332000" y="2565360"/>
            <a:ext cx="3671640" cy="3816360"/>
          </a:xfrm>
          <a:prstGeom prst="rect">
            <a:avLst/>
          </a:prstGeom>
          <a:ln w="0">
            <a:noFill/>
          </a:ln>
        </p:spPr>
      </p:pic>
      <p:pic>
        <p:nvPicPr>
          <p:cNvPr id="319" name="4 Imagen" descr="22.bmp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E119-988B-42D4-A2BF-A04ACF2475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ff00"/>
                </a:solidFill>
                <a:latin typeface="Arial"/>
              </a:rPr>
              <a:t>Características de un Buen Desinfectan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 destruir M.O patóge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debe ser neutralizado por jabones, proteínas o deterg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debe dañar la piel de quien lo ap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dañar el material o superficies en las que se util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 ser estable en 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6" descr="yogurt5"/>
          <p:cNvPicPr/>
          <p:nvPr/>
        </p:nvPicPr>
        <p:blipFill>
          <a:blip r:embed="rId1"/>
          <a:stretch/>
        </p:blipFill>
        <p:spPr>
          <a:xfrm>
            <a:off x="4643280" y="1557360"/>
            <a:ext cx="2089440" cy="2449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germsoap[1]"/>
          <p:cNvPicPr/>
          <p:nvPr/>
        </p:nvPicPr>
        <p:blipFill>
          <a:blip r:embed="rId2"/>
          <a:stretch/>
        </p:blipFill>
        <p:spPr>
          <a:xfrm>
            <a:off x="6699240" y="3716280"/>
            <a:ext cx="2049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BFF-F7EE-4073-84E2-B7E096F21D7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ff00"/>
                </a:solidFill>
                <a:latin typeface="Arial"/>
              </a:rPr>
              <a:t>Características Desinfectan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1600200"/>
          <a:ext cx="8362800" cy="4959360"/>
        </p:xfrm>
        <a:graphic>
          <a:graphicData uri="http://schemas.openxmlformats.org/drawingml/2006/table">
            <a:tbl>
              <a:tblPr/>
              <a:tblGrid>
                <a:gridCol w="1395360"/>
                <a:gridCol w="1392120"/>
                <a:gridCol w="1395720"/>
                <a:gridCol w="1392120"/>
                <a:gridCol w="1395360"/>
                <a:gridCol w="139212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TIV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RROS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FECTO RESIDU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ACTIVACION </a:t>
                      </a:r>
                      <a:r>
                        <a:rPr b="0" lang="es-E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TERIA ORGANICA</a:t>
                      </a:r>
                      <a:r>
                        <a:rPr b="0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RRITAN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XIC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cohol 7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ldehido 4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ro 0.5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lutaraldehido  2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174-B635-40E4-A2BD-3603D1FD8A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"/>
              </a:rPr>
              <a:t>Antisép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900000" y="2060640"/>
            <a:ext cx="6912000" cy="3529080"/>
          </a:xfrm>
          <a:prstGeom prst="cloudCallout">
            <a:avLst>
              <a:gd name="adj1" fmla="val -1699"/>
              <a:gd name="adj2" fmla="val -75504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Arial"/>
              </a:rPr>
              <a:t>Agente germicida usado sobre la piel y tejido vivo para inhibir o eliminar los M.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3 Marcador de contenido" descr="untitled33.bmp"/>
          <p:cNvPicPr/>
          <p:nvPr/>
        </p:nvPicPr>
        <p:blipFill>
          <a:blip r:embed="rId1"/>
          <a:stretch/>
        </p:blipFill>
        <p:spPr>
          <a:xfrm>
            <a:off x="684360" y="1484280"/>
            <a:ext cx="2141280" cy="2143080"/>
          </a:xfrm>
          <a:prstGeom prst="rect">
            <a:avLst/>
          </a:prstGeom>
          <a:ln w="0">
            <a:noFill/>
          </a:ln>
        </p:spPr>
      </p:pic>
      <p:pic>
        <p:nvPicPr>
          <p:cNvPr id="333" name="4 Imagen" descr="untitled22.bmp"/>
          <p:cNvPicPr/>
          <p:nvPr/>
        </p:nvPicPr>
        <p:blipFill>
          <a:blip r:embed="rId2"/>
          <a:stretch/>
        </p:blipFill>
        <p:spPr>
          <a:xfrm>
            <a:off x="5580000" y="1413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34" name="5 Imagen" descr="imagesCAP0QOKX.jpg"/>
          <p:cNvPicPr/>
          <p:nvPr/>
        </p:nvPicPr>
        <p:blipFill>
          <a:blip r:embed="rId3"/>
          <a:stretch/>
        </p:blipFill>
        <p:spPr>
          <a:xfrm>
            <a:off x="2916360" y="3860640"/>
            <a:ext cx="2133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FCC-86C2-48B0-9353-FF0991C792D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1" descr="Peste negra-21K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SEP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Povidona yodada (7,5% - 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esto de yodo soluble en agua que permite una liberación gradual. Efecto residual de 4 horas y se inactiva en presencia de materia orgá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Clorhexidina (2% - 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duce la flora microbiana a los 15”.  Efecto residual de 6 horas, no se inactiva en presencia de materia orgánica. Tóxico para oídos y oj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Alcohol  (7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esto de efecto rápido y casi sin efectos adve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78B4-02BC-48AD-9C47-389C1287F14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66"/>
                </a:solidFill>
                <a:latin typeface="Arial"/>
              </a:rPr>
              <a:t>Características de un Buen Antisépt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n poder germic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mplio espectro antimicrobi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ción ráp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fecto acumul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ja inactivación en presencia de materia orgá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rgo efecto resid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ja tox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sto raz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7" descr="ACF4A6"/>
          <p:cNvPicPr/>
          <p:nvPr/>
        </p:nvPicPr>
        <p:blipFill>
          <a:blip r:embed="rId1"/>
          <a:stretch/>
        </p:blipFill>
        <p:spPr>
          <a:xfrm>
            <a:off x="6588000" y="1557360"/>
            <a:ext cx="2087640" cy="216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su-7c"/>
          <p:cNvPicPr/>
          <p:nvPr/>
        </p:nvPicPr>
        <p:blipFill>
          <a:blip r:embed="rId2"/>
          <a:stretch/>
        </p:blipFill>
        <p:spPr>
          <a:xfrm>
            <a:off x="6588000" y="393372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13BD-ED2B-4367-AE16-0CD3ECD69E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66"/>
                </a:solidFill>
                <a:latin typeface="Arial"/>
              </a:rPr>
              <a:t>Propiedades de Diferentes Antisépti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57200" y="1600200"/>
          <a:ext cx="8229600" cy="4813200"/>
        </p:xfrm>
        <a:graphic>
          <a:graphicData uri="http://schemas.openxmlformats.org/drawingml/2006/table">
            <a:tbl>
              <a:tblPr/>
              <a:tblGrid>
                <a:gridCol w="1450800"/>
                <a:gridCol w="1584360"/>
                <a:gridCol w="1584360"/>
                <a:gridCol w="3610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centr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pec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ción    Persiste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coho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ápida             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rhexi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-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media        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ntura de Yo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ápida             inter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vidona Yod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5-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media        Inter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riclosá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-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345" name="Line 125"/>
          <p:cNvSpPr/>
          <p:nvPr/>
        </p:nvSpPr>
        <p:spPr>
          <a:xfrm>
            <a:off x="6516720" y="170028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4CE-CE1B-48D5-9517-512A2542EF1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66"/>
                </a:solidFill>
                <a:latin typeface="Arial"/>
              </a:rPr>
              <a:t>Propiedades de Diferentes Antisépti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rrita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egu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activa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coho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secación de pi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flam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rhexi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j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ín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ntura de Yo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flam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vidona Yod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gular (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 (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riclosá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íni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741-8640-445E-9A7A-085EEF71CAC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gular actividad contra el bacilo de koch y algunos bacilos gram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 trabajos que muestran su actividad a los 15 s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ergias en individuos suscept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r con precaución en recién nacidos y quem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"/>
              </a:rPr>
              <a:t>Propiedades de Diferentes Antisép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cecff"/>
                </a:solidFill>
                <a:uFillTx/>
                <a:latin typeface="Arial"/>
              </a:rPr>
              <a:t>ESTERILIZ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ceso físico o químico que permite destruir microorganismos, incluidas las esporas y micobacteri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frece el máximo nivel de segur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Métodos de Esteriliz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Autocl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Método más costo-efectivo, actúa desnaturalizando las proteínas de los microorganism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Oxido de Eti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Proceso químico capaz de esterilizar a baja temperatura, pero con un tiempo prolongado de exposició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Otros métodos de esteri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- Plasma de peróxido de hidrógeno, radiaciones ionizantes y gas de formaldehíd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UTOCLA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autoclave-de-laboratorio-con-puerta-hidraulica-305058"/>
          <p:cNvPicPr/>
          <p:nvPr/>
        </p:nvPicPr>
        <p:blipFill>
          <a:blip r:embed="rId1"/>
          <a:stretch/>
        </p:blipFill>
        <p:spPr>
          <a:xfrm>
            <a:off x="2050920" y="2060640"/>
            <a:ext cx="523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OXIDO ETILE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5" descr="ANd9GcSml8zKbS0llIwhjUrl63SJbnqqB2V1KsXWSTJyVjQZRHZp96E&amp;t=1&amp;usg=__vNeGWV-gKoPDwcSePNISdaBxL9I="/>
          <p:cNvPicPr/>
          <p:nvPr/>
        </p:nvPicPr>
        <p:blipFill>
          <a:blip r:embed="rId1"/>
          <a:stretch/>
        </p:blipFill>
        <p:spPr>
          <a:xfrm>
            <a:off x="3571920" y="2895480"/>
            <a:ext cx="33336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SISTEMAS</a:t>
            </a:r>
            <a:br>
              <a:rPr sz="4000"/>
            </a:b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CONTROL DE ESTERILIZA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Controles Físicos: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specie de termómetros que registra las temperaturas en una gráfica. Solo se registran en un lugar determinado del esterilizador, donde esta situado el sensor térmico, lo que puede inducir a err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ECF-E265-4555-AD0E-C3A94D04DBD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Reseña Histó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4360" y="4365720"/>
            <a:ext cx="309564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Determina la forma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Transmisión de la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fie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Puerp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Lavado de manos obli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gua, jabón, cepillo, cloro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435640" y="4365720"/>
            <a:ext cx="3313080" cy="180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Basados en los descu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brimientos de Pasteur, utili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cido fenico</a:t>
            </a: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, como m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sép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1692360" y="3213000"/>
            <a:ext cx="792000" cy="1130400"/>
          </a:xfrm>
          <a:prstGeom prst="downArrowCallout">
            <a:avLst>
              <a:gd name="adj1" fmla="val 25002"/>
              <a:gd name="adj2" fmla="val 25000"/>
              <a:gd name="adj3" fmla="val 23788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6659640" y="3141720"/>
            <a:ext cx="865080" cy="1201680"/>
          </a:xfrm>
          <a:prstGeom prst="downArrowCallout">
            <a:avLst>
              <a:gd name="adj1" fmla="val 25002"/>
              <a:gd name="adj2" fmla="val 25000"/>
              <a:gd name="adj3" fmla="val 23152"/>
              <a:gd name="adj4" fmla="val 6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826920" y="1700280"/>
            <a:ext cx="2735280" cy="1368360"/>
          </a:xfrm>
          <a:prstGeom prst="wedgeRoundRectCallout">
            <a:avLst>
              <a:gd name="adj1" fmla="val -40018"/>
              <a:gd name="adj2" fmla="val 14037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GNA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MMELW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(M. austro-húnga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80800" y="1679040"/>
            <a:ext cx="2534760" cy="1267920"/>
          </a:xfrm>
          <a:prstGeom prst="rect">
            <a:avLst/>
          </a:prstGeom>
          <a:blipFill rotWithShape="0">
            <a:blip r:embed="rId5"/>
            <a:stretch/>
          </a:blip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OSE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LI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(C.Inglé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Controles Químicos: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e llaman también indicadores colormétricos.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on tiras reactivas,  con dibujos compuestos de sales metálicas que cambian su color a determinadas temperaturas.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olo indican si la temperatura alcanzada es correcta o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Controles Biológicos: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nsisten en ampollas de vidrio o plástico que contienen en su interior esporas atenuadas de microorganismos no patológicos, pero muy resistentes a los agentes esteriliz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os controles son los que en realidad hacen saber si se ha producido la destrucción de los gér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 introducen en la parte más intima del paqu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os controles Biológicos se someten a un cultivo. Cuando existe un aumento de bacterias se produce una modificación del color (por que los productos de desecho modifican el pH del caldo de cultivo que cambiara a amarillo). Inicialmente es de color azul. Esto puede ser observado fácilmente por cualquier perso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0" name="3 Marcador de contenido" descr="images3.jpg"/>
          <p:cNvPicPr/>
          <p:nvPr/>
        </p:nvPicPr>
        <p:blipFill>
          <a:blip r:embed="rId1"/>
          <a:stretch/>
        </p:blipFill>
        <p:spPr>
          <a:xfrm>
            <a:off x="684360" y="404640"/>
            <a:ext cx="80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2" name="3 Marcador de contenido" descr="images2.jpg"/>
          <p:cNvPicPr/>
          <p:nvPr/>
        </p:nvPicPr>
        <p:blipFill>
          <a:blip r:embed="rId1"/>
          <a:stretch/>
        </p:blipFill>
        <p:spPr>
          <a:xfrm>
            <a:off x="684360" y="620640"/>
            <a:ext cx="4032000" cy="5472360"/>
          </a:xfrm>
          <a:prstGeom prst="rect">
            <a:avLst/>
          </a:prstGeom>
          <a:ln w="0">
            <a:noFill/>
          </a:ln>
        </p:spPr>
      </p:pic>
      <p:pic>
        <p:nvPicPr>
          <p:cNvPr id="373" name="4 Imagen" descr="images.jpg"/>
          <p:cNvPicPr/>
          <p:nvPr/>
        </p:nvPicPr>
        <p:blipFill>
          <a:blip r:embed="rId2"/>
          <a:stretch/>
        </p:blipFill>
        <p:spPr>
          <a:xfrm>
            <a:off x="4859280" y="1125360"/>
            <a:ext cx="4105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ANd9GcSwSmTNVaMPjAs9A52gVIlZ-BMimmTY5V86bg_mn_EzRvJpvgQ&amp;t=1&amp;usg=__sVy3bV3gZQuxJc2S3-s9gZRnNCk="/>
          <p:cNvPicPr/>
          <p:nvPr/>
        </p:nvPicPr>
        <p:blipFill>
          <a:blip r:embed="rId1"/>
          <a:stretch/>
        </p:blipFill>
        <p:spPr>
          <a:xfrm>
            <a:off x="2843280" y="333360"/>
            <a:ext cx="3168720" cy="3166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ANd9GcQigrxL37GB5ZOMH32wt_tGq0IJpy1ygiYCsb1lUpj823UHCFU&amp;t=1&amp;usg=__yrxGlgC8TNf7JZ5ziz-DHQQeyNk="/>
          <p:cNvPicPr/>
          <p:nvPr/>
        </p:nvPicPr>
        <p:blipFill>
          <a:blip r:embed="rId2"/>
          <a:stretch/>
        </p:blipFill>
        <p:spPr>
          <a:xfrm>
            <a:off x="755640" y="3933720"/>
            <a:ext cx="2808360" cy="2159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ANd9GcQ-qVhX4FfXTUlWLRyU-rZo-3Zvevd3sZGyw-1kTbskSXE1B4c&amp;t=1&amp;usg=__Rv9kRC3aX_SBkioqPHdaZOkc5XE="/>
          <p:cNvPicPr/>
          <p:nvPr/>
        </p:nvPicPr>
        <p:blipFill>
          <a:blip r:embed="rId3"/>
          <a:stretch/>
        </p:blipFill>
        <p:spPr>
          <a:xfrm>
            <a:off x="5580000" y="3933720"/>
            <a:ext cx="26416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1257-1AF7-4152-8444-355DBAC3327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Dock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AAFE-F9E9-4FF4-B494-25D76475654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Reseña Histó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11280" y="1413000"/>
            <a:ext cx="2879640" cy="1439640"/>
          </a:xfrm>
          <a:prstGeom prst="wedgeRoundRectCallout">
            <a:avLst>
              <a:gd name="adj1" fmla="val -48013"/>
              <a:gd name="adj2" fmla="val 2585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RN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V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BERG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(Ciruj. Bérli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619280" y="2997360"/>
            <a:ext cx="936720" cy="1346040"/>
          </a:xfrm>
          <a:prstGeom prst="downArrowCallout">
            <a:avLst>
              <a:gd name="adj1" fmla="val 25002"/>
              <a:gd name="adj2" fmla="val 25000"/>
              <a:gd name="adj3" fmla="val 23950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4360" y="4365720"/>
            <a:ext cx="3095640" cy="18000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Utiliza vapor, para destru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Gérme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UTOCLAVE (orig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960" y="1608120"/>
            <a:ext cx="2810880" cy="12690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TERRIER Y TERRIL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300720" y="2997360"/>
            <a:ext cx="936720" cy="1346040"/>
          </a:xfrm>
          <a:prstGeom prst="downArrowCallout">
            <a:avLst>
              <a:gd name="adj1" fmla="val 25002"/>
              <a:gd name="adj2" fmla="val 25000"/>
              <a:gd name="adj3" fmla="val 23950"/>
              <a:gd name="adj4" fmla="val 6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1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932360" y="4365720"/>
            <a:ext cx="3598920" cy="180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Salas de cirugía con piso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Paredes lavables, mue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Metá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-Uso del autoclave y estufa se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-Agua, jabón, OH y bicloruro de hg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124000" y="508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219-2BBB-4ABD-A8AA-9038DABEC2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eseña Histó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835280" y="3141720"/>
            <a:ext cx="1079280" cy="1297080"/>
          </a:xfrm>
          <a:prstGeom prst="downArrowCallout">
            <a:avLst>
              <a:gd name="adj1" fmla="val 25002"/>
              <a:gd name="adj2" fmla="val 25000"/>
              <a:gd name="adj3" fmla="val 20030"/>
              <a:gd name="adj4" fmla="val 6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900000" y="4508640"/>
            <a:ext cx="3167280" cy="14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corpora guantes de g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sép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4788000" y="1628640"/>
            <a:ext cx="2879640" cy="1295640"/>
          </a:xfrm>
          <a:prstGeom prst="wedgeRoundRectCallout">
            <a:avLst>
              <a:gd name="adj1" fmla="val -48013"/>
              <a:gd name="adj2" fmla="val 3431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IG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X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5867280" y="3068640"/>
            <a:ext cx="936720" cy="1297080"/>
          </a:xfrm>
          <a:prstGeom prst="downArrowCallout">
            <a:avLst>
              <a:gd name="adj1" fmla="val 25002"/>
              <a:gd name="adj2" fmla="val 25000"/>
              <a:gd name="adj3" fmla="val 23078"/>
              <a:gd name="adj4" fmla="val 66667"/>
            </a:avLst>
          </a:prstGeom>
          <a:solidFill>
            <a:srgbClr val="ff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500720" y="4508640"/>
            <a:ext cx="3527280" cy="14191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Descubrimientos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A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Vestuarios de cirugía, unifi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Estandarización de equi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Quirúrg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1042920" y="1700280"/>
            <a:ext cx="2665440" cy="1295280"/>
          </a:xfrm>
          <a:prstGeom prst="wedgeRoundRectCallout">
            <a:avLst>
              <a:gd name="adj1" fmla="val -34337"/>
              <a:gd name="adj2" fmla="val 649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W.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HALS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(CIRUJA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A9E9-67C7-4D00-ACD5-E07DA4AAC8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635280" y="620640"/>
            <a:ext cx="1473120" cy="1346400"/>
          </a:xfrm>
          <a:prstGeom prst="downArrowCallout">
            <a:avLst>
              <a:gd name="adj1" fmla="val 27355"/>
              <a:gd name="adj2" fmla="val 27353"/>
              <a:gd name="adj3" fmla="val 1666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9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2124000" y="2205000"/>
            <a:ext cx="4535640" cy="1584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e crean los Cómite de Inf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rahospital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00000" y="3933720"/>
            <a:ext cx="7559640" cy="208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Coordinar el programa o plan local de control I.I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ara asegurar impacto, continuidad y solidez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s procesos involuc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8" descr="caballeroscompleto11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765000"/>
            <a:ext cx="194328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reclamaciones"/>
          <p:cNvPicPr/>
          <p:nvPr/>
        </p:nvPicPr>
        <p:blipFill>
          <a:blip r:embed="rId3"/>
          <a:stretch/>
        </p:blipFill>
        <p:spPr>
          <a:xfrm>
            <a:off x="1042920" y="620640"/>
            <a:ext cx="1728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C88-8A17-47B7-9A67-2086D40EA6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250920" y="1844640"/>
            <a:ext cx="3889440" cy="3816360"/>
          </a:xfrm>
          <a:prstGeom prst="cloudCallout">
            <a:avLst>
              <a:gd name="adj1" fmla="val 41101"/>
              <a:gd name="adj2" fmla="val -70592"/>
            </a:avLst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SEP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sencia de sepsis por existencia de M.O patógenos</a:t>
            </a: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140360" y="1916280"/>
            <a:ext cx="4752720" cy="3673440"/>
          </a:xfrm>
          <a:prstGeom prst="cloudCallout">
            <a:avLst>
              <a:gd name="adj1" fmla="val -27587"/>
              <a:gd name="adj2" fmla="val -7268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ANTISEP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revención de la sepsis por la exclusión, destrucción o inhibición del crecimiento o multiplicación de M.O de los tejidos y líquidos corpo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F0B2-5925-4ED3-AEA0-4C1E738542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324000" y="2205000"/>
            <a:ext cx="4176720" cy="3960720"/>
          </a:xfrm>
          <a:prstGeom prst="cloudCallout">
            <a:avLst>
              <a:gd name="adj1" fmla="val 29134"/>
              <a:gd name="adj2" fmla="val -7497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SEPSIA MÉ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tección de los pacientes y del personal del hospital contra la infección o la reinfección por la transferencia de M.O patógenos de una persona a otra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4500720" y="2133720"/>
            <a:ext cx="4103640" cy="3887640"/>
          </a:xfrm>
          <a:prstGeom prst="cloudCallout">
            <a:avLst>
              <a:gd name="adj1" fmla="val -38435"/>
              <a:gd name="adj2" fmla="val -7229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SEPSIA QUIRÚR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s la esterilización completa y ausencia total de bacte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0:11:52Z</dcterms:created>
  <dc:creator>Rosella</dc:creator>
  <dc:description/>
  <dc:language>en-US</dc:language>
  <cp:lastModifiedBy>Fac. de Medicina</cp:lastModifiedBy>
  <dcterms:modified xsi:type="dcterms:W3CDTF">2011-09-22T19:16:51Z</dcterms:modified>
  <cp:revision>44</cp:revision>
  <dc:subject/>
  <dc:title> ASEPSIA Y ANTISEPSIA</dc:title>
</cp:coreProperties>
</file>