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5327A-3208-4450-BDDE-11B908D30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B9624-334A-4C34-BAAD-42CAB3FFB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79439-7FC7-4698-AA5A-7BE0CB6AB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D1B76-F2B0-4D86-AAEA-839784178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06659-81AF-49D2-A6D7-40FCBE807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84FCC-716D-46B4-9CAC-BC930F644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3205-5E40-4177-88C3-CE1954358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CCFDE-A467-4384-BE34-0A45AD75A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05564-C69D-46B5-B7FD-37873615D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17DE0-4760-4063-80D0-86241C400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57FD-13C3-402D-A601-87A59BAF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2F3B4-9847-471E-B908-6CE0CCA55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095C-D63F-4F3E-8836-40FFAA41508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EMPRANA</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sentido de identidad desarrollado durante la adolescencia capacita a los jóvenes adultos para fundir su identidad con la de los demás.  Ellos resuelven exigencias incompatibles de identidad, competencia y distancia y desarrollan un sentido de la ética.  Están listos para establecer relaciones amorosas con el objetivo de proveer un ambiente sano para los hij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ARDI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UERTE  -  DUEL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izabeth Kübler Ross planteó 5 etapas en términos de la proximidad de la muert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egació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ra</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úsqueda de tiempo extra</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presió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ceptación f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EMPRAN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lano afectiv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yor compromis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yor acercamiento al sexo opuest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laciones sexuales llevan a un compromiso afectivo.</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echos vital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rera – Embarazo – La experiencia de ser padr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INTERMEDI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lano cognitiv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desempeño  en muchas pruebas estandarizadas de inteligencia aumenta en la edad adulta, en especial en aptitud verbal y tareas que implican almacenamiento de conocimient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nque en esta etapa las personas se desempeñen con mayor lentitud y no sean tan expertas para resolver nuevos problemas algunas investigaciones revelan que la capacidad para resolver problemas prácticos alcanza su máximo desarrollo.  Muchas personas en edad adulta intermedia poseen un pensamiento integra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INTERMEDIA</a:t>
            </a:r>
            <a:endParaRPr b="0" lang="en-US" sz="4400" spc="-1" strike="noStrike">
              <a:solidFill>
                <a:srgbClr val="000000"/>
              </a:solidFill>
              <a:latin typeface="Arial"/>
            </a:endParaRPr>
          </a:p>
        </p:txBody>
      </p:sp>
      <p:sp>
        <p:nvSpPr>
          <p:cNvPr id="48" name="PlaceHolder 2"/>
          <p:cNvSpPr>
            <a:spLocks noGrp="1"/>
          </p:cNvSpPr>
          <p:nvPr>
            <p:ph/>
          </p:nvPr>
        </p:nvSpPr>
        <p:spPr>
          <a:xfrm>
            <a:off x="395280" y="1483920"/>
            <a:ext cx="7386480" cy="449748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lano social: Generatividad v/s estancamiento.</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impulso por fomentar el desarrollo de la generación siguiente lleva a las personas de la edad adulta intermedia a volverse  tutores de los adultos jóvenes.  El deseo de tener niños es instintivo, por lo cual las personas que no los tienen deben reconocer su sensación de pérdida y expresar de otra manera sus impulsos generativos, ayudando a cuidar los hijos de otras personas directamente o como sus protegidos en el lugar de trabajo.  Algún estancamiento podría brindar un descanso que lleva a mayor creatividad futura.  Demasiado estancamiento podría llevar a invalidez física o psicológic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INTERMEDI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o afec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solidación en la pare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lación con los hij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lación con los padres que envejec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ido vací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263520" y="260280"/>
            <a:ext cx="7386480" cy="612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ARDI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o cognitiv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produce un deterioro a 3 niveles de la memo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nso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rto plaz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rgo plaz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ARDI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lano social; Integridad v/s desesperación</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rikson considera que las personas de edad avanzada enfrentan una necesidad de aceptar su vida la manera como han vivido, con el fin de aceptar su muerte próxima.  Luchan por lograr un sentido de integridad, de coherencia y totalidad de la vida, en vez de dar vía a la desesperación sobre la incapacidad para volver a vivirla de manera difer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DULTEZ TARDI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lano social; Integridad v/s desesperación</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s personas que han tenido éxito en esta etapa integradora final –construyendo  sobre los resultados de las siete cirisis previas ganan un sentido más amplio del orden y del significado de sus vidas dentro de un ordenamiento  social más grande, pasado, presente y futuro.  La “virtud” un”despreocupado e informado interés por la vida de cada a la muerte en sí misma (Erikson 198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reat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05:22:25Z</dcterms:created>
  <dc:creator>Usuario Autorizado de HP</dc:creator>
  <dc:description/>
  <dc:language>en-US</dc:language>
  <cp:lastModifiedBy>Usuario Autorizado de HP</cp:lastModifiedBy>
  <dcterms:modified xsi:type="dcterms:W3CDTF">2004-05-27T05:25:30Z</dcterms:modified>
  <cp:revision>1</cp:revision>
  <dc:subject/>
  <dc:title>ADULTEZ TEMPRANA</dc:title>
</cp:coreProperties>
</file>