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4BC3-037A-4040-B32F-56C7B765497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1</a:t>
            </a:r>
            <a:endParaRPr b="0" lang="en-US" sz="1200" spc="-1" strike="noStrike">
              <a:solidFill>
                <a:srgbClr val="ffffff"/>
              </a:solidFill>
              <a:latin typeface="Arial"/>
            </a:endParaRPr>
          </a:p>
        </p:txBody>
      </p:sp>
      <p:sp>
        <p:nvSpPr>
          <p:cNvPr id="1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PlaceHolder 1"/>
          <p:cNvSpPr>
            <a:spLocks noGrp="1"/>
          </p:cNvSpPr>
          <p:nvPr>
            <p:ph type="sldImg"/>
          </p:nvPr>
        </p:nvSpPr>
        <p:spPr>
          <a:xfrm>
            <a:off x="1301760" y="797040"/>
            <a:ext cx="4254480" cy="319068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1</a:t>
            </a:r>
            <a:endParaRPr b="0" lang="en-US" sz="1200" spc="-1" strike="noStrike">
              <a:solidFill>
                <a:srgbClr val="ffffff"/>
              </a:solidFill>
              <a:latin typeface="Arial"/>
            </a:endParaRPr>
          </a:p>
        </p:txBody>
      </p:sp>
      <p:sp>
        <p:nvSpPr>
          <p:cNvPr id="1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sldImg"/>
          </p:nvPr>
        </p:nvSpPr>
        <p:spPr>
          <a:xfrm>
            <a:off x="1301760" y="797040"/>
            <a:ext cx="4254480" cy="319068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68DC9-3A6A-495C-97B0-77E6F145F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BAA4C-2968-4888-AE25-8EF529CCB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D960A-4CC0-4878-B53C-E5F1E2C9A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66AA8-CE1F-4500-8088-C403C1229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65E54B-4BA7-4BA9-ADEB-70E003F9F8F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6E9CB5-62A2-4E76-81D4-CCE365CCF1D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D32831-29F9-4B7A-893F-C9E2CBE703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5554B5-6A44-4C3C-864E-81438F92C1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0A2C1-B62E-438D-855F-07E911EAEA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EFB3E4-E772-4050-858A-AD6891FDFF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CEB35-F00F-48A1-A68C-DF4F2D2AD8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27F6F-199A-4337-A882-9AD3DBC62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84B362-ABED-45A2-BCB9-2F69398287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0E81B-6A9F-4F8E-8451-82D8BBA79B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73EFF9-2607-4809-9A26-5D17397F65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D117B5-3EE7-4EFD-97DC-626C1E3457A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3BF476-1F74-4B62-8AEE-7D6FA58DFD2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ECD0D-0682-44F3-A96F-D143F388A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4266B-C2C6-4149-9CC3-06621274E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9F640-66BE-46B5-B963-352D46488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A53AF-7B70-4237-AEAE-C350B5175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1D480-3C77-48C9-89B4-F0C3C333F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0B40-ED41-4D7F-85E8-D1442DDAB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E425-F99E-49A6-8A90-2B2A2D23A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CB02-6B97-40C4-BB1B-D3D2B29BD252}"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5617-60E9-4282-9BD7-7B1F5FE7E362}"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SPECTOS PSICOLOGICOS DE LA EDAD ADULTA</a:t>
            </a:r>
            <a:endParaRPr b="0" lang="en-US" sz="4400" spc="-1" strike="noStrike">
              <a:solidFill>
                <a:srgbClr val="ffffff"/>
              </a:solidFill>
              <a:latin typeface="Tahoma"/>
            </a:endParaRPr>
          </a:p>
        </p:txBody>
      </p:sp>
      <p:sp>
        <p:nvSpPr>
          <p:cNvPr id="91" name="PlaceHolder 2"/>
          <p:cNvSpPr>
            <a:spLocks noGrp="1"/>
          </p:cNvSpPr>
          <p:nvPr>
            <p:ph type="subTitle"/>
          </p:nvPr>
        </p:nvSpPr>
        <p:spPr>
          <a:xfrm>
            <a:off x="826560" y="3789000"/>
            <a:ext cx="6540840" cy="184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Marcela Peñ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sicóloga Servicio de Psiquiatrí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Hospital Clínico San Borja Arriarán</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59920"/>
            <a:ext cx="696600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09" name="PlaceHolder 2"/>
          <p:cNvSpPr>
            <a:spLocks noGrp="1"/>
          </p:cNvSpPr>
          <p:nvPr>
            <p:ph type="subTitle"/>
          </p:nvPr>
        </p:nvSpPr>
        <p:spPr>
          <a:xfrm>
            <a:off x="324000" y="1989000"/>
            <a:ext cx="7043760" cy="364968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lano cognitivo:</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istinción entre lo real y lo posible.</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adolescente utiliza sus sentidos con el objeto de potenciar la imaginación y ver todo lo que podría estar allí.</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51080" y="333360"/>
            <a:ext cx="6966000" cy="79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11" name="PlaceHolder 2"/>
          <p:cNvSpPr>
            <a:spLocks noGrp="1"/>
          </p:cNvSpPr>
          <p:nvPr>
            <p:ph type="subTitle"/>
          </p:nvPr>
        </p:nvSpPr>
        <p:spPr>
          <a:xfrm>
            <a:off x="324000" y="1989000"/>
            <a:ext cx="7043760" cy="3649680"/>
          </a:xfrm>
          <a:prstGeom prst="rect">
            <a:avLst/>
          </a:prstGeom>
          <a:noFill/>
          <a:ln w="0">
            <a:noFill/>
          </a:ln>
        </p:spPr>
        <p:txBody>
          <a:bodyPr lIns="90000" rIns="90000" tIns="46800" bIns="46800" anchor="t">
            <a:no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rategias cognitiva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nsamiento hipotético-deductivo</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nsamiento Proposicional: afirmaciones o enunciados “proposiciones” que contienen datos.</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pacidad de combinar posibles variables.  Esto al utilizarlo en un determinado análisis se combinan análisis y se toman decisiones.</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333360"/>
            <a:ext cx="6966000" cy="79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13" name="PlaceHolder 2"/>
          <p:cNvSpPr>
            <a:spLocks noGrp="1"/>
          </p:cNvSpPr>
          <p:nvPr>
            <p:ph type="subTitle"/>
          </p:nvPr>
        </p:nvSpPr>
        <p:spPr>
          <a:xfrm>
            <a:off x="324000" y="1989000"/>
            <a:ext cx="7043760" cy="3649680"/>
          </a:xfrm>
          <a:prstGeom prst="rect">
            <a:avLst/>
          </a:prstGeom>
          <a:noFill/>
          <a:ln w="0">
            <a:noFill/>
          </a:ln>
        </p:spPr>
        <p:txBody>
          <a:bodyPr lIns="90000" rIns="90000" tIns="46800" bIns="46800" anchor="t">
            <a:no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la adolescencia se espera que este pensamiento alcance su equilibrio, es decir, que se consolide la estructura operatoria.</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or lo tanto, se espera que el proceso de razonar, de combinar adecuadamente a la lógica de los elementos que lo componen.  Se funde una consideración objetiva de la realidad.</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87280" y="115920"/>
            <a:ext cx="69660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15" name="PlaceHolder 2"/>
          <p:cNvSpPr>
            <a:spLocks noGrp="1"/>
          </p:cNvSpPr>
          <p:nvPr>
            <p:ph type="subTitle"/>
          </p:nvPr>
        </p:nvSpPr>
        <p:spPr>
          <a:xfrm>
            <a:off x="324000" y="1989000"/>
            <a:ext cx="7043760" cy="3649680"/>
          </a:xfrm>
          <a:prstGeom prst="rect">
            <a:avLst/>
          </a:prstGeom>
          <a:noFill/>
          <a:ln w="0">
            <a:noFill/>
          </a:ln>
        </p:spPr>
        <p:txBody>
          <a:bodyPr lIns="90000" rIns="90000" tIns="46800" bIns="46800" anchor="t">
            <a:no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oma de Perspectiva Social:</a:t>
            </a: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la pubertad la reflexión se activa acerca</a:t>
            </a: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 sí mismo, alcanza un conocimiento</a:t>
            </a: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rsonal su mundo Interno. La realidad le</a:t>
            </a:r>
            <a:endParaRPr b="0" lang="en-US" sz="2800" spc="-1" strike="noStrike">
              <a:solidFill>
                <a:srgbClr val="ffffff"/>
              </a:solidFill>
              <a:latin typeface="Tahom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teresa</a:t>
            </a:r>
            <a:r>
              <a:rPr b="0" lang="es-MX" sz="3200" spc="-1" strike="noStrike">
                <a:solidFill>
                  <a:srgbClr val="ffffff"/>
                </a:solidFill>
                <a:latin typeface="Tahoma"/>
              </a:rPr>
              <a:t> solo en relación a sí mismo.</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46000" y="115920"/>
            <a:ext cx="69660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17" name="PlaceHolder 2"/>
          <p:cNvSpPr>
            <a:spLocks noGrp="1"/>
          </p:cNvSpPr>
          <p:nvPr>
            <p:ph type="subTitle"/>
          </p:nvPr>
        </p:nvSpPr>
        <p:spPr>
          <a:xfrm>
            <a:off x="394920" y="1773360"/>
            <a:ext cx="8280360" cy="364968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oma de Perspectiva Social:</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la adolescencia se produce la Confrontación que</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levará a la integración del mundo propio con el</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undo externo – social.</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pone en juego los recursos que se han ido</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dquiriendo en la vida, al tiempo que se define</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 que será en el futuro como adulto.</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area central: Pone énfasis en el carácter esencialmente social y cultural de su temátic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adolescente debe lograr la adaptación a la sociedad y asumir un rol de adult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lación con el ambiente</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risis Identidad v/s confusió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t>
            </a:r>
            <a:r>
              <a:rPr b="0" lang="es-MX" sz="3200" spc="-1" strike="noStrike">
                <a:solidFill>
                  <a:srgbClr val="ffffff"/>
                </a:solidFill>
                <a:latin typeface="Tahoma"/>
              </a:rPr>
              <a:t>Búsqueda consciente de la identidad basada en los resultados de las etapas anteriores.”</a:t>
            </a: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sarrollo Afectivo:</a:t>
            </a: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7240" indent="-597240">
              <a:lnSpc>
                <a:spcPct val="9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mpulsos</a:t>
            </a:r>
            <a:endParaRPr b="0" lang="en-US" sz="2800" spc="-1" strike="noStrike">
              <a:solidFill>
                <a:srgbClr val="ffffff"/>
              </a:solidFill>
              <a:latin typeface="Tahoma"/>
            </a:endParaRPr>
          </a:p>
          <a:p>
            <a:pPr marL="597240" indent="-597240">
              <a:lnSpc>
                <a:spcPct val="9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ntimientos</a:t>
            </a: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integración afectiva implica control, modulación</a:t>
            </a: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y expresión adecuados para lograr un sentido</a:t>
            </a: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ropio, una concepción de hombre y futuro.</a:t>
            </a:r>
            <a:endParaRPr b="0" lang="en-US" sz="2800" spc="-1" strike="noStrike">
              <a:solidFill>
                <a:srgbClr val="ffffff"/>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OLESCENCIA</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sarrollo Moral:</a:t>
            </a: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be alcanzar un nivel de autonomía moral, que</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upone que no sólo comprende las normas y sus</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ecesidades para regular la vida entre los</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hombres, sino además comprende y hace suyos</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valores que la inspiran.</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320" y="-76680"/>
            <a:ext cx="8991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pperplate Gothic Bold"/>
              </a:rPr>
              <a:t>Ámbitos constitutivos de la persona</a:t>
            </a:r>
            <a:endParaRPr b="0" lang="en-US" sz="4400" spc="-1" strike="noStrike">
              <a:solidFill>
                <a:srgbClr val="ffffff"/>
              </a:solidFill>
              <a:latin typeface="Tahoma"/>
            </a:endParaRPr>
          </a:p>
        </p:txBody>
      </p:sp>
      <p:sp>
        <p:nvSpPr>
          <p:cNvPr id="127" name=""/>
          <p:cNvSpPr/>
          <p:nvPr/>
        </p:nvSpPr>
        <p:spPr>
          <a:xfrm>
            <a:off x="2666880" y="838080"/>
            <a:ext cx="3276720" cy="2352960"/>
          </a:xfrm>
          <a:prstGeom prst="ellipse">
            <a:avLst/>
          </a:prstGeom>
          <a:gradFill rotWithShape="0">
            <a:gsLst>
              <a:gs pos="0">
                <a:srgbClr val="009999"/>
              </a:gs>
              <a:gs pos="50000">
                <a:srgbClr val="b7e1e1"/>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6600"/>
                </a:solidFill>
                <a:latin typeface="Garamond"/>
              </a:rPr>
              <a:t>Lenguaje</a:t>
            </a:r>
            <a:endParaRPr b="0" lang="en-US" sz="4000" spc="-1" strike="noStrike">
              <a:solidFill>
                <a:srgbClr val="ffffff"/>
              </a:solidFill>
              <a:latin typeface="Arial"/>
            </a:endParaRPr>
          </a:p>
        </p:txBody>
      </p:sp>
      <p:sp>
        <p:nvSpPr>
          <p:cNvPr id="128" name=""/>
          <p:cNvSpPr/>
          <p:nvPr/>
        </p:nvSpPr>
        <p:spPr>
          <a:xfrm>
            <a:off x="762120" y="2124000"/>
            <a:ext cx="3276360" cy="2352600"/>
          </a:xfrm>
          <a:prstGeom prst="ellipse">
            <a:avLst/>
          </a:prstGeom>
          <a:gradFill rotWithShape="0">
            <a:gsLst>
              <a:gs pos="0">
                <a:srgbClr val="00cc66"/>
              </a:gs>
              <a:gs pos="50000">
                <a:srgbClr val="b7efd3"/>
              </a:gs>
              <a:gs pos="100000">
                <a:srgbClr val="00cc6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990000"/>
                </a:solidFill>
                <a:latin typeface="Garamond"/>
              </a:rPr>
              <a:t>Corporalidad</a:t>
            </a:r>
            <a:endParaRPr b="0" lang="en-US" sz="4000" spc="-1" strike="noStrike">
              <a:solidFill>
                <a:srgbClr val="ffffff"/>
              </a:solidFill>
              <a:latin typeface="Arial"/>
            </a:endParaRPr>
          </a:p>
        </p:txBody>
      </p:sp>
      <p:sp>
        <p:nvSpPr>
          <p:cNvPr id="129" name=""/>
          <p:cNvSpPr/>
          <p:nvPr/>
        </p:nvSpPr>
        <p:spPr>
          <a:xfrm>
            <a:off x="3505320" y="2819520"/>
            <a:ext cx="3276360" cy="2352600"/>
          </a:xfrm>
          <a:prstGeom prst="ellipse">
            <a:avLst/>
          </a:prstGeom>
          <a:gradFill rotWithShape="0">
            <a:gsLst>
              <a:gs pos="0">
                <a:srgbClr val="ff9933"/>
              </a:gs>
              <a:gs pos="50000">
                <a:srgbClr val="fed1a4"/>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Garamond"/>
              </a:rPr>
              <a:t>Emocionalidad</a:t>
            </a:r>
            <a:endParaRPr b="0" lang="en-US" sz="4000" spc="-1" strike="noStrike">
              <a:solidFill>
                <a:srgbClr val="ffffff"/>
              </a:solidFill>
              <a:latin typeface="Arial"/>
            </a:endParaRPr>
          </a:p>
        </p:txBody>
      </p:sp>
      <p:sp>
        <p:nvSpPr>
          <p:cNvPr id="130" name=""/>
          <p:cNvSpPr/>
          <p:nvPr/>
        </p:nvSpPr>
        <p:spPr>
          <a:xfrm>
            <a:off x="160200" y="5213520"/>
            <a:ext cx="8323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nguaje</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Verbal y no verb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rporalidad</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Que decimos con nuestro cuerp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mocionalidad</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Disposiciones corporales, congruencia</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04920" y="-228600"/>
            <a:ext cx="9753840" cy="7315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32" name="" descr=""/>
          <p:cNvPicPr/>
          <p:nvPr/>
        </p:nvPicPr>
        <p:blipFill>
          <a:blip r:embed="rId2"/>
          <a:stretch/>
        </p:blipFill>
        <p:spPr>
          <a:xfrm>
            <a:off x="263520" y="0"/>
            <a:ext cx="7386480" cy="6524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EMPRANA</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lano cognitivo:</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madurez del pensamiento se refleja en la </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pacidad de combinar lo objetivo (elementos</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ógicos o racionales) con lo Subjetivo (elementos</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retos) o elementos basados en la experiencia</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rsonal. Contribuye a que las personas tengan en</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uenta sus propias experiencias.</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EMPRANA</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ea Social: Intimidad v/s aislamiento</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os jóvenes adultos necesitan y desean</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intimidad, requieren establecer</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mpromisos más profundos con los</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más.  Si no pueden lograrlo o temen</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cerlo, permanecerán aislados y abstraídos.  La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pacidad para establecer una relación íntima que</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manda sacrificio y compromiso, depende del</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ntido de la identidad, el cual es el aspecto</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ndamental en la adolescencia.  Un joven adulto</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yo sentido de identidad sea bastante fuerte está</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sto para relacionarse con otra persona.</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EMPRANA</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sentido de identidad desarrollado durante la adolescencia capacita a los jóvenes adultos para fundir su identidad con la de los demás.  Ellos resuelven exigencias incompatibles de identidad, competencia y distancia y desarrollan un sentido de la ética.  Están listos para establecer relaciones amorosas con el objetivo de proveer un ambiente sano para los hij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EMPRANA</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lano afectivo:</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compromiso</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acercamiento al sexo opuesto.</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laciones sexuales llevan a un compromiso afectivo.</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Hechos vitales:</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rrera – Embarazo – La experiencia de ser padres</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INTERMEDIA</a:t>
            </a: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 cognitivo:</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desempeño  en muchas pruebas estandarizadas de inteligencia aumenta en la edad adulta, en especial en aptitud verbal y tareas que implican almacenamiento de conocimiento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nque en esta etapa las personas se desempeñen con mayor lentitud y no sean tan expertas para resolver nuevos problemas algunas investigaciones revelan que la capacidad para resolver problemas prácticos alcanza su máximo desarrollo.  Muchas personas en edad adulta intermedia poseen un pensamiento integral.</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44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INTERMEDIA</a:t>
            </a:r>
            <a:endParaRPr b="0" lang="en-US" sz="4400" spc="-1" strike="noStrike">
              <a:solidFill>
                <a:srgbClr val="ffffff"/>
              </a:solidFill>
              <a:latin typeface="Tahoma"/>
            </a:endParaRPr>
          </a:p>
        </p:txBody>
      </p:sp>
      <p:sp>
        <p:nvSpPr>
          <p:cNvPr id="144" name="PlaceHolder 2"/>
          <p:cNvSpPr>
            <a:spLocks noGrp="1"/>
          </p:cNvSpPr>
          <p:nvPr>
            <p:ph/>
          </p:nvPr>
        </p:nvSpPr>
        <p:spPr>
          <a:xfrm>
            <a:off x="395280" y="1483920"/>
            <a:ext cx="8137440" cy="449748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 social: Generatividad v/s estancamiento.</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impulso por fomentar el desarrollo de la generación siguiente lleva a las personas de la edad adulta intermedia a volverse  tutores de los adultos jóvenes.  El deseo de tener niños es instintivo, por lo cual las personas que no los tienen deben reconocer su sensación de pérdida y expresar de otra manera sus impulsos generativos, ayudando a cuidar los hijos de otras personas directamente o como sus protegidos en el lugar de trabajo.  Algún estancamiento podría brindar un descanso que lleva a mayor creatividad futura.  Demasiado estancamiento podría llevar a invalidez física o psicológica.</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INTERMEDIA</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lano afecti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onsolidación en la pare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lación con los hijo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lación con los padres que envejece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Nido vací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48" name="" descr=""/>
          <p:cNvPicPr/>
          <p:nvPr/>
        </p:nvPicPr>
        <p:blipFill>
          <a:blip r:embed="rId2"/>
          <a:stretch/>
        </p:blipFill>
        <p:spPr>
          <a:xfrm>
            <a:off x="71280" y="189000"/>
            <a:ext cx="8964720" cy="6408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ARDI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lano cognitivo: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produce un deterioro a 3 niveles de la memor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nsoria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orto plaz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argo plaz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04640"/>
            <a:ext cx="69660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ADOLESCENCIA</a:t>
            </a:r>
            <a:endParaRPr b="0" lang="en-US" sz="4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ARDI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 social; Integridad v/s desesperación</a:t>
            </a:r>
            <a:r>
              <a:rPr b="0" lang="es-MX" sz="2800" spc="-1" strike="noStrike">
                <a:solidFill>
                  <a:srgbClr val="ffffff"/>
                </a:solidFill>
                <a:latin typeface="Tahoma"/>
              </a:rPr>
              <a:t>.</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rikson considera que las personas de edad avanzada enfrentan una necesidad de aceptar su vida la manera como han vivido, con el fin de aceptar su muerte próxima.  Luchan por lograr un sentido de integridad, de coherencia y totalidad de la vida, en vez de dar vía a la desesperación sobre la incapacidad para volver a vivirla de manera diferente.</a:t>
            </a:r>
            <a:endParaRPr b="0" lang="en-US" sz="28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ARDI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lano social; Integridad v/s desesperación</a:t>
            </a:r>
            <a:r>
              <a:rPr b="0" lang="es-MX"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personas que han tenido éxito en esta etapa integradora final –construyendo  sobre los resultados de las siete cirisis previas ganan un sentido más amplio del orden y del significado de sus vidas dentro de un ordenamiento  social más grande, pasado, presente y futuro.  La “virtud” que se desarrolla durante esta etapa es la </a:t>
            </a:r>
            <a:r>
              <a:rPr b="0" i="1" lang="es-MX" sz="2400" spc="-1" strike="noStrike">
                <a:solidFill>
                  <a:srgbClr val="ffffff"/>
                </a:solidFill>
                <a:latin typeface="Tahoma"/>
              </a:rPr>
              <a:t>sabiduría, </a:t>
            </a:r>
            <a:r>
              <a:rPr b="0" lang="es-MX" sz="2400" spc="-1" strike="noStrike">
                <a:solidFill>
                  <a:srgbClr val="ffffff"/>
                </a:solidFill>
                <a:latin typeface="Tahoma"/>
              </a:rPr>
              <a:t>un ”despreocupado e informado interés por la vida de cara a la muerte en sí misma (Erikson 1985)</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reatividad.</a:t>
            </a: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DULTEZ TARDIA</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UERTE  -  DUELO</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izabeth Kübler Ross planteó 5 etapas en términos de la proximidad de la muerte:</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egación</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ra</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úsqueda de tiempo extra</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presión</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ceptación final</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672120" y="600120"/>
            <a:ext cx="7889040" cy="4597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Comic Sans MS"/>
              </a:rPr>
              <a:t>¿Alguna vez has intentado actuar con filosofía canina?</a:t>
            </a:r>
            <a:endParaRPr b="0" lang="en-US" sz="2400" spc="-1" strike="noStrike">
              <a:solidFill>
                <a:srgbClr val="ffffff"/>
              </a:solidFill>
              <a:latin typeface="Arial"/>
            </a:endParaRPr>
          </a:p>
        </p:txBody>
      </p:sp>
      <p:sp>
        <p:nvSpPr>
          <p:cNvPr id="158" name=""/>
          <p:cNvSpPr/>
          <p:nvPr/>
        </p:nvSpPr>
        <p:spPr>
          <a:xfrm>
            <a:off x="707400" y="1219320"/>
            <a:ext cx="155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Comic Sans MS"/>
              </a:rPr>
              <a:t>Inténtalo</a:t>
            </a:r>
            <a:r>
              <a:rPr b="0" lang="es-ES" sz="2000" spc="-1" strike="noStrike">
                <a:solidFill>
                  <a:srgbClr val="ff3300"/>
                </a:solidFill>
                <a:latin typeface="Comic Sans MS"/>
              </a:rPr>
              <a:t>:</a:t>
            </a:r>
            <a:endParaRPr b="0" lang="en-US" sz="2000" spc="-1" strike="noStrike">
              <a:solidFill>
                <a:srgbClr val="ffffff"/>
              </a:solidFill>
              <a:latin typeface="Arial"/>
            </a:endParaRPr>
          </a:p>
        </p:txBody>
      </p:sp>
      <p:sp>
        <p:nvSpPr>
          <p:cNvPr id="159" name=""/>
          <p:cNvSpPr/>
          <p:nvPr/>
        </p:nvSpPr>
        <p:spPr>
          <a:xfrm>
            <a:off x="609480" y="1676520"/>
            <a:ext cx="7772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1. Nunca dejes pasar la oportunidad de salir a pasear.</a:t>
            </a:r>
            <a:br>
              <a:rPr sz="2400"/>
            </a:br>
            <a:r>
              <a:rPr b="0" lang="es-ES" sz="2400" spc="-1" strike="noStrike">
                <a:solidFill>
                  <a:srgbClr val="ffffff"/>
                </a:solidFill>
                <a:latin typeface="Comic Sans MS"/>
              </a:rPr>
              <a:t>2. Experimenta la sensación del aire fresco y del viento en tu  cara  solo por placer.</a:t>
            </a:r>
            <a:br>
              <a:rPr sz="2400"/>
            </a:br>
            <a:r>
              <a:rPr b="0" lang="es-ES" sz="2400" spc="-1" strike="noStrike">
                <a:solidFill>
                  <a:srgbClr val="ffffff"/>
                </a:solidFill>
                <a:latin typeface="Comic Sans MS"/>
              </a:rPr>
              <a:t>3. Cuando alguien a quien amas se aproxima, corre para saludarle y muestrale alegría por su llegada.</a:t>
            </a:r>
            <a:br>
              <a:rPr sz="2400"/>
            </a:br>
            <a:r>
              <a:rPr b="0" lang="es-ES" sz="2400" spc="-1" strike="noStrike">
                <a:solidFill>
                  <a:srgbClr val="ffffff"/>
                </a:solidFill>
                <a:latin typeface="Comic Sans MS"/>
              </a:rPr>
              <a:t>4. Cuando haga falta, practica la obediencia.</a:t>
            </a:r>
            <a:br>
              <a:rPr sz="2400"/>
            </a:br>
            <a:r>
              <a:rPr b="0" lang="es-ES" sz="2400" spc="-1" strike="noStrike">
                <a:solidFill>
                  <a:srgbClr val="ffffff"/>
                </a:solidFill>
                <a:latin typeface="Comic Sans MS"/>
              </a:rPr>
              <a:t>5. Deja que los demas sepan cuando están invadiendo tu territorio.</a:t>
            </a:r>
            <a:br>
              <a:rPr sz="2400"/>
            </a:br>
            <a:r>
              <a:rPr b="0" lang="es-ES" sz="2400" spc="-1" strike="noStrike">
                <a:solidFill>
                  <a:srgbClr val="ffffff"/>
                </a:solidFill>
                <a:latin typeface="Comic Sans MS"/>
              </a:rPr>
              <a:t>6. Siempre que puedas toma una siesta y estírate antes de levantarte.</a:t>
            </a:r>
            <a:br>
              <a:rPr sz="2400"/>
            </a:br>
            <a:r>
              <a:rPr b="0" lang="es-ES" sz="2400" spc="-1" strike="noStrike">
                <a:solidFill>
                  <a:srgbClr val="ffffff"/>
                </a:solidFill>
                <a:latin typeface="Comic Sans MS"/>
              </a:rPr>
              <a:t>7. Corre, salta y juega diariamente.</a:t>
            </a:r>
            <a:br>
              <a:rPr sz="2400"/>
            </a:br>
            <a:endParaRPr b="0" lang="en-US" sz="2400" spc="-1" strike="noStrike">
              <a:solidFill>
                <a:srgbClr val="ffffff"/>
              </a:solidFill>
              <a:latin typeface="Arial"/>
            </a:endParaRPr>
          </a:p>
        </p:txBody>
      </p:sp>
      <p:pic>
        <p:nvPicPr>
          <p:cNvPr id="160" name="" descr=""/>
          <p:cNvPicPr/>
          <p:nvPr/>
        </p:nvPicPr>
        <p:blipFill>
          <a:blip r:embed="rId2"/>
          <a:stretch/>
        </p:blipFill>
        <p:spPr>
          <a:xfrm>
            <a:off x="7238880" y="4495680"/>
            <a:ext cx="1536840" cy="2133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457200" y="8319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8. Sé siempre leal.</a:t>
            </a:r>
            <a:br>
              <a:rPr sz="2400"/>
            </a:br>
            <a:r>
              <a:rPr b="0" lang="es-ES" sz="2400" spc="-1" strike="noStrike">
                <a:solidFill>
                  <a:srgbClr val="ffffff"/>
                </a:solidFill>
                <a:latin typeface="Comic Sans MS"/>
              </a:rPr>
              <a:t>9. Come con gusto y con entusiasmo, pero detente cuando ya estés satisfecho.</a:t>
            </a:r>
            <a:br>
              <a:rPr sz="2400"/>
            </a:br>
            <a:r>
              <a:rPr b="0" lang="es-ES" sz="2400" spc="-1" strike="noStrike">
                <a:solidFill>
                  <a:srgbClr val="ffffff"/>
                </a:solidFill>
                <a:latin typeface="Comic Sans MS"/>
              </a:rPr>
              <a:t>10. Nunca pretendas ser algo que no eres.</a:t>
            </a:r>
            <a:br>
              <a:rPr sz="2400"/>
            </a:br>
            <a:r>
              <a:rPr b="0" lang="es-ES" sz="2400" spc="-1" strike="noStrike">
                <a:solidFill>
                  <a:srgbClr val="ffffff"/>
                </a:solidFill>
                <a:latin typeface="Comic Sans MS"/>
              </a:rPr>
              <a:t>11. Si lo que deseas esta enterrado, cava hasta encontrarlo.</a:t>
            </a:r>
            <a:br>
              <a:rPr sz="2400"/>
            </a:br>
            <a:r>
              <a:rPr b="0" lang="es-ES" sz="2400" spc="-1" strike="noStrike">
                <a:solidFill>
                  <a:srgbClr val="ffffff"/>
                </a:solidFill>
                <a:latin typeface="Comic Sans MS"/>
              </a:rPr>
              <a:t>12. Cuando alguien tenga un mal día, guarda silencio, siéntate cerca de él(ella) y trata de agradarle.</a:t>
            </a:r>
            <a:br>
              <a:rPr sz="2400"/>
            </a:br>
            <a:r>
              <a:rPr b="0" lang="es-ES" sz="2400" spc="-1" strike="noStrike">
                <a:solidFill>
                  <a:srgbClr val="ffffff"/>
                </a:solidFill>
                <a:latin typeface="Comic Sans MS"/>
              </a:rPr>
              <a:t>13. Cuando quieras llamar la atención, deja que alguien te toque.</a:t>
            </a:r>
            <a:br>
              <a:rPr sz="2400"/>
            </a:br>
            <a:r>
              <a:rPr b="0" lang="es-ES" sz="2400" spc="-1" strike="noStrike">
                <a:solidFill>
                  <a:srgbClr val="ffffff"/>
                </a:solidFill>
                <a:latin typeface="Comic Sans MS"/>
              </a:rPr>
              <a:t>14. Evita morder  cuando la cuestión pueda solucionrse con un simple gruñido.</a:t>
            </a:r>
            <a:br>
              <a:rPr sz="2400"/>
            </a:br>
            <a:r>
              <a:rPr b="0" lang="es-ES" sz="2400" spc="-1" strike="noStrike">
                <a:solidFill>
                  <a:srgbClr val="ffffff"/>
                </a:solidFill>
                <a:latin typeface="Comic Sans MS"/>
              </a:rPr>
              <a:t>15. En los días calidos, acuestate sobre tu espalda en el césped.</a:t>
            </a:r>
            <a:br>
              <a:rPr sz="2400"/>
            </a:br>
            <a:endParaRPr b="0" lang="en-US" sz="2400" spc="-1" strike="noStrike">
              <a:solidFill>
                <a:srgbClr val="ffffff"/>
              </a:solidFill>
              <a:latin typeface="Arial"/>
            </a:endParaRPr>
          </a:p>
        </p:txBody>
      </p:sp>
      <p:pic>
        <p:nvPicPr>
          <p:cNvPr id="162" name="" descr=""/>
          <p:cNvPicPr/>
          <p:nvPr/>
        </p:nvPicPr>
        <p:blipFill>
          <a:blip r:embed="rId2"/>
          <a:stretch/>
        </p:blipFill>
        <p:spPr>
          <a:xfrm>
            <a:off x="7620120" y="914400"/>
            <a:ext cx="1261800" cy="1523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914400" y="685800"/>
            <a:ext cx="73468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16. En los días calurosos, bebe mucha agua y descansa bajo un árbol frondoso o en tu rinconcito preferido.</a:t>
            </a:r>
            <a:br>
              <a:rPr sz="2400"/>
            </a:br>
            <a:r>
              <a:rPr b="0" lang="es-ES" sz="2400" spc="-1" strike="noStrike">
                <a:solidFill>
                  <a:srgbClr val="ffffff"/>
                </a:solidFill>
                <a:latin typeface="Comic Sans MS"/>
              </a:rPr>
              <a:t>17. Cuando te sientas feliz, baila y balancea tu cuerpo.</a:t>
            </a:r>
            <a:br>
              <a:rPr sz="2400"/>
            </a:br>
            <a:r>
              <a:rPr b="0" lang="es-ES" sz="2400" spc="-1" strike="noStrike">
                <a:solidFill>
                  <a:srgbClr val="ffffff"/>
                </a:solidFill>
                <a:latin typeface="Comic Sans MS"/>
              </a:rPr>
              <a:t>18. No importa cuantas veces seas censurado, no asumas culpas que no te pertenecen, no guardes ningún rencor y no te entristezcas ... corre inmediatamente hacia tus amigos.</a:t>
            </a:r>
            <a:br>
              <a:rPr sz="2400"/>
            </a:br>
            <a:r>
              <a:rPr b="0" lang="es-ES" sz="2400" spc="-1" strike="noStrike">
                <a:solidFill>
                  <a:srgbClr val="ffffff"/>
                </a:solidFill>
                <a:latin typeface="Comic Sans MS"/>
              </a:rPr>
              <a:t>19. Alégrate con el simple placer de una caminata.</a:t>
            </a:r>
            <a:br>
              <a:rPr sz="2400"/>
            </a:br>
            <a:r>
              <a:rPr b="0" lang="es-ES" sz="2400" spc="-1" strike="noStrike">
                <a:solidFill>
                  <a:srgbClr val="ffffff"/>
                </a:solidFill>
                <a:latin typeface="Comic Sans MS"/>
              </a:rPr>
              <a:t>20. Mantente siempre alerta pero tranquilo.</a:t>
            </a:r>
            <a:br>
              <a:rPr sz="2400"/>
            </a:br>
            <a:r>
              <a:rPr b="0" lang="es-ES" sz="2400" spc="-1" strike="noStrike">
                <a:solidFill>
                  <a:srgbClr val="ffffff"/>
                </a:solidFill>
                <a:latin typeface="Comic Sans MS"/>
              </a:rPr>
              <a:t>21. Da cariño con alegría y deja que te acaricien.</a:t>
            </a:r>
            <a:endParaRPr b="0" lang="en-US" sz="2400" spc="-1" strike="noStrike">
              <a:solidFill>
                <a:srgbClr val="ffffff"/>
              </a:solidFill>
              <a:latin typeface="Arial"/>
            </a:endParaRPr>
          </a:p>
        </p:txBody>
      </p:sp>
      <p:pic>
        <p:nvPicPr>
          <p:cNvPr id="164" name="" descr=""/>
          <p:cNvPicPr/>
          <p:nvPr/>
        </p:nvPicPr>
        <p:blipFill>
          <a:blip r:embed="rId2"/>
          <a:stretch/>
        </p:blipFill>
        <p:spPr>
          <a:xfrm>
            <a:off x="6858000" y="4191120"/>
            <a:ext cx="2286000" cy="1904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4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08000" y="476280"/>
            <a:ext cx="8929800" cy="5430960"/>
          </a:xfrm>
          <a:prstGeom prst="rect">
            <a:avLst/>
          </a:prstGeom>
          <a:ln w="0">
            <a:noFill/>
          </a:ln>
        </p:spPr>
      </p:pic>
      <p:grpSp>
        <p:nvGrpSpPr>
          <p:cNvPr id="96" name=""/>
          <p:cNvGrpSpPr/>
          <p:nvPr/>
        </p:nvGrpSpPr>
        <p:grpSpPr>
          <a:xfrm>
            <a:off x="0" y="1143000"/>
            <a:ext cx="3809880" cy="1752480"/>
            <a:chOff x="0" y="1143000"/>
            <a:chExt cx="3809880" cy="1752480"/>
          </a:xfrm>
        </p:grpSpPr>
        <p:sp>
          <p:nvSpPr>
            <p:cNvPr id="97" name=""/>
            <p:cNvSpPr/>
            <p:nvPr/>
          </p:nvSpPr>
          <p:spPr>
            <a:xfrm>
              <a:off x="0" y="1143000"/>
              <a:ext cx="3809880" cy="175248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1447920"/>
              <a:ext cx="374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10199"/>
                  </a:solidFill>
                  <a:latin typeface="Comic Sans MS"/>
                </a:rPr>
                <a:t>¡¡Soy Superman, aquí estoy yo..!!</a:t>
              </a:r>
              <a:endParaRPr b="0" lang="en-US" sz="24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19080"/>
            <a:ext cx="9144000" cy="6818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476280"/>
            <a:ext cx="8229600" cy="4114800"/>
          </a:xfrm>
          <a:prstGeom prst="rect">
            <a:avLst/>
          </a:prstGeom>
          <a:noFill/>
          <a:ln w="0">
            <a:noFill/>
          </a:ln>
        </p:spPr>
        <p:txBody>
          <a:bodyPr lIns="90000" rIns="90000" tIns="46800" bIns="46800" anchor="t">
            <a:normAutofit fontScale="96000"/>
          </a:bodyPr>
          <a:p>
            <a:pPr marL="3290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NISHED FILES ARE THE</a:t>
            </a:r>
            <a:endParaRPr b="0" lang="en-US" sz="4400" spc="-1" strike="noStrike">
              <a:solidFill>
                <a:srgbClr val="ffffff"/>
              </a:solidFill>
              <a:latin typeface="Tahoma"/>
            </a:endParaRPr>
          </a:p>
          <a:p>
            <a:pPr marL="3290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RESULT OF YEARS OF SCIENTIFIC STUDY COMBINED WITH THE EXPERIENCE OF MANY YEARS</a:t>
            </a:r>
            <a:endParaRPr b="0" lang="en-US" sz="4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468360" y="1484280"/>
            <a:ext cx="777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0" y="179280"/>
            <a:ext cx="9144000" cy="6403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7000" y="-18000"/>
            <a:ext cx="8991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pperplate Gothic Bold"/>
              </a:rPr>
              <a:t>Ámbitos constitutivos de la persona</a:t>
            </a:r>
            <a:endParaRPr b="0" lang="en-US" sz="4000" spc="-1" strike="noStrike">
              <a:solidFill>
                <a:srgbClr val="ffffff"/>
              </a:solidFill>
              <a:latin typeface="Tahoma"/>
            </a:endParaRPr>
          </a:p>
        </p:txBody>
      </p:sp>
      <p:sp>
        <p:nvSpPr>
          <p:cNvPr id="104" name=""/>
          <p:cNvSpPr/>
          <p:nvPr/>
        </p:nvSpPr>
        <p:spPr>
          <a:xfrm>
            <a:off x="2978280" y="907920"/>
            <a:ext cx="3276360" cy="2352960"/>
          </a:xfrm>
          <a:prstGeom prst="ellipse">
            <a:avLst/>
          </a:prstGeom>
          <a:gradFill rotWithShape="0">
            <a:gsLst>
              <a:gs pos="0">
                <a:srgbClr val="009999"/>
              </a:gs>
              <a:gs pos="50000">
                <a:srgbClr val="b7e1e1"/>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6600"/>
                </a:solidFill>
                <a:latin typeface="Garamond"/>
              </a:rPr>
              <a:t>Lenguaje</a:t>
            </a:r>
            <a:endParaRPr b="0" lang="en-US" sz="4000" spc="-1" strike="noStrike">
              <a:solidFill>
                <a:srgbClr val="ffffff"/>
              </a:solidFill>
              <a:latin typeface="Arial"/>
            </a:endParaRPr>
          </a:p>
        </p:txBody>
      </p:sp>
      <p:sp>
        <p:nvSpPr>
          <p:cNvPr id="105" name=""/>
          <p:cNvSpPr/>
          <p:nvPr/>
        </p:nvSpPr>
        <p:spPr>
          <a:xfrm>
            <a:off x="1073160" y="2193840"/>
            <a:ext cx="3276720" cy="2352600"/>
          </a:xfrm>
          <a:prstGeom prst="ellipse">
            <a:avLst/>
          </a:prstGeom>
          <a:gradFill rotWithShape="0">
            <a:gsLst>
              <a:gs pos="0">
                <a:srgbClr val="00cc66"/>
              </a:gs>
              <a:gs pos="50000">
                <a:srgbClr val="b7efd3"/>
              </a:gs>
              <a:gs pos="100000">
                <a:srgbClr val="00cc6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990000"/>
                </a:solidFill>
                <a:latin typeface="Garamond"/>
              </a:rPr>
              <a:t>Corporalidad</a:t>
            </a:r>
            <a:endParaRPr b="0" lang="en-US" sz="4000" spc="-1" strike="noStrike">
              <a:solidFill>
                <a:srgbClr val="ffffff"/>
              </a:solidFill>
              <a:latin typeface="Arial"/>
            </a:endParaRPr>
          </a:p>
        </p:txBody>
      </p:sp>
      <p:sp>
        <p:nvSpPr>
          <p:cNvPr id="106" name=""/>
          <p:cNvSpPr/>
          <p:nvPr/>
        </p:nvSpPr>
        <p:spPr>
          <a:xfrm>
            <a:off x="3816360" y="2889360"/>
            <a:ext cx="3276720" cy="2352600"/>
          </a:xfrm>
          <a:prstGeom prst="ellipse">
            <a:avLst/>
          </a:prstGeom>
          <a:gradFill rotWithShape="0">
            <a:gsLst>
              <a:gs pos="0">
                <a:srgbClr val="ff9933"/>
              </a:gs>
              <a:gs pos="50000">
                <a:srgbClr val="fed1a4"/>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Garamond"/>
              </a:rPr>
              <a:t>Emocionalidad</a:t>
            </a:r>
            <a:endParaRPr b="0" lang="en-US" sz="4000" spc="-1" strike="noStrike">
              <a:solidFill>
                <a:srgbClr val="ffffff"/>
              </a:solidFill>
              <a:latin typeface="Arial"/>
            </a:endParaRPr>
          </a:p>
        </p:txBody>
      </p:sp>
      <p:sp>
        <p:nvSpPr>
          <p:cNvPr id="107" name=""/>
          <p:cNvSpPr/>
          <p:nvPr/>
        </p:nvSpPr>
        <p:spPr>
          <a:xfrm>
            <a:off x="160200" y="5213520"/>
            <a:ext cx="8323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nguaje</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Verbal y no verb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rporalidad</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Que decimos con nuestro cuerp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mocionalidad</a:t>
            </a:r>
            <a:r>
              <a:rPr b="1" lang="es-ES_tradnl" sz="2400" spc="-1" strike="noStrike">
                <a:solidFill>
                  <a:srgbClr val="ffffff"/>
                </a:solidFill>
                <a:latin typeface="Arial"/>
              </a:rPr>
              <a:t>	</a:t>
            </a:r>
            <a:r>
              <a:rPr b="1" lang="es-ES_tradnl" sz="2400" spc="-1" strike="noStrike">
                <a:solidFill>
                  <a:srgbClr val="ffffff"/>
                </a:solidFill>
                <a:latin typeface="Arial"/>
              </a:rPr>
              <a:t>: </a:t>
            </a:r>
            <a:r>
              <a:rPr b="0" lang="es-ES_tradnl" sz="2400" spc="-1" strike="noStrike">
                <a:solidFill>
                  <a:srgbClr val="ffffff"/>
                </a:solidFill>
                <a:latin typeface="Arial"/>
              </a:rPr>
              <a:t>Disposiciones corporales, congruencia</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01:40:07Z</dcterms:created>
  <dc:creator>Usuario Autorizado de HP</dc:creator>
  <dc:description/>
  <dc:language>en-US</dc:language>
  <cp:lastModifiedBy>Hospital U de Chile</cp:lastModifiedBy>
  <dcterms:modified xsi:type="dcterms:W3CDTF">2005-06-03T13:55:04Z</dcterms:modified>
  <cp:revision>24</cp:revision>
  <dc:subject/>
  <dc:title>ADOLESCENCIA</dc:title>
</cp:coreProperties>
</file>