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810C-1310-4B0C-BE8C-E2D040C4F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BCA0-F659-4612-ABE3-208C837F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D08E-07F2-4618-9AEE-4D958E6A5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34F6-DC78-46EE-91CB-2A1D6ED29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2307-524C-4034-805A-4E861779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3CDD-AACE-4504-A182-6ADC19E9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7CBC-CB0E-4B9B-A515-6353E24C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9B4C-8A0E-49F0-849C-D478FA54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1F78-EF43-41CF-880F-5027E12F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6191-EA9B-4A28-BEED-F4E3516F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2451-3C86-4DDE-9473-BE8BE4AF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851F-7D82-4280-B9F0-AAC73B10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AB20466-FBDD-4764-9397-9AC7B34DFFF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lección de profe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mbiente físico y so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rsonas que compa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uicios de valor y normas mor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ilo de 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6253200" y="3733920"/>
          <a:ext cx="2889360" cy="31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0" y="3733920"/>
                    <a:ext cx="2889360" cy="31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5070600" y="3809880"/>
          <a:ext cx="3235320" cy="24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0600" y="3809880"/>
                    <a:ext cx="323532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risis edad me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ngustia existen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vejec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ijos adolesc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dres jubilando, más depend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nopausia cerc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alida de los hij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dulto madu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Éxito en su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e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Éxito con sus hij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legada de los ni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ci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ctitud pate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limate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2080" y="2285640"/>
            <a:ext cx="7620120" cy="42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mbios horm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mbios físicos (feminid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ulnerabilidad emo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dul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DULTO JO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quisición de un sentido de la intimidad y de la solida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isl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duc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sarrollo del am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DULTO MAD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quisición de un sentido de la genera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uto-absor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duc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sarrollo del cuid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lección de cónyu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probación social de sexu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pacidad de interrelación ín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portunidad de re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sarrollo personalidad y estilo de 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pacidad de a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tern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atrimon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pacidad de interrelación ín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atisfacción sex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bienestar del uno está ligado a la satisfacción del ot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erto grado de fusión de la person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oles esposo y espo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aternidad y Matern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mor a una tercera pers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iño foco comú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ntido de realización y plenit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uj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m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dulto Jov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lcanza su ident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sume responsabilidad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ección de profesión y/o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cepta las consecuencias de sus deci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pacidad de vivir intimamente con una persona del sexo opue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iensa en la formación de una fami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dulto Jov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lminación de su vigor físico y m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pacidad de constancia en la a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ugar en el sistema so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ás tolerante para los errores de los demás y a las decepciones que le ocasion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dulto Jov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20 a 40 añ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646280" y="1981080"/>
          <a:ext cx="1868400" cy="409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6280" y="1981080"/>
                    <a:ext cx="186840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dulto madu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85800" y="2428920"/>
          <a:ext cx="379080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28920"/>
                    <a:ext cx="379080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40 a 60 añ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dulto madu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Times New Roman"/>
              </a:rPr>
              <a:t>CRISI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105520" y="1981080"/>
          <a:ext cx="2874960" cy="409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1981080"/>
                    <a:ext cx="287496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7T11:41:50Z</dcterms:created>
  <dc:creator>CHRISTEL HANNE</dc:creator>
  <dc:description/>
  <dc:language>en-US</dc:language>
  <cp:lastModifiedBy>Facultad de Medicina</cp:lastModifiedBy>
  <dcterms:modified xsi:type="dcterms:W3CDTF">2003-05-28T16:26:09Z</dcterms:modified>
  <cp:revision>18</cp:revision>
  <dc:subject/>
  <dc:title>Elección de profesión</dc:title>
</cp:coreProperties>
</file>