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05B-788E-4157-8BF5-1E43867D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1B4-1321-42AF-B2A7-663BCC14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6FB-9753-4CA6-A576-403666D6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7C0-BB0B-4851-84E9-F2CA6731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C3F-A926-4A3B-BB59-22D495F0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951-6688-4AF6-ACF7-3E5F75C8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640-9E87-4739-9C38-ED0F9BC8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48E-C1C9-4FCE-9D03-82304F4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D45-58C3-4AA3-A47C-3C838EBA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244-C7B8-4043-B0ED-0A6BE1E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BF2-DF50-463A-8D4E-A9E4BD5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180-939E-4D23-8DCA-7D928BDE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F83F73-DBFA-4F9C-B99D-AE1AE6F5B14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ección de prof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fís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sonas que comp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icios de valor y normas mo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253200" y="3733920"/>
          <a:ext cx="288936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3733920"/>
                    <a:ext cx="288936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70600" y="3809880"/>
          <a:ext cx="323532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0600" y="3809880"/>
                    <a:ext cx="323532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isis edad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gustia exis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vej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ijos adolesc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dres jubilando, más de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nopausia cerc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alida de los h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mad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Éxito en su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e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Éxito con sus h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legada de los ni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c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tud pate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imate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080" y="2285640"/>
            <a:ext cx="7620120" cy="42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s horm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s físicos (femin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ulnerabilidad emo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 JO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quisición de un sentido de la intimidad y de la solida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isl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o del am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 MAD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quisición de un sentido de la genera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o-absor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o del cuid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ección de cónyu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robación social de sex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interrelación ín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ortunidad de re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personalidad y esti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a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er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trim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interrelación ín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atisfacción sex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bienestar del uno está ligado a la satisfacción del o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erto grado de fusión de la person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oles esposo y esp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ternidad y Matern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or a una tercera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ño foc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tido de realización y plen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J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canza su ide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ume responsabil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ección de profesión y/o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epta las consecuencias de sus deci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vivir intimamente con una persona del sexo o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iensa en la formación de una fam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J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lminación de su vigor físico y 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constancia en la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gar en el sistem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ás tolerante para los errores de los demás y a las decepciones que le ocasio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J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0 a 4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46280" y="1981080"/>
          <a:ext cx="18684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981080"/>
                    <a:ext cx="18684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mad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428920"/>
          <a:ext cx="37908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28920"/>
                    <a:ext cx="3790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40 a 6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mad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CRI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105520" y="1981080"/>
          <a:ext cx="287496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81080"/>
                    <a:ext cx="287496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7T11:41:50Z</dcterms:created>
  <dc:creator>CHRISTEL HANNE</dc:creator>
  <dc:description/>
  <dc:language>en-US</dc:language>
  <cp:lastModifiedBy>Facultad de Medicina</cp:lastModifiedBy>
  <dcterms:modified xsi:type="dcterms:W3CDTF">2003-05-28T16:26:09Z</dcterms:modified>
  <cp:revision>18</cp:revision>
  <dc:subject/>
  <dc:title>Elección de profesión</dc:title>
</cp:coreProperties>
</file>