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E98-63F5-43CC-B24D-D5F03357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D88-3695-4383-BC1D-EF973C9D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BF3-58CE-420A-84E5-0F5FE364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BBC-3386-4E56-A7F7-10BAFD36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7CF0-10AB-4B81-8851-B43F68B4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2BAF-EA09-4947-B31C-A5B0F41D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2284-17F4-4A41-B0E3-F982A76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DF56-468B-4BB2-9D51-DBA034DE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F8C1-EF41-4C46-97A2-8FA54665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B72E-07FD-4BEA-B5EE-2393F026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ED78-2887-4F1D-8969-2DF3B56B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820-2C1F-40FD-ACBA-3FDBA64C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141D-473B-4071-82F5-66751BF3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5513-BB76-4973-8A57-E13CDE40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E5A3-0C73-433F-80B2-B94D2366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D174-24BC-4C83-89D3-77176C5F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2E32-534F-4FDE-AE2F-F193BC34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BA9-057E-4D88-84EF-C66CAD6A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944-3796-423F-9F34-094E6A6A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5F2-44C5-4187-A5AB-A147173F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236-967A-4D87-899A-554A8C52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C7E-BF33-4B72-9134-CB496D5A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40A-424C-4623-B9EB-A53C2AFF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382-163F-48A7-9095-7E00EBA4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8CEC-15C2-4E3A-9EF5-EE461EE3014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3A35-3B4F-481A-8A58-53A914E0066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sarrollo de identidad en adolescen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ra. María Luisa Aguirre Cal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édico Pediat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artamento de Pediatría y Cirugía infanti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pus Centr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cultad de Medicina. Universidad de Ch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971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91960" y="549360"/>
            <a:ext cx="40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Adolescencia tempr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(10 a 13 año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2266920" cy="3024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019120" y="0"/>
            <a:ext cx="4293720" cy="6751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Cambio corporal fundame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Fin de adolescencia tempran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Menarquia y espermarqu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Interacción con pares: grup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equeños del mismo sex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namoramientos fugaces, am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latónicos, pasión por can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 artis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Fantasías sexuales y masturb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Ambivalencia afectiva en el ámbi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Familiar: deseo de mayor autonomí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ero requieren frecuentem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Seguridad y protección de la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Afecto y rechazo se intercambi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Tendencia a la obstinación y rebeldí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Cambios bruscos de hum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ensamiento concre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5713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71680" cy="1230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9640" y="2684520"/>
            <a:ext cx="3888000" cy="2589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56640" y="868320"/>
            <a:ext cx="348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Adolescencia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(14 a 16 añ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0"/>
            <a:ext cx="3995640" cy="7811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Apariencia física: horas frente 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pejo, vestimentas extravag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Intenta romper con depende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Familiar, busca amistades íntima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Se identifica con su grupo de par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Que es su refer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(grupos protectores y de alto riesg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Conflictos y discrepancias con 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ad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rimeros polole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ensamiento operatorio formal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Abstracto e hipotético deductiv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Sentimiento de omnipotenci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Vulnerabilidad. Conductas de ries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Reflexión intensa sobre sí mism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y sobre la socie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Rol de adutos: poner límites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Acompañar el proc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83880" y="725400"/>
            <a:ext cx="34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Adolescencia tar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(17 a 19 año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2016000" cy="169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2016000" cy="1378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24000" y="3645000"/>
            <a:ext cx="2286000" cy="1646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79280" y="260280"/>
            <a:ext cx="571680" cy="1230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54640" y="836640"/>
            <a:ext cx="4689360" cy="619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duración bi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solidación de la ident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oma la decisión de trabajar o estud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ensamiento operatorio form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durez cognitiva que le permi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mprender mejor la realidad y tom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ecisiones satisfactor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pacidad de intimar: relacione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areja estables. Identidad sex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paración de la familia, relaci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 los padres son más cerca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esarrollo vocacional y de val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14720" y="0"/>
            <a:ext cx="6929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ahoma"/>
              </a:rPr>
              <a:t>Características del desarrollo cognitivo y psicosocial durante la adolescencia 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(Neinstein.  Adolescent Health Care: a practical guide, 2000.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9280" y="1341360"/>
          <a:ext cx="8424720" cy="5635800"/>
        </p:xfrm>
        <a:graphic>
          <a:graphicData uri="http://schemas.openxmlformats.org/drawingml/2006/table">
            <a:tbl>
              <a:tblPr/>
              <a:tblGrid>
                <a:gridCol w="2570040"/>
                <a:gridCol w="2049480"/>
                <a:gridCol w="1854360"/>
                <a:gridCol w="19508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a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dolescencia tempra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( 10 a 13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dolescencia me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(14 a 16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dolescencia Tard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(17 a 19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Autonom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co interés en actividades con padres. Humor cambia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lictos con los pad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ceptación de consejos y valores de pad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Imagen Cor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eguridad respecto a propia aparienci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ocupación por hacerse físicamente más atractivo (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eptación de cambios pubera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Relación con sus pa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aciones intensas con amigos mismo sex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ortancia grupo pares. Aumento de exploración sexu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yor dedicación a relaciones íntima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Ide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menta fantasía. Mayor privacidad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ulsiv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arrollo cognitiv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ntimientos de omnipotencia 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ductas de riesg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as vocaciona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es prop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omis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ímit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5713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Al final de la adolescencia, se logra en la mayoría de los adolescentes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dad personal: un sentido coherente de quién soy, que no cambia significativamente de un lugar a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imidad: capacidad para establecer relaciones maduras, tanto sexuales como emocio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idad: un sentido claro de lo que está bien y de lo que está mal; desarrollo de comportamientos socialmente respons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cia psicológica: sentido de si mismo que permite tomar decisiones y asumir funciones y responsabilidades de los adul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cia física: capacidad de dejar la familia y ganarse el propio sust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442360" y="189000"/>
            <a:ext cx="701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55560" y="892080"/>
            <a:ext cx="808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bajo grupal (20 minuto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es de riesgo y factores protecto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el desarrollo de la identidad dur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adolesc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l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c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r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101080" y="476280"/>
            <a:ext cx="57132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43280" y="304560"/>
            <a:ext cx="5767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Factores de riesg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Biológico - genético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istoria familiar de alcoho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Ambiente socia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breza, alienación, inequidad, falta de oportun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Ambiente psicológico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delos desviados, conflicto intrafamiliar o de p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Personalidad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ja autoestima, aventurerismo, impulsividad, angust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Conducta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jo rendimiento escolar, ingesta de alcohol exces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571320" cy="1230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4097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11280" y="304560"/>
            <a:ext cx="5400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tores protectore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Biológico genético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teligencia normal o elev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mbiente social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lidad de sistemas escolares, cohesión familiar, barrios bien desarrollados, adultos interes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mbiente psicológico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odelos adecuados, controles adecuados de las conductas desvi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ersonalidad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valoración de los logros, valoración de la buena salud, intolerancia de la desviación soc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ucta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ticipación en la iglesia, clubes, organizaciones voluntarias de la escuela y comun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172360" y="189000"/>
            <a:ext cx="571680" cy="1230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1447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64000" y="304560"/>
            <a:ext cx="5046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silien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armezy: ”resiliencia se refiere al proceso de y a la capacidad de llegar a una adaptación exitosa a pesar de circunstancias desafiantes o amenazadoras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nistendael: “la resiliencia es la capacidad de una persona o de un sistema social de vivir bien y desarrollarse positivamente a pesar de las condiciones de vida difíciles, y esto de una manera socialmente aceptabl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onentes de la resiliencia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sistencia: capacidad de proteger la propia identidad bajo pres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pacidad de construir : un estilo de vida positivo pese a circunstancias difíci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572680" y="0"/>
            <a:ext cx="571320" cy="1230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2232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es de apoyo soc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dad para darle un sentido a la v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titudes soc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trezas de resolución de probl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est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tido del hum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mbitos que permiten promover la Resilien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5713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Definicione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dolescencia: (O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la etapa que ocurre entre los 10 y 20 años de edad, coincidiendo su inicio con los cambios puberales y finalizando al cumplirse gran parte del crecimiento y desarrollo morfológ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juventud, por otra parte, es el período entre los 15 y 25 años de edad. Constituye una categoría sociológica, caracterizada por asumir los jóvenes con plenitud sus derechos y responsabilidades socia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885080" y="-387360"/>
            <a:ext cx="971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rategias de promoción de salud en adolescen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enerar políticas públicas que permitan crear condiciones adecuadas al desarrollo de potencialidades de los jóv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talecimiento de la participación social y comunit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rrollo de habilidades personales (autocuidado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ción de ambientes salud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orientación de los servicios de salu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478720" y="260280"/>
            <a:ext cx="6652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69960" y="466560"/>
            <a:ext cx="7805880" cy="5924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348000" y="4797360"/>
            <a:ext cx="5440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cias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Definicione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cepto psicosoci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dolescenc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quella etapa en que los procesos psicológicos y las pautas de identificación se desarrollan desde las esperadas para un niño hacia las esperadas para un adulto y se logra autonomía e independencia psicológica y social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971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Definicione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olescere”: crecer hacia la adulte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adolescentes se vuelven más sabios, más sofisticados intelectualmente, y más capaces de tomar deci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sarrollo del cerebro: cambios estructura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rteza prefrontal sufre transformaciones durante la adolescencia y parte de la adultez dando muestras de plastic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nsformación de cerebro infantil, menos eficiente, por pérdida de conexiones sinápticas, en uno que se comunica más rápidamente, más eficient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85080" y="-171360"/>
            <a:ext cx="971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70000" cy="41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95840" y="1643040"/>
            <a:ext cx="282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¿Quién s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¿Qué quiero hac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185080" cy="4027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85280" y="5608800"/>
            <a:ext cx="636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rik Erikson nació en Alemania en 1902. Falleció en 19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fesor Emérito de  Harvard fué uno de los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ás grandes genios del siglo XX y sin du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la Psicología de todos los tiempo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812000" y="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3120" y="27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47760"/>
            <a:ext cx="74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s personas son seres activos buscando adaptarse a su ambien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ás que pasivos esclavos de sus impulso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Tarea central de la Adolescencia (Erikson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Búsqueda de la identida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opción de una identidad psicosexual defini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paración de la familia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finición de la identidad en el plano de la elección vocacional y lab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Desenlace de estas t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olidación de la identidad: adolescente avanza a la etapa siguiente (adulto jov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indrome de difusión de identidad (vuelve una y otra vez a definir sus intereses, vocación y/o pare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971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rse a los cambios físicos de la pubert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ahoma"/>
              </a:rPr>
              <a:t>Búsqueda de la identi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grar autonomía e independencia famili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ar un código de val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ar un proyecto de v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ción con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reas del desarrol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956720" y="0"/>
            <a:ext cx="97128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241800" cy="2206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084400" cy="2779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80000" y="184464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03640" y="4402080"/>
            <a:ext cx="3065760" cy="2298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56360" y="3429000"/>
            <a:ext cx="270000" cy="925560"/>
          </a:xfrm>
          <a:prstGeom prst="upDownArrow">
            <a:avLst>
              <a:gd name="adj1" fmla="val 50000"/>
              <a:gd name="adj2" fmla="val 68243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32280" y="227664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ami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75040" y="19890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olesc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4760" y="39481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upo de p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50920" y="2565360"/>
            <a:ext cx="3870360" cy="134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98160" y="4005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eg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4720" y="3141720"/>
            <a:ext cx="709560" cy="269640"/>
          </a:xfrm>
          <a:prstGeom prst="leftRightArrow">
            <a:avLst>
              <a:gd name="adj1" fmla="val 50000"/>
              <a:gd name="adj2" fmla="val 5238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6381720"/>
            <a:ext cx="639720" cy="270000"/>
          </a:xfrm>
          <a:prstGeom prst="leftRightArrow">
            <a:avLst>
              <a:gd name="adj1" fmla="val 50000"/>
              <a:gd name="adj2" fmla="val 471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6840" y="62164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edio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unic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700360" y="5310360"/>
            <a:ext cx="1676520" cy="154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8172360" y="0"/>
            <a:ext cx="571680" cy="1230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0" y="4365720"/>
            <a:ext cx="2881440" cy="1503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02400" y="45957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4724280"/>
            <a:ext cx="927360" cy="341280"/>
          </a:xfrm>
          <a:prstGeom prst="leftRightArrow">
            <a:avLst>
              <a:gd name="adj1" fmla="val 50000"/>
              <a:gd name="adj2" fmla="val 5409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02:39:47Z</dcterms:created>
  <dc:creator>Familia Godoy</dc:creator>
  <dc:description/>
  <dc:language>en-US</dc:language>
  <cp:lastModifiedBy>lavarello</cp:lastModifiedBy>
  <dcterms:modified xsi:type="dcterms:W3CDTF">2007-06-05T15:57:57Z</dcterms:modified>
  <cp:revision>17</cp:revision>
  <dc:subject/>
  <dc:title>Diapositiva 1</dc:title>
</cp:coreProperties>
</file>