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7C5-750F-4A4C-94B0-7D439B3E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07A-2DB9-45F6-964F-7200441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EB2-AA57-45C8-A821-ED9029DC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B66-A777-4F04-98A7-A32DCCE2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B106-A7F0-4423-834F-3804B9B1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6E06-D412-4B20-86B1-CD5F8BB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76F7-86E7-4B4E-8B6A-CC4B9EF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2CD-F2EA-4938-80FB-4CF57957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83A-B591-452B-9DCF-DE492C9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B18-22DB-4806-8827-5D195E5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100-EC9B-450C-9B41-FBA3E7E4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623-0933-4B12-8D1A-ED7505B7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CA7-3503-4F56-997B-DE5609AA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1299-3284-4FE8-B226-E5AF2869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8A8E-D6F5-44A2-BAE1-5BE8428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0652-B26D-414B-B06B-0AC16C89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7E4E-C15C-487E-9D36-FBC14476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342-70CA-45C4-BE83-BF5914F8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F63-5D67-48B2-87BD-292F38F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4D7-F2C1-4970-AE25-954DFEF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520-28E2-4FF2-8A5A-A4677CD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6B0-94D7-4C5C-AC4D-FEDEE423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972-C754-4F8C-8FAB-F20F12F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D0E-B34B-47E9-AB31-D543FD5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42B-6947-46DD-B5E0-4DE93C79DFD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B69-41E4-40AA-93FF-414DD15BE03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arrollo de identidad en adolesc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ra. María Luisa Aguirre Cal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édico Pediat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artamento de Pediatría y Cirugía infanti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pus Centr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ultad de Medicina. Universidad de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91960" y="549360"/>
            <a:ext cx="40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temp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0 a 13 año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2266920" cy="3024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19120" y="0"/>
            <a:ext cx="4293720" cy="675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ambio corporal fundam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in de adolescencia tempran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Menarquia y espermarqu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Interacción con pares: gru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queños del mismo sex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namoramientos fugaces, am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latónicos, pasión por can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 artis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ntasías sexuales y masturb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mbivalencia afectiva en el ámbi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miliar: deseo de mayor autonomí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ro requieren frecuente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guridad y protección de la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fecto y rechazo se intercambi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ndencia a la obstinación y rebeld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ambios bruscos de hum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nsamiento concr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71680" cy="123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2684520"/>
            <a:ext cx="3888000" cy="2589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56640" y="868320"/>
            <a:ext cx="348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4 a 16 añ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0"/>
            <a:ext cx="3995640" cy="7811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pariencia física: horas frente 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pejo, vestimentas extravag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Intenta romper con depend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Familiar, busca amistades íntim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 identifica con su grupo de par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Que es su refer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(grupos protectores y de alto ries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Conflictos y discrepancias co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imeros polole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ensamiento operatorio form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bstracto e hipotético deductiv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ntimiento de omnipotenci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Vulnerabilidad. Conductas de ries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Reflexión intensa sobre sí mism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y sobre la socie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Rol de adutos: poner límites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Acompañar el proc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83880" y="725400"/>
            <a:ext cx="34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dolescencia tar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(17 a 19 año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2016000" cy="169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2016000" cy="137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24000" y="364500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571680" cy="1230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4640" y="836640"/>
            <a:ext cx="4689360" cy="619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duración bi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solidación de la ident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oma la decisión de trabajar o estud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ensamiento operatorio form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durez cognitiva que le permi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render mejor la realidad y to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cisiones satisfactor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pacidad de intimar: relacion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areja estables. Identidad sex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paración de la familia, rel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 los padres son más cerca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sarrollo vocacional y de val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14720" y="0"/>
            <a:ext cx="6929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Características del desarrollo cognitivo y psicosocial durante la adolescencia 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(Neinstein.  Adolescent Health Care: a practical guide, 2000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9280" y="1341360"/>
          <a:ext cx="8424720" cy="5635800"/>
        </p:xfrm>
        <a:graphic>
          <a:graphicData uri="http://schemas.openxmlformats.org/drawingml/2006/table">
            <a:tbl>
              <a:tblPr/>
              <a:tblGrid>
                <a:gridCol w="2570040"/>
                <a:gridCol w="2049480"/>
                <a:gridCol w="1854360"/>
                <a:gridCol w="19508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tempr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 10 a 13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4 a 16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dolescencia Tard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(17 a 19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Autonom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co interés en actividades con padres. Humor cambia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lictos con los pad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ceptación de consejos y valores de pad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Imagen Cor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eguridad respecto a propia aparienc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ocupación por hacerse físicamente más atractivo (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eptación de cambios pubera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Relación con sus p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ciones intensas con amigos mismo sex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ortancia grupo pares. Aumento de exploración sexual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yor dedicación a relaciones íntima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Ide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menta fantasía. Mayor privacida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uls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arrollo cognitiv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ntimientos de omnipotencia 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ductas de riesg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tas vocaciona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es pro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mit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l final de la adolescencia, se logra en la mayoría de los adolescentes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dad personal: un sentido coherente de quién soy, que no cambia significativamente de un lugar a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imidad: capacidad para establecer relaciones maduras, tanto sexuales como emo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idad: un sentido claro de lo que está bien y de lo que está mal; desarrollo de comportamientos socialmente respons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cia psicológica: sentido de si mismo que permite tomar decisiones y asumir funciones y responsabilidades de los adul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cia física: capacidad de dejar la familia y ganarse el propio sust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442360" y="189000"/>
            <a:ext cx="701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5560" y="892080"/>
            <a:ext cx="808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bajo grupal (20 minuto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es de riesgo y factores protecto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el desarrollo de la identidad dur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adolesc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5713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43280" y="304560"/>
            <a:ext cx="5767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actores de riesg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Biológico - genético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istoria familiar de alcohol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mbiente soci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breza, alienación, inequidad, falta de oportun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Ambiente psicológico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delos desviados, conflicto intrafamiliar o de pa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Personalida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ja autoestima, aventurerismo, impulsividad, angus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ahoma"/>
              </a:rPr>
              <a:t>Conduct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jo rendimiento escolar, ingesta de alcohol exces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571320" cy="1230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409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1280" y="304560"/>
            <a:ext cx="5400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protector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iológico genétic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teligencia normal o elev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biente social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idad de sistemas escolares, cohesión familiar, barrios bien desarrollados, adultos interes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biente psicológic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delos adecuados, controles adecuados de las conductas desvi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ersonalida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aloración de los logros, valoración de la buena salud, intolerancia de la desviación so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ucta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icipación en la iglesia, clubes, organizaciones voluntarias de la escuela y comun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571680" cy="1230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4000" y="304560"/>
            <a:ext cx="5046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sili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armezy: ”resiliencia se refiere al proceso de y a la capacidad de llegar a una adaptación exitosa a pesar de circunstancias desafiantes o amenazadora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nistendael: “la resiliencia es la capacidad de una persona o de un sistema social de vivir bien y desarrollarse positivamente a pesar de las condiciones de vida difíciles, y esto de una manera socialmente aceptab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onentes de la resilienci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sistencia: capacidad de proteger la propia identidad bajo pres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acidad de construir : un estilo de vida positivo pese a circunstancias difíci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2680" y="0"/>
            <a:ext cx="571320" cy="1230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2232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es de apoyo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dad para darle un sentido a 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titudes so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ezas de resolución de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est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ido del hum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mbitos que permiten promover la Resilienc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5713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dolescencia: (O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la etapa que ocurre entre los 10 y 20 años de edad, coincidiendo su inicio con los cambios puberales y finalizando al cumplirse gran parte del crecimiento y desarrollo morfoló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juventud, por otra parte, es el período entre los 15 y 25 años de edad. Constituye una categoría sociológica, caracterizada por asumir los jóvenes con plenitud sus derechos y responsabilidades soci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885080" y="-38736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rategias de promoción de salud en adolesc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ar políticas públicas que permitan crear condiciones adecuadas al desarrollo de potencialidades de los jóv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talecimiento de la participación social y comunit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o de habilidades personales (autocuidado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ción de ambientes salud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orientación de los servicios de salu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78720" y="260280"/>
            <a:ext cx="6652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9960" y="466560"/>
            <a:ext cx="7805880" cy="5924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348000" y="4797360"/>
            <a:ext cx="544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cias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cepto psicosoci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lescenc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quella etapa en que los procesos psicológicos y las pautas de identificación se desarrollan desde las esperadas para un niño hacia las esperadas para un adulto y se logra autonomía e independencia psicológica y social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Definicione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olescere”: crecer hacia la adult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dolescentes se vuelven más sabios, más sofisticados intelectualmente, y más capaces de tomar deci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arrollo del cerebro: cambios estructur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rteza prefrontal sufre transformaciones durante la adolescencia y parte de la adultez dando muestras de plastic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formación de cerebro infantil, menos eficiente, por pérdida de conexiones sinápticas, en uno que se comunica más rápidamente, más eficient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85080" y="-17136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70000" cy="41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95840" y="1643040"/>
            <a:ext cx="28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¿Quién s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¿Qué quiero hac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185080" cy="4027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85280" y="560880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ik Erikson nació en Alemania en 1902. Falleció en 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fesor Emérito de  Harvard fué uno de los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grandes genios del siglo XX y sin du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la Psicología de todos los tiempo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27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47760"/>
            <a:ext cx="74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personas son seres activos buscando adaptarse a su ambien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ás que pasivos esclavos de sus impuls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Tarea central de la Adolescencia (Erikso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Búsqueda de la ident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opción de una identidad psicosexual defini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paración de la familia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de la identidad en el plano de la elección vocacional y lab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Desenlace de estas t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olidación de la identidad: adolescente avanza a la etapa siguiente (adulto jov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ndrome de difusión de identidad (vuelve una y otra vez a definir sus intereses, vocación y/o pare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71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arse a los cambios físicos de la pubert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Búsqueda de la ident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rar autonomía e independencia famili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ar un código de val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ar un proyecto de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ción con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eas del desarroll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241800" cy="2206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084400" cy="2779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80000" y="18446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03640" y="4402080"/>
            <a:ext cx="3065760" cy="2298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56360" y="3429000"/>
            <a:ext cx="270000" cy="925560"/>
          </a:xfrm>
          <a:prstGeom prst="upDownArrow">
            <a:avLst>
              <a:gd name="adj1" fmla="val 50000"/>
              <a:gd name="adj2" fmla="val 6824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32280" y="227664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mi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75040" y="19890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olesc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4760" y="39481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upo de p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3870360" cy="134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8160" y="40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e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141720"/>
            <a:ext cx="709560" cy="269640"/>
          </a:xfrm>
          <a:prstGeom prst="leftRightArrow">
            <a:avLst>
              <a:gd name="adj1" fmla="val 50000"/>
              <a:gd name="adj2" fmla="val 5238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6381720"/>
            <a:ext cx="639720" cy="270000"/>
          </a:xfrm>
          <a:prstGeom prst="leftRightArrow">
            <a:avLst>
              <a:gd name="adj1" fmla="val 50000"/>
              <a:gd name="adj2" fmla="val 471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6840" y="62164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unic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00360" y="5310360"/>
            <a:ext cx="1676520" cy="154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172360" y="0"/>
            <a:ext cx="571680" cy="1230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0" y="4365720"/>
            <a:ext cx="2881440" cy="1503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02400" y="45957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4724280"/>
            <a:ext cx="927360" cy="341280"/>
          </a:xfrm>
          <a:prstGeom prst="leftRightArrow">
            <a:avLst>
              <a:gd name="adj1" fmla="val 50000"/>
              <a:gd name="adj2" fmla="val 5409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2:39:47Z</dcterms:created>
  <dc:creator>Familia Godoy</dc:creator>
  <dc:description/>
  <dc:language>en-US</dc:language>
  <cp:lastModifiedBy>lavarello</cp:lastModifiedBy>
  <dcterms:modified xsi:type="dcterms:W3CDTF">2007-06-05T15:57:57Z</dcterms:modified>
  <cp:revision>17</cp:revision>
  <dc:subject/>
  <dc:title>Diapositiva 1</dc:title>
</cp:coreProperties>
</file>