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6A0-C154-4E1E-8AEE-50BC6F55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E66-B171-4E96-A06A-0F55D1B7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4F4-0EF5-464C-A273-47CF660B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EA3-7224-4D87-BFF8-E7D4B11F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B9A-B47A-49CD-AE1B-BF3C5814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8F5-41A5-4331-BBFD-70F6427E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159-08DF-468F-A796-AD8D3F06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6B2-C564-4520-A9D0-590A4004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D35-1BC0-4467-83C7-ABC9948C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F39-7DFB-41D1-B4B5-96B34EDC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FE2-8605-4225-A9A4-6B3C900B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102-9DF1-4664-A0AA-83A9A0C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8BCB-A297-441B-AC1B-591C2AA64F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logotipos finales" descr=""/>
          <p:cNvPicPr/>
          <p:nvPr/>
        </p:nvPicPr>
        <p:blipFill>
          <a:blip r:embed="rId2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90360"/>
            <a:ext cx="46274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86" name="logotipos finales" descr=""/>
          <p:cNvPicPr/>
          <p:nvPr/>
        </p:nvPicPr>
        <p:blipFill>
          <a:blip r:embed="rId2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502560"/>
            <a:ext cx="32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11280" y="260280"/>
            <a:ext cx="4538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502560"/>
            <a:ext cx="32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"SALUD ES UN ESTADO DEL COMPLETO BIENESTAR FÍSICO, MENTAL  Y SOCIAL Y NO SIMPLEMENTE LA AUSENCIA DE ENFERMEDAD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502560"/>
            <a:ext cx="32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197000"/>
            <a:ext cx="784836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Desde el punto de vista de un fisiólogo se podría definir el Estado de salud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l funcionamiento armónico integral del individuo en un medio que le permita desarrollar al máximo sus potencialidades fisiológicas, psíquicas, espirituales y social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a. Gabriela Díaz Silva, Profesora de Fisiología, Facultad de Medicina 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197000"/>
            <a:ext cx="78483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Desde el punto de vista de un médico clínico, se podría comentar que a la Medicina le compe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Fomentar y proteger la salud física y mental individual y colectiva de las com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rbitrar, desarrollar y aplicar las técnicas adecuadas y eficientes de recuperación y rehabilitación de aquellos que la hayan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a. Esteban Parrochia, Profesor de Medicina Interna, Hospital San Juan de 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836640"/>
            <a:ext cx="784872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Y a los sectores no médicos del quehacer nacional les compe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Generar recursos financieros indispensables para que la Medicina pueda cumplir estas acciones inherentes a su misión especí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Promover el desarrollo general del país y crear condiciones materiales que aseguren, a todos los habitantes, posibilidades reales y efectivas de progreso cultural y económico, requisito indispensable para alcanzar el bienestar y la paz social del paí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a. Esteban Parrochia Beguin, Profesor de Medicina Interna, Hospital San Juan de 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72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197000"/>
            <a:ext cx="7848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Un médico psiquiatra hace una advert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lgunos enfermos psiquiátricos tienen una sensación de gran bienestar, y comentan que están “mejor que nunc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. Mario Varela Guzmán, Profesor de Psiquiatría, Facultad de Medicina 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77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197000"/>
            <a:ext cx="78483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Un médico salubrista comenta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s una buena definición, tiene un sentido positivo y un carácter integral, pero tiene el inconveniente de que su medición es difíc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l concepto de Bienestar involucra condiciones o requisitos tanto de carácter subjetivo como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. José Manuel Ugarte Avendaño, Profesor de Salud Pública, Facultad de Medicina 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74680"/>
            <a:ext cx="79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ONENTES DEL NIVEL DE VID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ADOR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92360" y="1557360"/>
          <a:ext cx="5881680" cy="5068800"/>
        </p:xfrm>
        <a:graphic>
          <a:graphicData uri="http://schemas.openxmlformats.org/drawingml/2006/table">
            <a:tbl>
              <a:tblPr/>
              <a:tblGrid>
                <a:gridCol w="2940120"/>
                <a:gridCol w="2941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UD 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talidad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peranza de vida al na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centaje de Alfabet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vel de Instr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rícula a Diversos Nive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IMEN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nibilidad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es de Malnutrición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IENDA y SANEA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ros cuadrados por habit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nibilidades Sanita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nibilidad de luz eléct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STU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nibilidad de ropa-zapa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CIONES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ción legal de la jor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ciones de Higiene y Segur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RE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s, diarios, teatros, c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ción riesgos básicos de  enfermedad, invalidez, muerte, cesant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ERTADES HUM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ción de vot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 sindic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8:21:26Z</dcterms:created>
  <dc:creator>Fac. de Medicina</dc:creator>
  <dc:description/>
  <dc:language>en-US</dc:language>
  <cp:lastModifiedBy>Fac. de Medicina</cp:lastModifiedBy>
  <dcterms:modified xsi:type="dcterms:W3CDTF">2011-09-22T19:05:06Z</dcterms:modified>
  <cp:revision>17</cp:revision>
  <dc:subject/>
  <dc:title>Diapositiva 1</dc:title>
</cp:coreProperties>
</file>