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88C-E50E-4D7B-B451-2E16A7E7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02B2-58F9-4332-BF0A-92CA12D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18B-5309-4605-A334-EED26AB5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272-FB28-4F85-ADD3-E1D29DAB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4B23-BCC7-4358-AD62-F1AEDCF4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2A1-DFAB-4238-AA7E-A322F4B5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E1D4-7F18-4CC6-A782-5295A170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F3F-0EDB-4752-852B-72281374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C902-612A-4B66-A0C7-69D6F08C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FFE-3626-4AFD-8292-D57279E5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969-DB7C-4E55-88B1-8171F12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FBF0-C6D7-4ADC-9BC3-A7AA6FAA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E5D6-CB71-4697-9DEF-55A01155F7C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logotipos finales" descr=""/>
          <p:cNvPicPr/>
          <p:nvPr/>
        </p:nvPicPr>
        <p:blipFill>
          <a:blip r:embed="rId2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00360" y="90360"/>
            <a:ext cx="462744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86" name="logotipos finales" descr=""/>
          <p:cNvPicPr/>
          <p:nvPr/>
        </p:nvPicPr>
        <p:blipFill>
          <a:blip r:embed="rId2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11280" y="260280"/>
            <a:ext cx="453888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"SALUD ES UN ESTADO DEL COMPLETO BIENESTAR FÍSICO, MENTAL  Y SOCIAL Y NO SIMPLEMENTE LA AUSENCIA DE ENFERMEDAD"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502560"/>
            <a:ext cx="3240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5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1197000"/>
            <a:ext cx="784836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Desde el punto de vista de un fisiólogo se podría definir el Estado de salud co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l funcionamiento armónico integral del individuo en un medio que le permita desarrollar al máximo sus potencialidades fisiológicas, psíquicas, espirituales y soci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Gabriela Díaz Silva, Profesora de Fisiologí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6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197000"/>
            <a:ext cx="784836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Desde el punto de vista de un médico clínico, se podría comentar que a la Medicina le comp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Fomentar y proteger la salud física y mental individual y colectiva de las com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rbitrar, desarrollar y aplicar las técnicas adecuadas y eficientes de recuperación y rehabilitación de aquellos que la hayan perd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Esteban Parrochia, Profesor de Medicina Interna, Hospital San Juan de 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836640"/>
            <a:ext cx="784872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Y a los sectores no médicos del quehacer nacional les compe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Generar recursos financieros indispensables para que la Medicina pueda cumplir estas acciones inherentes a su misión espec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Promover el desarrollo general del país y crear condiciones materiales que aseguren, a todos los habitantes, posibilidades reales y efectivas de progreso cultural y económico, requisito indispensable para alcanzar el bienestar y la paz social del paí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a. Esteban Parrochia Beguin, Profesor de Medicina Interna, Hospital San Juan de 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197000"/>
            <a:ext cx="78483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Un médico psiquiatra hace una adverte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lgunos enfermos psiquiátricos tienen una sensación de gran bienestar, y comentan que están “mejor que nunc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. Mario Varela Guzmán, Profesor de Psiquiatrí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77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08760"/>
            <a:ext cx="3240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CL" sz="6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197000"/>
            <a:ext cx="78483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Un médico salubrista comenta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s una buena definición, tiene un sentido positivo y un carácter integral, pero tiene el inconveniente de que su medición es difí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l concepto de Bienestar involucra condiciones o requisitos tanto de carácter subjetivo como obje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Palabras de Dr. José Manuel Ugarte Avendaño, Profesor de Salud Pública, Facultad de Medicina Occid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08000" y="189000"/>
            <a:ext cx="3527280" cy="476280"/>
          </a:xfrm>
          <a:prstGeom prst="rect">
            <a:avLst/>
          </a:prstGeom>
          <a:ln w="0">
            <a:noFill/>
          </a:ln>
        </p:spPr>
      </p:pic>
      <p:pic>
        <p:nvPicPr>
          <p:cNvPr id="82" name="logotipos finales" descr=""/>
          <p:cNvPicPr/>
          <p:nvPr/>
        </p:nvPicPr>
        <p:blipFill>
          <a:blip r:embed="rId3"/>
          <a:stretch/>
        </p:blipFill>
        <p:spPr>
          <a:xfrm>
            <a:off x="8399520" y="189000"/>
            <a:ext cx="636480" cy="6364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79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ONENTES DEL NIVEL DE VIDA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DICADOR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92360" y="1557360"/>
          <a:ext cx="5881680" cy="5068800"/>
        </p:xfrm>
        <a:graphic>
          <a:graphicData uri="http://schemas.openxmlformats.org/drawingml/2006/table">
            <a:tbl>
              <a:tblPr/>
              <a:tblGrid>
                <a:gridCol w="2940120"/>
                <a:gridCol w="2941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UD </a:t>
                      </a: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talidad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peranza de vida al na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centaje de Alfabet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vel de Instr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rícula a Diversos Nive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IMENT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ces de Malnutrición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VIENDA y SANEA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ros cuadrados por habit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es Sanitar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luz eléct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STU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onibilidad de ropa-zapa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CIONES DE TRA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ación legal de la jor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diciones de Higiene y Segur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RE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s, diarios, teatros, ci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RIDAD SO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ección riesgos básicos de  enfermedad, invalidez, muerte, cesant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ERTADES HUMA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porción de vot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blación sindic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8:21:26Z</dcterms:created>
  <dc:creator>Fac. de Medicina</dc:creator>
  <dc:description/>
  <dc:language>en-US</dc:language>
  <cp:lastModifiedBy>Fac. de Medicina</cp:lastModifiedBy>
  <dcterms:modified xsi:type="dcterms:W3CDTF">2011-09-22T19:05:06Z</dcterms:modified>
  <cp:revision>17</cp:revision>
  <dc:subject/>
  <dc:title>Diapositiva 1</dc:title>
</cp:coreProperties>
</file>