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7.jpeg" ContentType="image/jpeg"/>
  <Override PartName="/ppt/media/image11.wmf" ContentType="image/x-wmf"/>
  <Override PartName="/ppt/media/image32.jpeg" ContentType="image/jpeg"/>
  <Override PartName="/ppt/media/image33.png" ContentType="image/png"/>
  <Override PartName="/ppt/media/image34.jpeg" ContentType="image/jpeg"/>
  <Override PartName="/ppt/media/image36.jpeg" ContentType="image/jpeg"/>
  <Override PartName="/ppt/media/image9.jpeg" ContentType="image/jpeg"/>
  <Override PartName="/ppt/media/image3.jpeg" ContentType="image/jpeg"/>
  <Override PartName="/ppt/media/image24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14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F58-E199-417B-A23E-B8B058D9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F77-3969-4FA1-8B01-71F03FD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6B3-87C1-453A-BC41-1491725F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20F-E6CE-4724-8296-29E69BB9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7B2-D05F-48E1-ACF9-547860B7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C73-55DA-4CFC-98A5-3A0D267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9F3-A37A-4FC9-89B0-E74C85A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321-2FBC-4FE6-8093-8C58047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94B-7061-4F06-9006-4ABF5F87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C96-7C92-4CDF-BA3A-DF7C882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07D-F94E-4A26-AD89-0DD69EFC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4EC-8F44-4864-A195-59B8A902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DF4B-00DD-4D54-AEE0-53ADB0646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629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OBJETIV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Comic Sans MS"/>
              </a:rPr>
              <a:t>Describir: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etapas del C y D del niñ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tropomet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conven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8580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8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ecimiento de parenqu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315200" cy="281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8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urva general del cuer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Tejido linfá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Organos sexu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arénquima encefá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028880"/>
            <a:ext cx="8001000" cy="48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990720" y="1371600"/>
            <a:ext cx="3581280" cy="533520"/>
          </a:xfrm>
          <a:prstGeom prst="rect">
            <a:avLst/>
          </a:prstGeom>
          <a:solidFill>
            <a:srgbClr val="ff33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Interacción genético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171840"/>
            <a:ext cx="7772400" cy="15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8153280" cy="49528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133720"/>
            <a:ext cx="6705720" cy="297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trón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endocr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276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stema nervi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666880"/>
            <a:ext cx="152280" cy="1905120"/>
          </a:xfrm>
          <a:prstGeom prst="downArrow">
            <a:avLst>
              <a:gd name="adj1" fmla="val 50000"/>
              <a:gd name="adj2" fmla="val 31276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29000"/>
            <a:ext cx="2133720" cy="152280"/>
          </a:xfrm>
          <a:prstGeom prst="leftRightArrow">
            <a:avLst>
              <a:gd name="adj1" fmla="val 50000"/>
              <a:gd name="adj2" fmla="val 2789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38680" y="3809880"/>
            <a:ext cx="914400" cy="8384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95480" y="2514600"/>
            <a:ext cx="990720" cy="685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2590920"/>
            <a:ext cx="761760" cy="6094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724280"/>
            <a:ext cx="25146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Órganos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edianas de peso por edad. Preescolares.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antiago, USA. 1964-5.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00"/>
                </a:solidFill>
                <a:latin typeface="Times New Roman"/>
              </a:rPr>
              <a:t>I. Barja. Rev Chil Ped. 1965, 36: 525-5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dad(a)  Prov/Vita   S. Rosa/Matta   JM Caro 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             10,5                9,4                   8,7           9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2              13,0              11,8                 10,5         12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3              14,9              13,9                 12,4         1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4              16,9              15,5                 14,6         16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5              18,8              17,1                 15,9         18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dianas de Talla. Preescolares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ntiago, USA. 1964-5.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. Barja. Rev Chil Ped. 1965, 36: 525-5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dad(a)  Prov/Vita   S. Rosa/Matta   JM Caro 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               74                  73                   74,7         74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2                86                  83,7                81,5          8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3                96                  92,4                87,1          95,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4              103,5               99,0                94,5        103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5              109,0             104,5                99,8        108,9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so de la gené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1981080" cy="1787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696080" cy="3504960"/>
          </a:xfrm>
          <a:prstGeom prst="rect">
            <a:avLst/>
          </a:prstGeom>
          <a:solidFill>
            <a:srgbClr val="ffff99"/>
          </a:solidFill>
          <a:ln w="92160">
            <a:solidFill>
              <a:srgbClr val="0000ff"/>
            </a:solidFill>
            <a:miter/>
          </a:ln>
          <a:effectLst>
            <a:outerShdw dist="107932" dir="18900000" blurRad="0" rotWithShape="0">
              <a:srgbClr val="3333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erencia poligénica de esta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ey de la reg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aración internacional: Francia (Sempé, Roi, Pedron), Chile (Patri) y USA. Dimorfismo sex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489640" cy="39960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</p:pic>
      <p:sp>
        <p:nvSpPr>
          <p:cNvPr id="86" name=""/>
          <p:cNvSpPr/>
          <p:nvPr/>
        </p:nvSpPr>
        <p:spPr>
          <a:xfrm>
            <a:off x="1150920" y="476280"/>
            <a:ext cx="7993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&lt;2 años: Balanza (palanca o resorte) sentado o acostado, centrando el eje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5760" y="5715000"/>
            <a:ext cx="24865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nsibilidad: 2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549000"/>
            <a:ext cx="7925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gt;2 años: balanza de pie, centrar eje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la plata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197160" cy="33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148040" y="4038480"/>
            <a:ext cx="248652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nsibilidad: 5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acostada o longitud &lt;2años o &lt;1 m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d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de pie o estatura &lt;2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ómetro de pie o cartab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Tran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533520"/>
            <a:ext cx="5473800" cy="4105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ffffff"/>
            </a:outerShdw>
          </a:effectLst>
        </p:spPr>
      </p:pic>
      <p:sp>
        <p:nvSpPr>
          <p:cNvPr id="94" name=""/>
          <p:cNvSpPr/>
          <p:nvPr/>
        </p:nvSpPr>
        <p:spPr>
          <a:xfrm>
            <a:off x="1447920" y="518148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¿Discrepancia en el primer control neona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Crecimiento y Desarroll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solidFill>
            <a:srgbClr val="ffffff"/>
          </a:solidFill>
          <a:ln w="82440">
            <a:solidFill>
              <a:srgbClr val="3333cc"/>
            </a:solidFill>
            <a:miter/>
          </a:ln>
          <a:effectLst>
            <a:outerShdw dist="107932" dir="18900000" blurRad="0" rotWithShape="0">
              <a:srgbClr val="3333c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recimi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umento en 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arrollo   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perfeccionamiento de la fu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rdepend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anente, evolutivo, inte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nético ambiental, predecible pero individual, riesg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Circunferencia cranean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erímetro craneano: se mide el mayor diámetro fronto-occi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inta de medir de preferencia metá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presión de los parámetros medidos en una unidad de tiempo durante el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sión dinámica del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P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re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ºTrimestre= 8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ºTrimestre= 6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ºTrimestre= 5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4ºTrimestre= 300 g x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uplica el PN a los 4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plica el PN a los 12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druplica el PN a los 2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so en distintas edades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9040" y="1674720"/>
          <a:ext cx="7505640" cy="39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674720"/>
                    <a:ext cx="7505640" cy="3926160"/>
                  </a:xfrm>
                  <a:prstGeom prst="rect">
                    <a:avLst/>
                  </a:prstGeom>
                  <a:ln w="76320">
                    <a:solidFill>
                      <a:srgbClr val="3333cc"/>
                    </a:solidFill>
                    <a:miter/>
                  </a:ln>
                  <a:effectLst>
                    <a:outerShdw dist="198339" dir="2390731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Incremento mensual g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s     H       M              Mes     H      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      1.000    800              6       500   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        900    700              7       500    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        800    700              8       400   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        700    600              9       3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         600    600            10       4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         500    500            11       300   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8568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Times New Roman"/>
              </a:rPr>
              <a:t>Pérdida de peso 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Ra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onio    Orina    Edema   Menor ing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ego y lac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Más intenso y prolongado en RN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Velocidad de crecimiento</a:t>
            </a: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1ºaño: 2cm/mes, 74 cm, 24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ºaño: 1cm/mes, 86 cm , 12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ºaño: 0.5 cm/mes, 92 cm, 6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4ºaño: aprox. 100 cm , 5-6 cm al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5 a 9 años: 5-6 cm/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-púber: 5 o más cm/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uplica TN a los 4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iplica TN a los 13 años (150 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ormonas y crecimiento postnata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C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ecífica, reserva hipofisiaria, sintetizable. Acción indirecta sobre el cartíl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íntesis proteica y RNA, liberación a. grasos desde adipocito. Retención agua y Na. Fosfatemia, calciuria y 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OMATOMEDINAS (A/C)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e like growth factors (I/II). Péptidos de secreción inducida por HC. Se elevan por la In y prolactina. Disminuyen por estrógenos y corticoides.  Incorporan sulfato al cartílago y estimulan síntesis de DNA (mitosis, división celular); proteínas y colágeno. IL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209680"/>
            <a:ext cx="152280" cy="6858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rmonas y crecimiento postnatal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T3 y T4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s oxidativos. En general, sinergia con H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liferación celular, morfogenesis y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S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luco y mineralo corticoi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ANDROGEN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uprarenales: acción débil. Gon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testosterona): fuerte. Talla y maduración ósea postna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STRADIO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duración ós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HP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teracción con vit. D. Metabolismo del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METABOLITOS VITAMINA 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ultiplicación condroci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reción proteogli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F. CRECIMIENTO CELULAR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NC, epidermis, fibroblast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quetas, eritropoyetina, F. C. endotelio vascular (VEGF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monas y cartílago de crec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ueño profundo              Hipoglicemia                  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euromediador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dopamina ¿adrenali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33cc33"/>
                </a:solidFill>
                <a:latin typeface="Times New Roman"/>
              </a:rPr>
              <a:t>Hipotál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matostatina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actor liberador 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tisol                                </a:t>
            </a: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HC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omatome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estosterona                     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artíl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,25-(OH)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1905120"/>
            <a:ext cx="16002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76920" y="1905120"/>
            <a:ext cx="2133360" cy="3808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828800"/>
            <a:ext cx="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876560" y="3733920"/>
            <a:ext cx="68580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Comic Sans MS"/>
              </a:rPr>
              <a:t>Aspectos del C y 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solidFill>
            <a:srgbClr val="ffff99"/>
          </a:solidFill>
          <a:ln w="38160">
            <a:solidFill>
              <a:srgbClr val="9999ff"/>
            </a:solidFill>
            <a:miter/>
          </a:ln>
          <a:effectLst>
            <a:outerShdw dist="107932" dir="18900000" blurRad="0" rotWithShape="0">
              <a:srgbClr val="9999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ff"/>
                </a:solidFill>
                <a:latin typeface="Times New Roman"/>
              </a:rPr>
              <a:t>Físico/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Intel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Social/ comuni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Emo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ff"/>
                </a:solidFill>
                <a:latin typeface="Times New Roman"/>
              </a:rPr>
              <a:t>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Etico/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tético o af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3581280"/>
            <a:ext cx="3200400" cy="764280"/>
          </a:xfrm>
          <a:prstGeom prst="rect">
            <a:avLst/>
          </a:prstGeom>
          <a:solidFill>
            <a:srgbClr val="66ccff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Broadway"/>
              </a:rPr>
              <a:t>¿y u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la en distintas edades (OMS)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2120" y="1719360"/>
          <a:ext cx="7543800" cy="429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19360"/>
                    <a:ext cx="7543800" cy="4290840"/>
                  </a:xfrm>
                  <a:prstGeom prst="rect">
                    <a:avLst/>
                  </a:prstGeom>
                  <a:ln w="540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crementos mensuales cms (O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07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s     H       M              Mes      H      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4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3,7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6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7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,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3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7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3,0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8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8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,6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  9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2,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2,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10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3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9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9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  11     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ff33cc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: distintas e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5257800" cy="4724280"/>
          </a:xfrm>
          <a:prstGeom prst="rect">
            <a:avLst/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ff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Hombre    Muje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N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35,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34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0,9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6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3,9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2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9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6,0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4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2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7,3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5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5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8,0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6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8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8,7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7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4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49,7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6 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50,4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49,3</a:t>
            </a: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2438280"/>
            <a:ext cx="2819520" cy="15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monía, pero en estrecha relación con edad y duración de  ges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808000"/>
                </a:solidFill>
                <a:latin typeface="Times New Roman"/>
              </a:rPr>
              <a:t>Convenciones: medir e interpre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ferirse a mes o año más pró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siderar hidratación y 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ásculas: 20 y 10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: &lt; 2 a: acostados    &gt; 2 a: de p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/E     P/T     T/E      CC/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orregir ed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uincha metálica inext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Times New Roman"/>
              </a:rPr>
              <a:t>Niños t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Times New Roman"/>
              </a:rPr>
              <a:t>Edad           Peso        Talla    C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RN       3.200     50   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omic Sans MS"/>
              </a:rPr>
              <a:t>5 m      6.400     64    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1 a       9.600     75    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2        12.200     84    4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3        14.400     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4        16.000   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Fórmulas fácile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3300"/>
                </a:solidFill>
                <a:latin typeface="Times New Roman"/>
              </a:rPr>
              <a:t>¡cuidad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.  4 años a prepú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 a 6 cms por año más 1 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eso. &gt;1 a hasta prepúber: (edad x 2) más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ráneo hasta 10 m: (talla/2) más 10 +/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N  doble: 5 m    triple: 1 a    cuádruple: 2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alla doble: 4 a     triple: 13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ecimiento. Evaluar grupos espe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amantados vs artifi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. d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aduración sexual: T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stado nutr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dicadores antropomét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so para la edad = 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alla para la edad = T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so para la Talla = P/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trón de referencia : Curvas N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valuación clínica del desarro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04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dices de madur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ontan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nt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dad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arrollo psico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puberal: índice de T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psic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83908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609480" y="685800"/>
            <a:ext cx="800100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SARROLLO MAMARIO. NI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1. Preadolescente: Sólo elevación de pe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6702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Botón. Crece glándula sin sobrepasar aréola a la que solev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11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299880" y="533520"/>
            <a:ext cx="8358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3. Mayor desarrollo de mama y aréola; sin sepa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 contornos. Se inicia crecimiento del pe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13440" y="635040"/>
            <a:ext cx="79819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532b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4. Crecen y aréola y pezón.  Tres conto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505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438840" y="574560"/>
            <a:ext cx="72475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5. Mama adulta. Sólo el pezón es promin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aréola está retirada al contorno mamari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315200" cy="10670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arrollo de vello púbico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95480"/>
            <a:ext cx="7238880" cy="1800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ríodo 1. Pre adolescente.  Ambos sex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vello encima del pubis no más desarrollado que el de la pared abdomi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 decir, no hay más vel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iodo 2. Crece pelo suave, largo, pigmentado, liso o un poco rizado, sobre todo en la base del pene o a lo largo de los labio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343400" cy="345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572000" y="2362320"/>
            <a:ext cx="4343400" cy="345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2189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3. El pelo es mucho más oscuro, más áspero y más rizado. Se extiende sobre la sínfisis púbica en forma poco d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4495680" cy="3606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4572000" cy="360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4. Pelo de tipo adulto, pero la zona que cubre es más reducida. No hay en cara interna de los mus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334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549680" cy="33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íodo 4. El pelo tiene carácter adulto respecto a cantidad y tipo, con distribución de tipo horizontal. La extensión se efectúa hacia la cara interna de los mus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549680" cy="317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572000" cy="3197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5639040" cy="418932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</p:pic>
      <p:sp>
        <p:nvSpPr>
          <p:cNvPr id="169" name=""/>
          <p:cNvSpPr/>
          <p:nvPr/>
        </p:nvSpPr>
        <p:spPr>
          <a:xfrm>
            <a:off x="609480" y="685800"/>
            <a:ext cx="678204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1. Desarrollo genital preadolesc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stículo, escroto y pene son casi de igual tamaño y forma que en la primera inf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7750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5257800" cy="3884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1" name=""/>
          <p:cNvSpPr/>
          <p:nvPr/>
        </p:nvSpPr>
        <p:spPr>
          <a:xfrm>
            <a:off x="838080" y="914400"/>
            <a:ext cx="716292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. 2 Escroto y testículos aumentan ligeramente de tamaño.  Piel del escroto enrojecida y de textura modificada. Aumento del pene escaso o in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15000" cy="4451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836640" y="838080"/>
            <a:ext cx="776412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3. Testículo y escroto más desarroll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l  pene ha aumentado ligeramente sobre todo en 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2255760"/>
            <a:ext cx="5510160" cy="4218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</p:pic>
      <p:sp>
        <p:nvSpPr>
          <p:cNvPr id="175" name=""/>
          <p:cNvSpPr/>
          <p:nvPr/>
        </p:nvSpPr>
        <p:spPr>
          <a:xfrm>
            <a:off x="452160" y="838080"/>
            <a:ext cx="8200080" cy="11912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4. Pene más agrandado, aumento de diámetr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sarrollo del glande. Testículos y escroto más desarroll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el escrotal más os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770120"/>
            <a:ext cx="5943600" cy="4424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</p:pic>
      <p:sp>
        <p:nvSpPr>
          <p:cNvPr id="177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320" y="609480"/>
            <a:ext cx="2428560" cy="825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íodo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Genitales adul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ff00"/>
                </a:solidFill>
                <a:latin typeface="Times New Roman"/>
              </a:rPr>
              <a:t>Edad ós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Relación con edad cronoló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Orden sucesivo en la osific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ff33"/>
                </a:solidFill>
                <a:latin typeface="Times New Roman"/>
              </a:rPr>
              <a:t>Atlas de Greulich y Pyle.  Edad +/-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Orientación diagnós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Pronóstico y poten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Times New Roman"/>
              </a:rPr>
              <a:t>Control de salu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pósito: Vigilar periódicamente el C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res planos (bío-psico-social) p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mover la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evenir, detectar y tratar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ducir un anciano s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rolongar la vida útil y el biene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21932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Recomendaciones para e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Supervisión: ¿qui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Varios indic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omparar con patrones y canal prop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Valorar: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enética, armonía, tipo co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res á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Más en períodos críticos: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lev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809880" cy="133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900" spc="-1" strike="noStrike">
                <a:solidFill>
                  <a:srgbClr val="990099"/>
                </a:solidFill>
                <a:latin typeface="Times New Roman"/>
              </a:rPr>
              <a:t>¡Gracias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Curvas.  Promedio (DE) y percentil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13500000" blurRad="0" rotWithShape="0">
              <a:srgbClr val="ff33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¿Promedio (DE) o mediana (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anal de la normalida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+/- 2 DE     o       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y P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so, talla, PA, CC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NAL DE CRECIMIENT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mparar individuo consig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nsiderar patrón genético y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osición relativa y constante en cur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0066"/>
                </a:solidFill>
                <a:latin typeface="Times New Roman"/>
              </a:rPr>
              <a:t>¿Posibilidad de recuper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Times New Roman"/>
              </a:rPr>
              <a:t>Importancia del punto de part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foque clínico: crecimiento biológ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269322" dir="18900000" blurRad="0" rotWithShape="0">
              <a:srgbClr val="9966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Talla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Pes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Edad   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Propor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D. óse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figuración naso orbitaria, fontanela, edad ó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D. sex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10080" y="838080"/>
            <a:ext cx="2895840" cy="106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13500000"/>
          </a:gra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RIO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426744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8100000"/>
          </a:gradFill>
          <a:ln w="540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N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vular              :   1 - 14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brionario    :   2 - 12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etal                  : 10 - 4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819520"/>
            <a:ext cx="5791320" cy="320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fedfb"/>
              </a:gs>
              <a:gs pos="100000">
                <a:srgbClr val="ffffff"/>
              </a:gs>
            </a:gsLst>
            <a:lin ang="8100000"/>
          </a:gra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STN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eonatal            : precoz (0-6), tard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ctante (&lt;y&gt;)  : 1 - 23 m   (infa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escolar         : 2 -   5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colar              : 6 - 1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olescente      :  11 - 19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              :  20-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dulto mayor   : 65 y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6:20:30Z</dcterms:created>
  <dc:creator>División de Informática</dc:creator>
  <dc:description/>
  <dc:language>en-US</dc:language>
  <cp:lastModifiedBy>Fac. de Medicina</cp:lastModifiedBy>
  <dcterms:modified xsi:type="dcterms:W3CDTF">2011-09-22T19:27:04Z</dcterms:modified>
  <cp:revision>319</cp:revision>
  <dc:subject/>
  <dc:title>Crecimiento y Desarrollo</dc:title>
</cp:coreProperties>
</file>