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45.wmf" ContentType="image/x-wmf"/>
  <Override PartName="/ppt/media/image16.wmf" ContentType="image/x-wmf"/>
  <Override PartName="/ppt/media/image15.jpeg" ContentType="image/jpeg"/>
  <Override PartName="/ppt/media/image14.wmf" ContentType="image/x-wmf"/>
  <Override PartName="/ppt/media/image23.png" ContentType="image/png"/>
  <Override PartName="/ppt/media/push.wav" ContentType="audio/x-wav"/>
  <Override PartName="/ppt/media/image13.jpeg" ContentType="image/jpeg"/>
  <Override PartName="/ppt/media/image40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34.jpeg" ContentType="image/jpeg"/>
  <Override PartName="/ppt/media/image38.wmf" ContentType="image/x-wmf"/>
  <Override PartName="/ppt/media/image28.jpeg" ContentType="image/jpeg"/>
  <Override PartName="/ppt/media/image36.jpeg" ContentType="image/jpeg"/>
  <Override PartName="/ppt/media/image9.jpeg" ContentType="image/jpeg"/>
  <Override PartName="/ppt/media/image33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7.wmf" ContentType="image/x-wmf"/>
  <Override PartName="/ppt/media/image41.png" ContentType="image/png"/>
  <Override PartName="/ppt/media/image22.jpeg" ContentType="image/jpeg"/>
  <Override PartName="/ppt/media/image39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46.wmf" ContentType="image/x-wmf"/>
  <Override PartName="/ppt/media/image29.wmf" ContentType="image/x-wmf"/>
  <Override PartName="/ppt/media/image7.jpeg" ContentType="image/jpeg"/>
  <Override PartName="/ppt/media/image31.wmf" ContentType="image/x-wmf"/>
  <Override PartName="/ppt/media/image12.wmf" ContentType="image/x-wmf"/>
  <Override PartName="/ppt/media/image4.png" ContentType="image/png"/>
  <Override PartName="/ppt/media/image10.jpeg" ContentType="image/jpeg"/>
  <Override PartName="/ppt/media/image8.jpeg" ContentType="image/jpeg"/>
  <Override PartName="/ppt/media/image3.jpeg" ContentType="image/jpeg"/>
  <Override PartName="/ppt/media/image2.png" ContentType="image/png"/>
  <Override PartName="/ppt/media/image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48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64EB-F52F-475F-ACB8-95C751FA0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76C8-AA02-47EA-A0D0-A2C52160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8BAC-541C-46F9-B0CF-1B394C9F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659D-3ED1-4252-9891-2F21A520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CCA4-EC66-4CB6-A099-A6BDEB72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8726-9FA8-4E95-A4A9-09CE3761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A0D5-BB7D-4988-B7A4-298D2827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8700-AF3C-4FF3-B623-7A4056BA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159D-E43A-4D30-A26B-30A948CD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655A-3072-4395-9DB9-BF237948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4920-06BD-4E7B-9F27-9AB0E51A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4149-1760-4282-9133-93D7EFF4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ABEA-0BD7-41D1-9E43-41B84CF9FA3F}" type="slidenum">
              <a:rPr b="0" lang="es-ES_tradnl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4.jpe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image" Target="../media/image34.jpeg"/><Relationship Id="rId7" Type="http://schemas.openxmlformats.org/officeDocument/2006/relationships/image" Target="../media/image34.jpeg"/><Relationship Id="rId8" Type="http://schemas.openxmlformats.org/officeDocument/2006/relationships/image" Target="../media/image34.jpeg"/><Relationship Id="rId9" Type="http://schemas.openxmlformats.org/officeDocument/2006/relationships/image" Target="../media/image34.jpeg"/><Relationship Id="rId10" Type="http://schemas.openxmlformats.org/officeDocument/2006/relationships/image" Target="../media/image34.jpeg"/><Relationship Id="rId11" Type="http://schemas.openxmlformats.org/officeDocument/2006/relationships/image" Target="../media/image34.jpeg"/><Relationship Id="rId12" Type="http://schemas.openxmlformats.org/officeDocument/2006/relationships/image" Target="../media/image34.jpeg"/><Relationship Id="rId13" Type="http://schemas.openxmlformats.org/officeDocument/2006/relationships/image" Target="../media/image34.jpeg"/><Relationship Id="rId14" Type="http://schemas.openxmlformats.org/officeDocument/2006/relationships/image" Target="../media/image34.jpeg"/><Relationship Id="rId15" Type="http://schemas.openxmlformats.org/officeDocument/2006/relationships/image" Target="../media/image34.jpeg"/><Relationship Id="rId16" Type="http://schemas.openxmlformats.org/officeDocument/2006/relationships/image" Target="../media/image34.jpeg"/><Relationship Id="rId17" Type="http://schemas.openxmlformats.org/officeDocument/2006/relationships/image" Target="../media/image34.jpeg"/><Relationship Id="rId18" Type="http://schemas.openxmlformats.org/officeDocument/2006/relationships/image" Target="../media/image34.jpeg"/><Relationship Id="rId19" Type="http://schemas.openxmlformats.org/officeDocument/2006/relationships/image" Target="../media/image34.jpeg"/><Relationship Id="rId20" Type="http://schemas.openxmlformats.org/officeDocument/2006/relationships/image" Target="../media/image34.jpeg"/><Relationship Id="rId2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cyberlatino.com.mx/postales/humor/humor_19.jpg&amp;imgrefurl=http://nohequ.blogspirit.com/archive/2005/10/index.html&amp;h=556&amp;w=380&amp;sz=27&amp;hl=es&amp;start=91&amp;um=1&amp;tbnid=Owfae3GoTkrdnM:&amp;tbnh=133&amp;tbnw=91&amp;prev=/images%3Fq%3Dproblema%2Bhumor%26start%3D80%26ndsp%3D20%26svnum%3D10%26um%3D1%26hl%3Des%26rlz%3D1T4HPNN_es___CL217%26sa%3DN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349360"/>
            <a:ext cx="8893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ff9900"/>
                </a:solidFill>
                <a:latin typeface="Comic Sans MS"/>
              </a:rPr>
              <a:t>ADOLESCENCIA</a:t>
            </a:r>
            <a:endParaRPr b="0" lang="en-US" sz="8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2700360" y="450864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b8d13"/>
                </a:solidFill>
                <a:latin typeface="Comic Sans MS"/>
              </a:rPr>
              <a:t>Prof. Teresa Millán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6699"/>
                </a:solidFill>
                <a:latin typeface="Comic Sans MS"/>
              </a:rPr>
              <a:t>Definición de Adolescencia</a:t>
            </a:r>
            <a:endParaRPr b="0" lang="en-US" sz="4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7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Actualmente: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Comic Sans MS"/>
              </a:rPr>
              <a:t>etapa biopsicosocial del desarrollo humano comprendida entre los 10 y los 19 años 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99"/>
                </a:solidFill>
                <a:latin typeface="Comic Sans MS"/>
              </a:rPr>
              <a:t>(O. M. S.) </a:t>
            </a:r>
            <a:endParaRPr b="0" lang="en-US" sz="1800" spc="-1" strike="noStrike">
              <a:solidFill>
                <a:srgbClr val="ffff99"/>
              </a:solidFill>
              <a:latin typeface="Comic Sans MS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Etapas de la adolescencia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Comic Sans MS"/>
              </a:rPr>
              <a:t>Inicial: 10 a 13 años 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2" marL="1108440" indent="-221400">
              <a:spcBef>
                <a:spcPts val="400"/>
              </a:spcBef>
              <a:buClr>
                <a:srgbClr val="0066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(menarca, 1ª polución nocturna)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Comic Sans MS"/>
              </a:rPr>
              <a:t>Media: 14 a 16 años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Comic Sans MS"/>
              </a:rPr>
              <a:t>Tardía: 17 a 19 años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48160" y="1989000"/>
            <a:ext cx="32259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561440" cy="44798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99"/>
                </a:solidFill>
                <a:latin typeface="Comic Sans MS"/>
              </a:rPr>
              <a:t>Principales Características de las Etapas de la Adolescencia</a:t>
            </a:r>
            <a:r>
              <a:rPr b="0" lang="es-ES" sz="4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99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6699"/>
                </a:solidFill>
                <a:latin typeface="Comic Sans MS"/>
              </a:rPr>
              <a:t>Adolescencia</a:t>
            </a:r>
            <a:endParaRPr b="0" lang="en-US" sz="6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99"/>
                </a:solidFill>
                <a:latin typeface="Comic Sans MS"/>
              </a:rPr>
              <a:t>BIOLÓGICA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99"/>
                </a:solidFill>
                <a:latin typeface="Comic Sans MS"/>
              </a:rPr>
              <a:t>Caracteres sexuales secundarios 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99"/>
                </a:solidFill>
                <a:latin typeface="Comic Sans MS"/>
              </a:rPr>
              <a:t>Capacidad reproductiva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5257800" y="4114800"/>
            <a:ext cx="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6699"/>
                </a:solidFill>
                <a:latin typeface="Comic Sans MS"/>
              </a:rPr>
              <a:t>Adolescencia</a:t>
            </a:r>
            <a:endParaRPr b="0" lang="en-US" sz="6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99"/>
                </a:solidFill>
                <a:latin typeface="Comic Sans MS"/>
              </a:rPr>
              <a:t>PSICOSOCIAL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99"/>
                </a:solidFill>
                <a:latin typeface="Comic Sans MS"/>
              </a:rPr>
              <a:t>Procesos psicológicos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99"/>
                </a:solidFill>
                <a:latin typeface="Comic Sans MS"/>
              </a:rPr>
              <a:t>Pauta de identificación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2" marL="1028520" indent="-2055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1" lang="es-ES" sz="2400" spc="-1" strike="noStrike" u="sng">
                <a:solidFill>
                  <a:srgbClr val="006699"/>
                </a:solidFill>
                <a:uFillTx/>
                <a:latin typeface="Comic Sans MS"/>
              </a:rPr>
              <a:t>niño </a:t>
            </a:r>
            <a:r>
              <a:rPr b="1" lang="es-ES" sz="2400" spc="-1" strike="noStrike" u="sng">
                <a:solidFill>
                  <a:srgbClr val="006699"/>
                </a:solidFill>
                <a:uFillTx/>
                <a:latin typeface="Wingdings"/>
                <a:ea typeface="Wingdings"/>
              </a:rPr>
              <a:t></a:t>
            </a:r>
            <a:r>
              <a:rPr b="1" lang="es-ES" sz="2400" spc="-1" strike="noStrike" u="sng">
                <a:solidFill>
                  <a:srgbClr val="006699"/>
                </a:solidFill>
                <a:uFillTx/>
                <a:latin typeface="Comic Sans MS"/>
              </a:rPr>
              <a:t> Adulto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99"/>
                </a:solidFill>
                <a:latin typeface="Comic Sans MS"/>
              </a:rPr>
              <a:t>Autonomía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99"/>
                </a:solidFill>
                <a:latin typeface="Comic Sans MS"/>
              </a:rPr>
              <a:t>Independencia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2" marL="1028520" indent="-2055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006699"/>
                </a:solidFill>
                <a:latin typeface="Comic Sans MS"/>
              </a:rPr>
              <a:t>psicológica 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2" marL="1028520" indent="-2055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006699"/>
                </a:solidFill>
                <a:latin typeface="Comic Sans MS"/>
              </a:rPr>
              <a:t>social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Comic Sans MS"/>
              </a:rPr>
              <a:t>                        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4114800"/>
            <a:ext cx="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468760" y="1844640"/>
            <a:ext cx="3486240" cy="48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99"/>
                </a:solidFill>
                <a:latin typeface="Comic Sans MS"/>
              </a:rPr>
              <a:t>Adolescencia</a:t>
            </a:r>
            <a:endParaRPr b="0" lang="en-US" sz="4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99"/>
                </a:solidFill>
                <a:latin typeface="Comic Sans MS"/>
              </a:rPr>
              <a:t>Objetivo central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99"/>
                </a:solidFill>
                <a:latin typeface="Comic Sans MS"/>
              </a:rPr>
              <a:t>consolidación de la identidad personal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99"/>
                </a:solidFill>
                <a:latin typeface="Comic Sans MS"/>
              </a:rPr>
              <a:t>Límites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99"/>
                </a:solidFill>
                <a:latin typeface="Comic Sans MS"/>
              </a:rPr>
              <a:t>Inicio</a:t>
            </a:r>
            <a:r>
              <a:rPr b="0" lang="es-CL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6699"/>
                </a:solidFill>
                <a:latin typeface="Comic Sans MS"/>
              </a:rPr>
              <a:t> Cambios biológicos de la pubertad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99"/>
                </a:solidFill>
                <a:latin typeface="Comic Sans MS"/>
              </a:rPr>
              <a:t>Término </a:t>
            </a:r>
            <a:r>
              <a:rPr b="0" lang="es-CL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6699"/>
                </a:solidFill>
                <a:latin typeface="Comic Sans MS"/>
              </a:rPr>
              <a:t> Ingreso al mundo social adulto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dbf11"/>
                </a:solidFill>
                <a:uFillTx/>
                <a:latin typeface="Comic Sans MS"/>
              </a:rPr>
              <a:t>.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164360" y="692280"/>
            <a:ext cx="27892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76720" y="476280"/>
            <a:ext cx="2590560" cy="1947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2205000"/>
            <a:ext cx="2878200" cy="180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business school"/>
          <p:cNvPicPr/>
          <p:nvPr/>
        </p:nvPicPr>
        <p:blipFill>
          <a:blip r:embed="rId3"/>
          <a:stretch/>
        </p:blipFill>
        <p:spPr>
          <a:xfrm>
            <a:off x="3492360" y="4076640"/>
            <a:ext cx="2421000" cy="2465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095880" y="24210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rot="20275800">
            <a:off x="755280" y="5300640"/>
            <a:ext cx="2879640" cy="129708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↑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esiones  y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xigencias para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ograr Exito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950000">
            <a:off x="611280" y="981000"/>
            <a:ext cx="2448000" cy="115272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↑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speranza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 vida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778400">
            <a:off x="6264360" y="4869000"/>
            <a:ext cx="2879640" cy="108108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traso de la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dad del Matrimonio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20950800">
            <a:off x="5724360" y="475920"/>
            <a:ext cx="2808360" cy="1368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apacitación Laboral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 ↑ Años de Estudio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 rot="20509800">
            <a:off x="2531880" y="3225600"/>
            <a:ext cx="3983040" cy="100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99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dolescenci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6699"/>
                </a:solidFill>
                <a:latin typeface="Comic Sans MS"/>
              </a:rPr>
              <a:t>ETAPA ESCOLAR</a:t>
            </a:r>
            <a:endParaRPr b="0" lang="en-US" sz="4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3357360"/>
            <a:ext cx="3889440" cy="30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Comic Sans MS"/>
              </a:rPr>
              <a:t>BIOLÓGICO: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Crecimiento lento 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Armonía y coordinación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Comic Sans MS"/>
              </a:rPr>
              <a:t>SOCIAL: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Grupos del mismo sexo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Actitud legalista y convencional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88000" y="2060640"/>
            <a:ext cx="403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Comic Sans MS"/>
              </a:rPr>
              <a:t>AFECTIVO: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Dinamismo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Actitud alegre, amistosa, obediente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Control de la conducta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Fase de latencia sexual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Comic Sans MS"/>
              </a:rPr>
              <a:t>INTELECTUAL: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Pensamiento concreto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2127240" cy="2665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6699"/>
                </a:solidFill>
                <a:latin typeface="Comic Sans MS"/>
              </a:rPr>
              <a:t>Caracteres Sexuales</a:t>
            </a:r>
            <a:endParaRPr b="0" lang="en-US" sz="4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916360" y="981000"/>
            <a:ext cx="6011640" cy="56419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042920" y="2205000"/>
          <a:ext cx="3241800" cy="21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205000"/>
                    <a:ext cx="3241800" cy="21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6699"/>
                </a:solidFill>
                <a:latin typeface="Comic Sans MS"/>
              </a:rPr>
              <a:t>Caracteres Sexuales Secundarios</a:t>
            </a: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042920" y="4572000"/>
            <a:ext cx="3241800" cy="194616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932360" y="2276640"/>
            <a:ext cx="3060720" cy="1438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4932360" y="4005360"/>
            <a:ext cx="32400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99"/>
                </a:solidFill>
                <a:latin typeface="Comic Sans MS"/>
              </a:rPr>
              <a:t>“</a:t>
            </a:r>
            <a:r>
              <a:rPr b="1" lang="es-ES" sz="4000" spc="-1" strike="noStrike">
                <a:solidFill>
                  <a:srgbClr val="006699"/>
                </a:solidFill>
                <a:latin typeface="Comic Sans MS"/>
              </a:rPr>
              <a:t>Síndrome de Adolescencia Normal” </a:t>
            </a:r>
            <a:br>
              <a:rPr sz="4000"/>
            </a:br>
            <a:r>
              <a:rPr b="0" lang="es-ES" sz="1400" spc="-1" strike="noStrike">
                <a:solidFill>
                  <a:srgbClr val="006699"/>
                </a:solidFill>
                <a:latin typeface="Comic Sans MS"/>
              </a:rPr>
              <a:t>(Aberastury y Knobel</a:t>
            </a:r>
            <a:r>
              <a:rPr b="0" lang="es-ES" sz="1400" spc="-1" strike="noStrike">
                <a:solidFill>
                  <a:srgbClr val="ff3300"/>
                </a:solidFill>
                <a:latin typeface="Comic Sans MS"/>
              </a:rPr>
              <a:t>)</a:t>
            </a:r>
            <a:endParaRPr b="0" lang="en-US" sz="1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756144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Búsqueda de la identidad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Conducta contradictoria 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Fluctuaciones del ánimo 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Necesidad de intelectualizar y fantasear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Desubicación temporal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Evolución sexual 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660960" indent="-254160"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Comic Sans MS"/>
              </a:rPr>
              <a:t>(autoerotismo a heterosexualidad)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Crisis religiosas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Tendencia grupal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Actitud social reivindicatoria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Separación progresiva de los padres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</p:txBody>
      </p:sp>
      <p:pic>
        <p:nvPicPr>
          <p:cNvPr id="115" name="" descr="The definition of adolescent insanity"/>
          <p:cNvPicPr/>
          <p:nvPr/>
        </p:nvPicPr>
        <p:blipFill>
          <a:blip r:embed="rId1"/>
          <a:stretch/>
        </p:blipFill>
        <p:spPr>
          <a:xfrm>
            <a:off x="6012000" y="4349880"/>
            <a:ext cx="3132000" cy="1736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rot="20767800">
            <a:off x="1692360" y="1154880"/>
            <a:ext cx="4895640" cy="311148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Del griego </a:t>
            </a:r>
            <a:r>
              <a:rPr b="0" i="1" lang="es-ES_tradnl" sz="1600" spc="-1" strike="noStrike">
                <a:solidFill>
                  <a:srgbClr val="000000"/>
                </a:solidFill>
                <a:latin typeface="Comic Sans MS"/>
              </a:rPr>
              <a:t>syndromé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(concurso)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es un cuadro clínico o conjunto sintomático con cierto significado y que por sus características posee cierta identidad; es decir, un grupo significativo de síntomas y signos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s-ES_tradnl" sz="1400" spc="-1" strike="noStrike">
                <a:solidFill>
                  <a:srgbClr val="000000"/>
                </a:solidFill>
                <a:latin typeface="Comic Sans MS"/>
              </a:rPr>
              <a:t>elementos semiológicos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),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que concurren en tiempo y forma, caracterizando un estado morboso determinado.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l síndrome es plurietiológico, porque tales manifestaciones semiológicas pueden ser producidas por diversas causas.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289320" cy="4967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884920" y="0"/>
            <a:ext cx="3259080" cy="4535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635280" y="3112920"/>
            <a:ext cx="3745080" cy="3745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2349360"/>
            <a:ext cx="8893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200" spc="-1" strike="noStrike">
                <a:solidFill>
                  <a:srgbClr val="ff9900"/>
                </a:solidFill>
                <a:latin typeface="Comic Sans MS"/>
              </a:rPr>
              <a:t>SER ADOLESCENTE</a:t>
            </a:r>
            <a:endParaRPr b="0" lang="en-US" sz="7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5373720"/>
            <a:ext cx="3816360" cy="10080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¿qué significa para usted?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 spd="slow">
    <p:push dir="l"/>
    <p:sndAc>
      <p:stSnd>
        <p:snd r:embed="rId4" name="push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99"/>
                </a:solidFill>
                <a:latin typeface="Comic Sans MS"/>
              </a:rPr>
              <a:t>Desarrollo Psicosocial del Adolescente</a:t>
            </a:r>
            <a:endParaRPr b="0" lang="en-US" sz="4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4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Comic Sans MS"/>
              </a:rPr>
              <a:t>TAREAS DEL DESARROLLO 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99"/>
                </a:solidFill>
                <a:latin typeface="Comic Sans MS"/>
              </a:rPr>
              <a:t>Búsqueda y consolidación de la identidad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99"/>
                </a:solidFill>
                <a:latin typeface="Comic Sans MS"/>
              </a:rPr>
              <a:t>Logro de la Autonomía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4033800"/>
            <a:ext cx="7777440" cy="2486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00"/>
                </a:solidFill>
                <a:latin typeface="Comic Sans MS"/>
              </a:rPr>
              <a:t>Etapas de la Adolescencia</a:t>
            </a:r>
            <a:endParaRPr b="0" lang="en-US" sz="44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58920" y="2008080"/>
            <a:ext cx="676908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6699"/>
                </a:solidFill>
                <a:latin typeface="Comic Sans MS"/>
              </a:rPr>
              <a:t>Adolescencia</a:t>
            </a:r>
            <a:r>
              <a:rPr b="0" lang="es-ES" sz="4000" spc="-1" strike="noStrike">
                <a:solidFill>
                  <a:srgbClr val="006699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s-ES" sz="3200" spc="-1" strike="noStrike" u="sng">
                <a:solidFill>
                  <a:srgbClr val="006699"/>
                </a:solidFill>
                <a:uFillTx/>
                <a:latin typeface="Comic Sans MS"/>
              </a:rPr>
              <a:t>Características Biológicas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1980720"/>
            <a:ext cx="81342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Comic Sans MS"/>
              </a:rPr>
              <a:t>Adolescencia Inicial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Aumento de la velocidad de crecimiento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Desarrollo de Caracteres Sexuales Secundarios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Cambios en la composición corporal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Comic Sans MS"/>
              </a:rPr>
              <a:t>Adolescencia Media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-285840" algn="r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Inicia con menarca y polución nocturna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Comic Sans MS"/>
              </a:rPr>
              <a:t>Adolescencia Tardía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“</a:t>
            </a: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Biológicamente Adultos”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332000" y="3573360"/>
            <a:ext cx="1022400" cy="1656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524720" y="1413000"/>
            <a:ext cx="1114560" cy="1538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219640" y="4976640"/>
            <a:ext cx="293688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19080"/>
            <a:ext cx="9144000" cy="68947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omic Sans MS"/>
              </a:rPr>
              <a:t>Adolescencia Temprana</a:t>
            </a:r>
            <a:br>
              <a:rPr sz="4000"/>
            </a:br>
            <a:r>
              <a:rPr b="1" lang="es-MX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10 a 13 años</a:t>
            </a:r>
            <a:br>
              <a:rPr sz="2800"/>
            </a:b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Impacto psicosocial de cambios biológicos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609120" indent="-234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Pudor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Impulsividad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Pensamiento hipotético-deductivo 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(operacional formal)</a:t>
            </a:r>
            <a:endParaRPr b="0" lang="en-US" sz="1800" spc="-1" strike="noStrike">
              <a:solidFill>
                <a:srgbClr val="ffff99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Inicio salida desde la familia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609120" indent="-234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Conflictos con padres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1" marL="609120" indent="-234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Funcionamiento en grupos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Dicotomía amor-sexo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Masturbación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Conductas homoeróticas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1os Enamoramientos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Platónicos”</a:t>
            </a:r>
            <a:endParaRPr b="0" lang="en-US" sz="1800" spc="-1" strike="noStrike">
              <a:solidFill>
                <a:srgbClr val="ffff99"/>
              </a:solidFill>
              <a:latin typeface="Comic Sans MS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Fugaces</a:t>
            </a:r>
            <a:endParaRPr b="0" lang="en-US" sz="1800" spc="-1" strike="noStrike">
              <a:solidFill>
                <a:srgbClr val="ffff99"/>
              </a:solidFill>
              <a:latin typeface="Comic Sans MS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Narcicistas</a:t>
            </a:r>
            <a:endParaRPr b="0" lang="en-US" sz="1800" spc="-1" strike="noStrike">
              <a:solidFill>
                <a:srgbClr val="ffff99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Sublimación sexualidad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Deporte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actividad social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4292640"/>
            <a:ext cx="496872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dbf1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6699"/>
                </a:solidFill>
                <a:latin typeface="Comic Sans MS"/>
              </a:rPr>
              <a:t>Adolescencia Media</a:t>
            </a:r>
            <a:br>
              <a:rPr sz="5400"/>
            </a:br>
            <a:r>
              <a:rPr b="0" lang="es-MX" sz="2000" spc="-1" strike="noStrike">
                <a:solidFill>
                  <a:srgbClr val="006699"/>
                </a:solidFill>
                <a:latin typeface="Comic Sans MS"/>
              </a:rPr>
              <a:t>14 a 17 años</a:t>
            </a:r>
            <a:br>
              <a:rPr sz="3200"/>
            </a:br>
            <a:r>
              <a:rPr b="0" lang="es-ES" sz="3200" spc="-1" strike="noStrike">
                <a:solidFill>
                  <a:srgbClr val="006699"/>
                </a:solidFill>
                <a:latin typeface="Comic Sans MS"/>
              </a:rPr>
              <a:t>Adolescente “típico”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128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Comic Sans MS"/>
              </a:rPr>
              <a:t>Activa separación de la familia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Derrumbe de modelos parentales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Crisis adolescente y padres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Comic Sans MS"/>
              </a:rPr>
              <a:t>Gran importancia del grupo de pares: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99"/>
                </a:solidFill>
                <a:latin typeface="Comic Sans MS"/>
              </a:rPr>
              <a:t>Exploración normas sociales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99"/>
                </a:solidFill>
                <a:latin typeface="Comic Sans MS"/>
              </a:rPr>
              <a:t>Proceso adquisición de la identidad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99"/>
                </a:solidFill>
                <a:latin typeface="Comic Sans MS"/>
              </a:rPr>
              <a:t>Normas propias y homogeneidad de la conducta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Heterosexuales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6699"/>
                </a:solidFill>
                <a:latin typeface="Comic Sans MS"/>
              </a:rPr>
              <a:t>Adolescencia Media</a:t>
            </a:r>
            <a:br>
              <a:rPr sz="5400"/>
            </a:br>
            <a:endParaRPr b="0" lang="en-US" sz="5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1342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99"/>
                </a:solidFill>
                <a:latin typeface="Comic Sans MS"/>
                <a:ea typeface="Arial"/>
              </a:rPr>
              <a:t>Desarrollo Psicológico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99"/>
                </a:solidFill>
                <a:latin typeface="Comic Sans MS"/>
                <a:ea typeface="Arial"/>
              </a:rPr>
              <a:t>Aislamiento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99"/>
                </a:solidFill>
                <a:latin typeface="Comic Sans MS"/>
                <a:ea typeface="Arial"/>
              </a:rPr>
              <a:t>Fluctuaciones emocionales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99"/>
                </a:solidFill>
                <a:latin typeface="Comic Sans MS"/>
                <a:ea typeface="Arial"/>
              </a:rPr>
              <a:t>Desubicación temporal 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99"/>
                </a:solidFill>
                <a:latin typeface="Comic Sans MS"/>
                <a:ea typeface="Arial"/>
              </a:rPr>
              <a:t>Tendencia al egocentrismo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99"/>
                </a:solidFill>
                <a:latin typeface="Comic Sans MS"/>
                <a:ea typeface="Arial"/>
              </a:rPr>
              <a:t>Invulnerabilidad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99"/>
                </a:solidFill>
                <a:latin typeface="Comic Sans MS"/>
                <a:ea typeface="Arial"/>
              </a:rPr>
              <a:t>Sexualidad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99"/>
                </a:solidFill>
                <a:latin typeface="Comic Sans MS"/>
                <a:ea typeface="Arial"/>
              </a:rPr>
              <a:t>Dicotomía amor-sexo hacia integración de ambos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99"/>
                </a:solidFill>
                <a:latin typeface="Comic Sans MS"/>
                <a:ea typeface="Arial"/>
              </a:rPr>
              <a:t>Diversas conductas sexuales (Petting I al IV) 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6699"/>
                </a:solidFill>
                <a:latin typeface="Comic Sans MS"/>
                <a:ea typeface="Arial"/>
              </a:rPr>
              <a:t>“</a:t>
            </a:r>
            <a:r>
              <a:rPr b="0" lang="es-MX" sz="2000" spc="-1" strike="noStrike">
                <a:solidFill>
                  <a:srgbClr val="006699"/>
                </a:solidFill>
                <a:latin typeface="Comic Sans MS"/>
                <a:ea typeface="Arial"/>
              </a:rPr>
              <a:t>Agarrar”, “Tirar”, “Andar”, “Pololear”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99"/>
                </a:solidFill>
                <a:latin typeface="Comic Sans MS"/>
                <a:ea typeface="Arial"/>
              </a:rPr>
              <a:t>Temores frente al desempeño sexual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</p:txBody>
      </p:sp>
      <p:pic>
        <p:nvPicPr>
          <p:cNvPr id="137" name="" descr="teen drug abuse rehab therapy logo"/>
          <p:cNvPicPr/>
          <p:nvPr/>
        </p:nvPicPr>
        <p:blipFill>
          <a:blip r:embed="rId1"/>
          <a:stretch/>
        </p:blipFill>
        <p:spPr>
          <a:xfrm>
            <a:off x="5508720" y="1989000"/>
            <a:ext cx="2663640" cy="266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6699"/>
                </a:solidFill>
                <a:latin typeface="Comic Sans MS"/>
              </a:rPr>
              <a:t>Adolescencia Tardía</a:t>
            </a:r>
            <a:br>
              <a:rPr sz="5400"/>
            </a:br>
            <a:r>
              <a:rPr b="0" lang="es-MX" sz="2400" spc="-1" strike="noStrike">
                <a:solidFill>
                  <a:srgbClr val="006699"/>
                </a:solidFill>
                <a:latin typeface="Comic Sans MS"/>
              </a:rPr>
              <a:t>18 a 19 años</a:t>
            </a:r>
            <a:br>
              <a:rPr sz="2400"/>
            </a:b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Comic Sans MS"/>
              </a:rPr>
              <a:t>Consolidación de la identidad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Vocacional/laboral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Sexual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Filosofía de vida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Comic Sans MS"/>
              </a:rPr>
              <a:t>Capacidad de autonomía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Liberación de dependencia de pares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Comic Sans MS"/>
              </a:rPr>
              <a:t>Capacidad de intimar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Pareja estable</a:t>
            </a:r>
            <a:r>
              <a:rPr b="0" lang="es-ES" sz="2400" spc="-1" strike="noStrike">
                <a:solidFill>
                  <a:srgbClr val="fdbf11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0244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areas del Desarrollo </a:t>
            </a:r>
            <a:br>
              <a:rPr sz="3200"/>
            </a:b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egún Etapa de la Adolescencia</a:t>
            </a:r>
            <a:br>
              <a:rPr sz="2800"/>
            </a:b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-184320" y="90792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24000" y="1187280"/>
          <a:ext cx="8424720" cy="5232600"/>
        </p:xfrm>
        <a:graphic>
          <a:graphicData uri="http://schemas.openxmlformats.org/drawingml/2006/table">
            <a:tbl>
              <a:tblPr/>
              <a:tblGrid>
                <a:gridCol w="1944360"/>
                <a:gridCol w="2087640"/>
                <a:gridCol w="2303640"/>
                <a:gridCol w="2089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rana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dia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rdía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gnitivo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creto</a:t>
                      </a:r>
                      <a:endParaRPr b="0" lang="en-US" sz="16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creto con capacidad de abstracción creciente</a:t>
                      </a:r>
                      <a:endParaRPr b="0" lang="en-US" sz="16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stracto</a:t>
                      </a:r>
                      <a:endParaRPr b="0" lang="en-US" sz="16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laciones sociales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upo de pares del mismo sexo</a:t>
                      </a:r>
                      <a:endParaRPr b="0" lang="en-US" sz="16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upos de pares de ambos sexos</a:t>
                      </a:r>
                      <a:endParaRPr b="0" lang="en-US" sz="16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laciones individuales más importantes que el grupo de pares</a:t>
                      </a:r>
                      <a:endParaRPr b="0" lang="en-US" sz="16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ores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ienza a cuestionar el sistema de valores parental</a:t>
                      </a:r>
                      <a:endParaRPr b="0" lang="en-US" sz="16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entrado en si mismo</a:t>
                      </a:r>
                      <a:endParaRPr b="0" lang="en-US" sz="16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ealismo; Concepto de lo bueno y lo malo, orientado más en el otro</a:t>
                      </a:r>
                      <a:endParaRPr b="0" lang="en-US" sz="16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dependencia</a:t>
                      </a:r>
                      <a:endParaRPr b="0" lang="en-US" sz="20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ienza el proceso de separación de los padres ; prefiere a los pares que a la flia.</a:t>
                      </a:r>
                      <a:endParaRPr b="0" lang="en-US" sz="16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bivalencia sobre separación</a:t>
                      </a:r>
                      <a:endParaRPr b="0" lang="en-US" sz="16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ienza a integrar elementos de independencia</a:t>
                      </a:r>
                      <a:endParaRPr b="0" lang="en-US" sz="1600" spc="-1" strike="noStrike">
                        <a:solidFill>
                          <a:srgbClr val="ffff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0" y="477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6699"/>
                </a:solidFill>
                <a:latin typeface="Comic Sans MS"/>
              </a:rPr>
              <a:t>Indicadores Demográficos </a:t>
            </a:r>
            <a:r>
              <a:rPr b="0" lang="es-ES" sz="3600" spc="-1" strike="noStrike">
                <a:solidFill>
                  <a:srgbClr val="006699"/>
                </a:solidFill>
                <a:latin typeface="Comic Sans MS"/>
              </a:rPr>
              <a:t>Adolescentes (10 a 19años)</a:t>
            </a:r>
            <a:endParaRPr b="0" lang="en-US" sz="36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424656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Tasa de mortalidad 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0,37 por mil/hab</a:t>
            </a:r>
            <a:r>
              <a:rPr b="0" lang="es-ES" sz="2400" spc="-1" strike="noStrike">
                <a:solidFill>
                  <a:srgbClr val="fdbf11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Principales causas de muerte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Traumatismos y los tumores 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Comic Sans MS"/>
              </a:rPr>
              <a:t>Suicidio por ahorcamiento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224"/>
              </a:spcBef>
              <a:buClr>
                <a:srgbClr val="0066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6699"/>
                </a:solidFill>
                <a:latin typeface="Comic Sans MS"/>
              </a:rPr>
              <a:t>Fuente:  OPS</a:t>
            </a:r>
            <a:endParaRPr b="0" lang="en-US" sz="900" spc="-1" strike="noStrike">
              <a:solidFill>
                <a:srgbClr val="ffff99"/>
              </a:solidFill>
              <a:latin typeface="Comic Sans MS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5148360" y="2581200"/>
          <a:ext cx="3671640" cy="35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2581200"/>
                    <a:ext cx="3671640" cy="35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6699"/>
                </a:solidFill>
                <a:latin typeface="Comic Sans MS"/>
              </a:rPr>
              <a:t>Adolescencia</a:t>
            </a:r>
            <a:endParaRPr b="0" lang="en-US" sz="4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Problemas frecuentes de salud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Comic Sans MS"/>
              </a:rPr>
              <a:t>Adicciones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Comic Sans MS"/>
              </a:rPr>
              <a:t>Embarazos no deseados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Comic Sans MS"/>
              </a:rPr>
              <a:t>Enfermedades de transmisión sexual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Comic Sans MS"/>
              </a:rPr>
              <a:t>Traumatismo 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Comic Sans MS"/>
              </a:rPr>
              <a:t>Violencia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Conductas de riesgo</a:t>
            </a:r>
            <a:r>
              <a:rPr b="0" lang="es-ES" sz="2400" spc="-1" strike="noStrike">
                <a:solidFill>
                  <a:srgbClr val="ff99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210360" y="1844640"/>
            <a:ext cx="2033640" cy="1355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586480" y="4724280"/>
            <a:ext cx="1338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405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s-ES" sz="5400" spc="-1" strike="noStrike">
                <a:solidFill>
                  <a:srgbClr val="006699"/>
                </a:solidFill>
                <a:latin typeface="Comic Sans MS"/>
              </a:rPr>
              <a:t>Cerebros</a:t>
            </a:r>
            <a:endParaRPr b="0" lang="en-US" sz="54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292640"/>
            <a:ext cx="385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s-ES" sz="4800" spc="-1" strike="noStrike">
                <a:solidFill>
                  <a:srgbClr val="006699"/>
                </a:solidFill>
                <a:latin typeface="Comic Sans MS"/>
              </a:rPr>
              <a:t>Deportistas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92720" y="4292640"/>
            <a:ext cx="333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s-ES" sz="5400" spc="-1" strike="noStrike">
                <a:solidFill>
                  <a:srgbClr val="006699"/>
                </a:solidFill>
                <a:latin typeface="Comic Sans MS"/>
              </a:rPr>
              <a:t>Artistas</a:t>
            </a:r>
            <a:endParaRPr b="0" lang="en-US" sz="5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03640" y="1413000"/>
            <a:ext cx="3732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s-ES" sz="5400" spc="-1" strike="noStrike">
                <a:solidFill>
                  <a:srgbClr val="006699"/>
                </a:solidFill>
                <a:latin typeface="Comic Sans MS"/>
              </a:rPr>
              <a:t>Rebeldes</a:t>
            </a:r>
            <a:endParaRPr b="0" lang="en-US" sz="5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99"/>
                </a:solidFill>
                <a:latin typeface="Comic Sans MS"/>
              </a:rPr>
              <a:t>Factores de Riesgo en la Adolescencia</a:t>
            </a:r>
            <a:endParaRPr b="0" lang="en-US" sz="36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99"/>
                </a:solidFill>
                <a:latin typeface="Comic Sans MS"/>
              </a:rPr>
              <a:t>Biológicos</a:t>
            </a:r>
            <a:endParaRPr b="0" lang="en-US" sz="1800" spc="-1" strike="noStrike">
              <a:solidFill>
                <a:srgbClr val="ffff99"/>
              </a:solidFill>
              <a:latin typeface="Comic Sans MS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Sedentarismo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Sexualidad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Conductas Accidentógenas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Problemas Médicos propios de esta edad  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Problemas nutricionales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Enfs. Crónicas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99"/>
                </a:solidFill>
                <a:latin typeface="Comic Sans MS"/>
              </a:rPr>
              <a:t>Sociales</a:t>
            </a:r>
            <a:endParaRPr b="0" lang="en-US" sz="1800" spc="-1" strike="noStrike">
              <a:solidFill>
                <a:srgbClr val="ffff99"/>
              </a:solidFill>
              <a:latin typeface="Comic Sans MS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Problemas escolares y vocacionales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Alts. Conductuales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Aspectos Sociales (pares, familia)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99"/>
                </a:solidFill>
                <a:latin typeface="Comic Sans MS"/>
              </a:rPr>
              <a:t>Psicológicos</a:t>
            </a:r>
            <a:endParaRPr b="0" lang="en-US" sz="1800" spc="-1" strike="noStrike">
              <a:solidFill>
                <a:srgbClr val="ffff99"/>
              </a:solidFill>
              <a:latin typeface="Comic Sans MS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Aspectos Emocionales (depresión, ansiedad, intento suicida)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Abuso de Sustancias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Tr. de Conducta alimentária (anorexia y bulimia)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Quejas Somáticas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Comic Sans MS"/>
            </a:endParaRPr>
          </a:p>
          <a:p>
            <a:pPr lvl="1" marL="66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0" y="3157560"/>
            <a:ext cx="4572000" cy="3360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rot="20767800">
            <a:off x="1692360" y="834840"/>
            <a:ext cx="4895640" cy="37530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Un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factor de riesgo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es toda circunstancia o situación que aumenta las probabilidades de una persona de contraer una enfermedad.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l término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factor de riesgo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fue utilizado por primera vez por el investigador de enfermedades cardiacas, el Dr. Thomas R. Dawber en un estudio publicado en 1961 donde atribuyó a la cardiopatía isquémica.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56" name="" descr="Risk = \frac {\mbox{number of persons experiencing event (food poisoning)}} {\mbox{number of persons exposed to risk factor (food)}}"/>
          <p:cNvPicPr/>
          <p:nvPr/>
        </p:nvPicPr>
        <p:blipFill>
          <a:blip r:embed="rId2"/>
          <a:stretch/>
        </p:blipFill>
        <p:spPr>
          <a:xfrm rot="20724600">
            <a:off x="1920960" y="2165040"/>
            <a:ext cx="431964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99"/>
                </a:solidFill>
                <a:latin typeface="Comic Sans MS"/>
              </a:rPr>
              <a:t>Adolescentes</a:t>
            </a:r>
            <a:endParaRPr b="0" lang="en-US" sz="6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295280"/>
            <a:ext cx="3886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900" spc="-1" strike="noStrike">
                <a:solidFill>
                  <a:srgbClr val="ff3300"/>
                </a:solidFill>
                <a:latin typeface="Comic Sans MS"/>
              </a:rPr>
              <a:t>C</a:t>
            </a:r>
            <a:endParaRPr b="0" lang="en-US" sz="349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962160" y="1828440"/>
            <a:ext cx="5181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Comic Sans MS"/>
              </a:rPr>
              <a:t>Casco</a:t>
            </a:r>
            <a:endParaRPr b="0" lang="en-US" sz="3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Comic Sans MS"/>
              </a:rPr>
              <a:t>Cinturón de seguridad</a:t>
            </a:r>
            <a:endParaRPr b="0" lang="en-US" sz="3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Comic Sans MS"/>
              </a:rPr>
              <a:t>Cigarrillo</a:t>
            </a:r>
            <a:endParaRPr b="0" lang="en-US" sz="3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Comic Sans MS"/>
              </a:rPr>
              <a:t>Condón</a:t>
            </a:r>
            <a:endParaRPr b="0" lang="en-US" sz="3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Comic Sans MS"/>
              </a:rPr>
              <a:t>Calcio</a:t>
            </a:r>
            <a:endParaRPr b="0" lang="en-US" sz="3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Comic Sans MS"/>
              </a:rPr>
              <a:t>Colesterol</a:t>
            </a:r>
            <a:endParaRPr b="0" lang="en-US" sz="36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35640" y="4897440"/>
            <a:ext cx="4608360" cy="19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dbf11"/>
                    </a:gs>
                    <a:gs pos="100000">
                      <a:srgbClr val="ff3300"/>
                    </a:gs>
                  </a:gsLst>
                  <a:lin ang="8100000"/>
                </a:gradFill>
                <a:latin typeface="Arial Black"/>
              </a:rPr>
              <a:t>Cuidemos a estos Cabros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dbf11"/>
                  </a:gs>
                  <a:gs pos="100000">
                    <a:srgbClr val="ff3300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228600"/>
            <a:ext cx="86104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Comic Sans MS"/>
              </a:rPr>
              <a:t>OBJETIVOS DESEABLE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99"/>
                </a:solidFill>
                <a:latin typeface="Comic Sans MS"/>
              </a:rPr>
              <a:t>Retraso en el inicio de la actividad sexual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99"/>
                </a:solidFill>
                <a:latin typeface="Comic Sans MS"/>
              </a:rPr>
              <a:t>Adopción de conductas sexuales protegida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99"/>
                </a:solidFill>
                <a:latin typeface="Comic Sans MS"/>
              </a:rPr>
              <a:t>Expresión de rabia y resolución de conflictos de forma NO violenta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99"/>
                </a:solidFill>
                <a:latin typeface="Comic Sans MS"/>
              </a:rPr>
              <a:t>Consumo de alcohol de forma madura y responsabl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99"/>
                </a:solidFill>
                <a:latin typeface="Comic Sans MS"/>
              </a:rPr>
              <a:t>Rechazo al consumo de tabaco y drogas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99"/>
                </a:solidFill>
                <a:latin typeface="Comic Sans MS"/>
              </a:rPr>
              <a:t>Actividad Física Constant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99"/>
                </a:solidFill>
                <a:latin typeface="Comic Sans MS"/>
              </a:rPr>
              <a:t>Alimentación Sana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>
            <a:lum bright="6000"/>
          </a:blip>
          <a:srcRect l="20833" t="8337" r="16667" b="2087"/>
          <a:stretch/>
        </p:blipFill>
        <p:spPr>
          <a:xfrm>
            <a:off x="6372360" y="5140440"/>
            <a:ext cx="198108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3529080" cy="4392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356000" y="2708280"/>
            <a:ext cx="4248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44360" y="1484280"/>
            <a:ext cx="899964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Comic Sans MS"/>
              </a:rPr>
              <a:t>Rol nuestro de cada día...</a:t>
            </a:r>
            <a:endParaRPr b="0" lang="en-US" sz="36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Comic Sans MS"/>
              </a:rPr>
              <a:t>Catalizador </a:t>
            </a:r>
            <a:endParaRPr b="0" lang="en-US" sz="36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Comic Sans MS"/>
              </a:rPr>
              <a:t>Modelo</a:t>
            </a:r>
            <a:endParaRPr b="0" lang="en-US" sz="36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Comic Sans MS"/>
              </a:rPr>
              <a:t>Informar</a:t>
            </a:r>
            <a:endParaRPr b="0" lang="en-US" sz="36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Comic Sans MS"/>
              </a:rPr>
              <a:t>Orientar</a:t>
            </a:r>
            <a:endParaRPr b="0" lang="en-US" sz="36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Comic Sans MS"/>
              </a:rPr>
              <a:t>Educar</a:t>
            </a:r>
            <a:endParaRPr b="0" lang="en-US" sz="36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Comic Sans MS"/>
              </a:rPr>
              <a:t>Investigar</a:t>
            </a:r>
            <a:endParaRPr b="0" lang="en-US" sz="36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429160" y="2384280"/>
            <a:ext cx="224784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5796000" y="831960"/>
            <a:ext cx="3816360" cy="51181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94920" y="155736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Hogar 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 Hija única.  Vive en su hogar con su madre 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y padrastro. Su padre no la ha visto desde que nació.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Educación 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 Colegio mixto, 6ºbásico, repitente dos veces. 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Buena conducta y buenas relaciones con sus compañeros.  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Profesora siempre se queja de que es muy callada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Actividades 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 No participa en actividades extraprogramáticas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Drogas 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Ha probado cigarrillos pero nunca drogas ni alcohol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D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Ha aumentado la ingesta en los últimos tres meses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y ha subido de peso, la ropa le queda chica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Sexualidad 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Nunca ha pololeado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Suicidio 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Una vez se planteó la idea de suicidarse, pero no hizo nada al respecto.  Nunca recibió consejería.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lvl="1" marL="639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99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Motivo de Consulta:  Madre la trae porque hace una semana que presenta nausea y vómito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99"/>
                </a:solidFill>
                <a:latin typeface="Comic Sans MS"/>
              </a:rPr>
              <a:t>María José</a:t>
            </a:r>
            <a:br>
              <a:rPr sz="5400"/>
            </a:b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12 años</a:t>
            </a: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364000" y="1484280"/>
            <a:ext cx="4064040" cy="60260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561636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Hogar 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 Vive con su abuela y sus dos hermanos (12 y 3 años)  Sus padres se separaron y su mamá la va a ver de vez en cuando. 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Educación 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 Está terminando su cuarto medio con buenas notas y no tiene problemas de conducta ni relaciones con sus compañeras. Colegio mixto.  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Actividades 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 No participa en actividades extraprogramáticas, porque tiene que ir a su casa a ayudar a cuidar a sus hermanos.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Drogas 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Fuma 3-5 cigarrillos diarios y toma alcohol cuando va a fiestas, una o dos veces al mes. 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D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Come lo normal y no tiene problemas con su peso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Sexualidad 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Pololea hace un año y ha tenido relaciones sexuales con su pololo hace más o menos 3 meses, usa condón casi siempre.  Una vez tuvo un retrazo, pero “fue un susto no más”.  No quiere tener guagua porque ya sabe lo que es cuidar a dos niños.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Suicidio 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 Piensa que a veces sería mejor morirse, pero nunca ha sentido ganas de matarse ni lo ha intentado.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99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Motivo de consulta: Consulta por sí misma porque quiere obtener un método más seguro de anticoncepción.  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5186160" y="188640"/>
            <a:ext cx="395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0066"/>
                </a:solidFill>
                <a:latin typeface="Comic Sans MS"/>
              </a:rPr>
              <a:t>Camila</a:t>
            </a:r>
            <a:br>
              <a:rPr sz="5400"/>
            </a:br>
            <a:r>
              <a:rPr b="0" lang="es-ES" sz="2400" spc="-1" strike="noStrike">
                <a:solidFill>
                  <a:srgbClr val="ff0066"/>
                </a:solidFill>
                <a:latin typeface="Comic Sans MS"/>
              </a:rPr>
              <a:t>17 años</a:t>
            </a:r>
            <a:endParaRPr b="0" lang="en-US" sz="2400" spc="-1" strike="noStrike">
              <a:solidFill>
                <a:srgbClr val="ff99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-252360" y="2367000"/>
            <a:ext cx="4895640" cy="4491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308480" y="764640"/>
            <a:ext cx="4835520" cy="575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Hogar 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 Vive en su hogar con sus padres y sus hermanos de 19 y 7 años.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Educación 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 Colegio de hombres, inició recién el octavo año básico.  Rendimiento regular, buena conducta y buenas relaciones con sus compañeros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Actividades 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 Juega Tennis y aprende computación en el colegio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Drogas 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 No ha probado drogas ni alcohol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D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 Está comiendo muy poco porque se encuentra gordo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Sexualidad 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 Ha pololeado un par de veces, pero nunca más de un més y nunca ha tenido relaciones sexuales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Suicidio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Nunca se ha planteado la idea de  suicidarse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Motivo de Consulta:  Lo trae su mamá porque es muy bajo y no se ha desarrollado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39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6699"/>
                </a:solidFill>
                <a:latin typeface="Comic Sans MS"/>
              </a:rPr>
              <a:t>Juan </a:t>
            </a:r>
            <a:br>
              <a:rPr sz="4400"/>
            </a:br>
            <a:r>
              <a:rPr b="0" lang="es-ES" sz="3200" spc="-1" strike="noStrike">
                <a:solidFill>
                  <a:srgbClr val="006699"/>
                </a:solidFill>
                <a:latin typeface="Comic Sans MS"/>
              </a:rPr>
              <a:t>14 años y 5 meses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-324000" y="2367000"/>
            <a:ext cx="4967280" cy="4491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140000" y="764640"/>
            <a:ext cx="5003640" cy="575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Hogar 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 Vive en su hogar con sus padres y sus hermano 5 años.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Educación 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 Colegio mixto, está repitiendo 6º año básico, nunca había repetido antes. Tiene buenas relaciones con sus compañeros, pero constantemente lo reprenden en clase porque se distrae e interrumpe la clase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A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 Le gusta andar en bicicleta, pero no lo hace muy regularmente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Drogas 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 Ha probado cerveza, pero dice que no le gustó.  Nunca ha fumado ni ha probado alcohol.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D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 Come bastante y presenta sobrepeso marcado. 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Sexualidad 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 Nunca ha pololeado ni ha tenido relaciones sexuales, dice que le da vergûenza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Suicidio </a:t>
            </a:r>
            <a:r>
              <a:rPr b="0" lang="es-E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 Nunca se ha planteado la idea de  suicidarse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Comic Sans MS"/>
              </a:rPr>
              <a:t>Motivo de Consulta:  Lo trae su madre, porque en el colegio se le exige una evaluación médica por su problema de conducta</a:t>
            </a:r>
            <a:r>
              <a:rPr b="0" lang="es-ES" sz="1600" spc="-1" strike="noStrike">
                <a:solidFill>
                  <a:srgbClr val="ff99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39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6699"/>
                </a:solidFill>
                <a:latin typeface="Comic Sans MS"/>
              </a:rPr>
              <a:t>Pedro </a:t>
            </a:r>
            <a:br>
              <a:rPr sz="4400"/>
            </a:br>
            <a:r>
              <a:rPr b="0" lang="es-ES" sz="3200" spc="-1" strike="noStrike">
                <a:solidFill>
                  <a:srgbClr val="006699"/>
                </a:solidFill>
                <a:latin typeface="Comic Sans MS"/>
              </a:rPr>
              <a:t>13 años,4 meses</a:t>
            </a:r>
            <a:endParaRPr b="0" lang="en-US" sz="32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-324000" y="2367000"/>
            <a:ext cx="496728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204640"/>
            <a:ext cx="367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Comic Sans MS"/>
              </a:rPr>
              <a:t>Nerds</a:t>
            </a:r>
            <a:br>
              <a:rPr sz="2800"/>
            </a:br>
            <a:r>
              <a:rPr b="0" lang="es-ES" sz="2800" spc="-1" strike="noStrike">
                <a:solidFill>
                  <a:srgbClr val="006699"/>
                </a:solidFill>
                <a:latin typeface="Comic Sans MS"/>
              </a:rPr>
              <a:t>Cerebros</a:t>
            </a:r>
            <a:endParaRPr b="0" lang="en-US" sz="2800" spc="-1" strike="noStrike">
              <a:solidFill>
                <a:srgbClr val="ff9900"/>
              </a:solidFill>
              <a:latin typeface="Comic Sans MS"/>
            </a:endParaRPr>
          </a:p>
        </p:txBody>
      </p:sp>
      <p:pic>
        <p:nvPicPr>
          <p:cNvPr id="53" name="" descr="nerd.gif"/>
          <p:cNvPicPr/>
          <p:nvPr/>
        </p:nvPicPr>
        <p:blipFill>
          <a:blip r:embed="rId1"/>
          <a:stretch/>
        </p:blipFill>
        <p:spPr>
          <a:xfrm>
            <a:off x="1332000" y="333360"/>
            <a:ext cx="1361880" cy="1981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940360" y="260280"/>
            <a:ext cx="2052720" cy="2389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5715000"/>
            <a:ext cx="349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99"/>
                </a:solidFill>
                <a:latin typeface="Comic Sans MS"/>
              </a:rPr>
              <a:t>Skater</a:t>
            </a:r>
            <a:br>
              <a:rPr sz="3200"/>
            </a:br>
            <a:r>
              <a:rPr b="0" lang="es-ES" sz="3200" spc="-1" strike="noStrike">
                <a:solidFill>
                  <a:srgbClr val="006699"/>
                </a:solidFill>
                <a:latin typeface="Comic Sans MS"/>
              </a:rPr>
              <a:t>Deportista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5715000"/>
            <a:ext cx="302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99"/>
                </a:solidFill>
                <a:latin typeface="Comic Sans MS"/>
              </a:rPr>
              <a:t>Hippies</a:t>
            </a:r>
            <a:br>
              <a:rPr sz="3200"/>
            </a:br>
            <a:r>
              <a:rPr b="0" lang="es-ES" sz="3200" spc="-1" strike="noStrike">
                <a:solidFill>
                  <a:srgbClr val="006699"/>
                </a:solidFill>
                <a:latin typeface="Comic Sans MS"/>
              </a:rPr>
              <a:t>Artista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19640" y="2492280"/>
            <a:ext cx="338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99"/>
                </a:solidFill>
                <a:latin typeface="Comic Sans MS"/>
              </a:rPr>
              <a:t>Punks</a:t>
            </a:r>
            <a:br>
              <a:rPr sz="3200"/>
            </a:br>
            <a:r>
              <a:rPr b="0" lang="es-ES" sz="3200" spc="-1" strike="noStrike">
                <a:solidFill>
                  <a:srgbClr val="006699"/>
                </a:solidFill>
                <a:latin typeface="Comic Sans MS"/>
              </a:rPr>
              <a:t>Rebeld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16000" y="3429000"/>
            <a:ext cx="1633680" cy="2428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Hippie"/>
          <p:cNvPicPr/>
          <p:nvPr/>
        </p:nvPicPr>
        <p:blipFill>
          <a:blip r:embed="rId4"/>
          <a:stretch/>
        </p:blipFill>
        <p:spPr>
          <a:xfrm>
            <a:off x="5867280" y="3789360"/>
            <a:ext cx="23050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99"/>
                </a:solidFill>
                <a:latin typeface="Comic Sans MS"/>
              </a:rPr>
              <a:t>Concepto de Adolescente</a:t>
            </a:r>
            <a:br>
              <a:rPr sz="4000"/>
            </a:br>
            <a:r>
              <a:rPr b="1" lang="es-ES" sz="4000" spc="-1" strike="noStrike">
                <a:solidFill>
                  <a:srgbClr val="006699"/>
                </a:solidFill>
                <a:latin typeface="Comic Sans MS"/>
              </a:rPr>
              <a:t>en la Historia</a:t>
            </a: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6699"/>
                </a:solidFill>
                <a:latin typeface="Comic Sans MS"/>
              </a:rPr>
              <a:t>Inexistente</a:t>
            </a:r>
            <a:endParaRPr b="0" lang="en-US" sz="4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Comic Sans MS"/>
            </a:endParaRPr>
          </a:p>
        </p:txBody>
      </p:sp>
      <p:pic>
        <p:nvPicPr>
          <p:cNvPr id="62" name="" descr="ilusion optica"/>
          <p:cNvPicPr/>
          <p:nvPr/>
        </p:nvPicPr>
        <p:blipFill>
          <a:blip r:embed="rId1"/>
          <a:stretch/>
        </p:blipFill>
        <p:spPr>
          <a:xfrm>
            <a:off x="4284720" y="1916280"/>
            <a:ext cx="467352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99"/>
                </a:solidFill>
                <a:latin typeface="Comic Sans MS"/>
              </a:rPr>
              <a:t>Concepto de Adolescente</a:t>
            </a:r>
            <a:br>
              <a:rPr sz="4000"/>
            </a:br>
            <a:r>
              <a:rPr b="1" lang="es-ES" sz="4000" spc="-1" strike="noStrike">
                <a:solidFill>
                  <a:srgbClr val="006699"/>
                </a:solidFill>
                <a:latin typeface="Comic Sans MS"/>
              </a:rPr>
              <a:t>en la Historia</a:t>
            </a: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3300"/>
                </a:solidFill>
                <a:latin typeface="Comic Sans MS"/>
              </a:rPr>
              <a:t>Problema</a:t>
            </a: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5" name=""/>
          <p:cNvSpPr/>
          <p:nvPr/>
        </p:nvSpPr>
        <p:spPr>
          <a:xfrm>
            <a:off x="2692440" y="301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1989000"/>
            <a:ext cx="31021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99"/>
                </a:solidFill>
                <a:latin typeface="Comic Sans MS"/>
              </a:rPr>
              <a:t>Concepto de Adolescente</a:t>
            </a:r>
            <a:br>
              <a:rPr sz="4000"/>
            </a:br>
            <a:r>
              <a:rPr b="1" lang="es-ES" sz="4000" spc="-1" strike="noStrike">
                <a:solidFill>
                  <a:srgbClr val="006699"/>
                </a:solidFill>
                <a:latin typeface="Comic Sans MS"/>
              </a:rPr>
              <a:t>en la Historia</a:t>
            </a: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3300"/>
                </a:solidFill>
                <a:latin typeface="Comic Sans MS"/>
              </a:rPr>
              <a:t>Individuo </a:t>
            </a: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s-ES" sz="4000" spc="-1" strike="noStrike">
                <a:solidFill>
                  <a:srgbClr val="ff3300"/>
                </a:solidFill>
                <a:latin typeface="Comic Sans MS"/>
              </a:rPr>
              <a:t>de Riesgo</a:t>
            </a: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pic>
        <p:nvPicPr>
          <p:cNvPr id="69" name="" descr="Steve and a croc"/>
          <p:cNvPicPr/>
          <p:nvPr/>
        </p:nvPicPr>
        <p:blipFill>
          <a:blip r:embed="rId1"/>
          <a:stretch/>
        </p:blipFill>
        <p:spPr>
          <a:xfrm>
            <a:off x="4211640" y="2060640"/>
            <a:ext cx="31194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99"/>
                </a:solidFill>
                <a:latin typeface="Comic Sans MS"/>
              </a:rPr>
              <a:t>Concepto de Adolescente</a:t>
            </a:r>
            <a:br>
              <a:rPr sz="4000"/>
            </a:br>
            <a:r>
              <a:rPr b="1" lang="es-ES" sz="4000" spc="-1" strike="noStrike">
                <a:solidFill>
                  <a:srgbClr val="006699"/>
                </a:solidFill>
                <a:latin typeface="Comic Sans MS"/>
              </a:rPr>
              <a:t>en la Historia</a:t>
            </a:r>
            <a:endParaRPr b="0" lang="en-US" sz="4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4030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99"/>
                </a:solidFill>
                <a:latin typeface="Comic Sans MS"/>
              </a:rPr>
              <a:t>Protagonista 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99"/>
                </a:solidFill>
                <a:latin typeface="Comic Sans MS"/>
              </a:rPr>
              <a:t>Potencial prevenir  hábitos perjudiciales 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292720" y="2205000"/>
            <a:ext cx="31431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6699"/>
                </a:solidFill>
                <a:latin typeface="Comic Sans MS"/>
              </a:rPr>
              <a:t>Adolescencia</a:t>
            </a:r>
            <a:endParaRPr b="0" lang="en-US" sz="6000" spc="-1" strike="noStrike">
              <a:solidFill>
                <a:srgbClr val="ff99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4430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99"/>
                </a:solidFill>
                <a:latin typeface="Comic Sans MS"/>
              </a:rPr>
              <a:t>Etimología </a:t>
            </a:r>
            <a:endParaRPr b="0" lang="en-US" sz="36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99"/>
                </a:solidFill>
                <a:latin typeface="Comic Sans MS"/>
              </a:rPr>
              <a:t>Latín </a:t>
            </a:r>
            <a:r>
              <a:rPr b="1" i="1" lang="es-ES" sz="3200" spc="-1" strike="noStrike">
                <a:solidFill>
                  <a:srgbClr val="006699"/>
                </a:solidFill>
                <a:latin typeface="Comic Sans MS"/>
              </a:rPr>
              <a:t>Adolescere</a:t>
            </a:r>
            <a:r>
              <a:rPr b="0" i="1" lang="es-ES" sz="32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006699"/>
                </a:solidFill>
                <a:latin typeface="Comic Sans MS"/>
              </a:rPr>
              <a:t>“madurar”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Se consideraba un </a:t>
            </a:r>
            <a:r>
              <a:rPr b="1" lang="es-ES" sz="2400" spc="-1" strike="noStrike">
                <a:solidFill>
                  <a:srgbClr val="006699"/>
                </a:solidFill>
                <a:latin typeface="Comic Sans MS"/>
              </a:rPr>
              <a:t>proceso</a:t>
            </a: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 y no una </a:t>
            </a:r>
            <a:r>
              <a:rPr b="1" lang="es-ES" sz="2400" spc="-1" strike="noStrike">
                <a:solidFill>
                  <a:srgbClr val="006699"/>
                </a:solidFill>
                <a:latin typeface="Comic Sans MS"/>
              </a:rPr>
              <a:t>etapa del ciclo vital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Comic Sans MS"/>
              </a:rPr>
              <a:t>Concepto obsoleto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932360" y="2093760"/>
            <a:ext cx="421164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1T20:58:50Z</dcterms:created>
  <dc:creator>Teresa Millán</dc:creator>
  <dc:description/>
  <dc:language>en-US</dc:language>
  <cp:lastModifiedBy>Fac. de Medicina</cp:lastModifiedBy>
  <cp:lastPrinted>2000-12-15T11:45:47Z</cp:lastPrinted>
  <dcterms:modified xsi:type="dcterms:W3CDTF">2011-07-07T16:16:00Z</dcterms:modified>
  <cp:revision>264</cp:revision>
  <dc:subject/>
  <dc:title>Adolescencia</dc:title>
</cp:coreProperties>
</file>