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45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38.wmf" ContentType="image/x-wmf"/>
  <Override PartName="/ppt/media/image28.jpeg" ContentType="image/jpeg"/>
  <Override PartName="/ppt/media/image36.jpeg" ContentType="image/jpeg"/>
  <Override PartName="/ppt/media/image9.jpeg" ContentType="image/jpeg"/>
  <Override PartName="/ppt/media/image3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41.png" ContentType="image/png"/>
  <Override PartName="/ppt/media/image22.jpeg" ContentType="image/jpeg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3.jpeg" ContentType="image/jpeg"/>
  <Override PartName="/ppt/media/image2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C6A-3D03-4C36-91D5-6CCBC3F7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05D-FF6C-4479-B796-00A8BF1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301-BD48-4C37-8298-A0C7BA33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348-7776-4474-B3E4-137DFDAE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CED-0064-45B5-A3E4-9A1BAA1A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742-5B23-4BC2-B9F4-A033F7EA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A03-B193-4B6D-949F-290A958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F2F-B600-47E2-9F2E-7B2DF71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318-657C-4BB8-B505-6680EF4A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1D3-1152-4527-8692-2AC2FCD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F02-EB86-4DBE-8FE2-66F0EA4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D06-BA7F-4BE7-A18D-ECF1E5C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5E1-06CF-4069-B498-2B969B1F8B6F}" type="slidenum"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cyberlatino.com.mx/postales/humor/humor_19.jpg&amp;imgrefurl=http://nohequ.blogspirit.com/archive/2005/10/index.html&amp;h=556&amp;w=380&amp;sz=27&amp;hl=es&amp;start=91&amp;um=1&amp;tbnid=Owfae3GoTkrdnM:&amp;tbnh=133&amp;tbnw=91&amp;prev=/images%3Fq%3Dproblema%2Bhumor%26start%3D80%26ndsp%3D20%26svnum%3D10%26um%3D1%26hl%3Des%26rlz%3D1T4HPNN_es___CL217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9900"/>
                </a:solidFill>
                <a:latin typeface="Comic Sans MS"/>
              </a:rPr>
              <a:t>ADOLESCENCIA</a:t>
            </a:r>
            <a:endParaRPr b="0" lang="en-US" sz="8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450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b8d13"/>
                </a:solidFill>
                <a:latin typeface="Comic Sans MS"/>
              </a:rPr>
              <a:t>Prof. Teresa Millá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Definición de 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ualmente: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tapa biopsicosocial del desarrollo humano comprendida entre los 10 y los 19 años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(O. M. S.) 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Etapas de la adolescenc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Inicial: 10 a 13 años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spcBef>
                <a:spcPts val="400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(menarca, 1ª polución nocturn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Media: 14 a 16 añ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Tardía: 17 a 19 añ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48160" y="1989000"/>
            <a:ext cx="3225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561440" cy="4479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Principales Características de las Etapas de la Adolescencia</a:t>
            </a:r>
            <a:r>
              <a:rPr b="0" lang="es-E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BIOLÓGICA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Caracteres sexuales secundarios 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Capacidad reproductiv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114800"/>
            <a:ext cx="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PSICOSOCIA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Procesos psicológico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Pauta de identificación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Comic Sans MS"/>
              </a:rPr>
              <a:t>niño 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Comic Sans MS"/>
              </a:rPr>
              <a:t> Adul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Autonom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Independenc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psicológica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soc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mic Sans MS"/>
              </a:rPr>
              <a:t>                       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114800"/>
            <a:ext cx="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68760" y="1844640"/>
            <a:ext cx="348624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99"/>
                </a:solidFill>
                <a:latin typeface="Comic Sans MS"/>
              </a:rPr>
              <a:t>Objetivo centra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consolidación de la identidad person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99"/>
                </a:solidFill>
                <a:latin typeface="Comic Sans MS"/>
              </a:rPr>
              <a:t>Límite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Inicio</a:t>
            </a:r>
            <a:r>
              <a:rPr b="0" lang="es-CL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 Cambios biológicos de la pubert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Término </a:t>
            </a:r>
            <a:r>
              <a:rPr b="0" lang="es-CL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 Ingreso al mundo social adul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dbf11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2789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59056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87820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business school"/>
          <p:cNvPicPr/>
          <p:nvPr/>
        </p:nvPicPr>
        <p:blipFill>
          <a:blip r:embed="rId3"/>
          <a:stretch/>
        </p:blipFill>
        <p:spPr>
          <a:xfrm>
            <a:off x="3492360" y="4076640"/>
            <a:ext cx="2421000" cy="246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588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275800">
            <a:off x="755280" y="5300640"/>
            <a:ext cx="2879640" cy="1297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iones  y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igencias par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grar Exit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50000">
            <a:off x="611280" y="981000"/>
            <a:ext cx="244800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peranz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vid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8400">
            <a:off x="6264360" y="4869000"/>
            <a:ext cx="2879640" cy="1081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traso de l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dad del Matrimoni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950800">
            <a:off x="5724360" y="475920"/>
            <a:ext cx="2808360" cy="136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acitación Laboral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↑ Años de Estudio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0509800">
            <a:off x="2531880" y="3225600"/>
            <a:ext cx="39830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olescenc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6699"/>
                </a:solidFill>
                <a:latin typeface="Comic Sans MS"/>
              </a:rPr>
              <a:t>ETAPA ESCOLAR</a:t>
            </a:r>
            <a:endParaRPr b="0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38894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BIOLÓGICO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ecimiento lent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rmonía y coordinació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SOCIAL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Grupos del mismo sex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legalista y convencion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800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FECTIVO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inamism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alegre, amistosa, obediente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trol de la conduct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ase de latencia 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INTELECTUAL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ensamiento concre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27240" cy="266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Caracteres Sexuales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11640" cy="5641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42920" y="2205000"/>
          <a:ext cx="324180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324180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99"/>
                </a:solidFill>
                <a:latin typeface="Comic Sans MS"/>
              </a:rPr>
              <a:t>Caracteres Sexuales Secundario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4572000"/>
            <a:ext cx="3241800" cy="19461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3060720" cy="14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932360" y="4005360"/>
            <a:ext cx="3240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Síndrome de Adolescencia Normal” </a:t>
            </a:r>
            <a:br>
              <a:rPr sz="4000"/>
            </a:br>
            <a:r>
              <a:rPr b="0" lang="es-ES" sz="1400" spc="-1" strike="noStrike">
                <a:solidFill>
                  <a:srgbClr val="006699"/>
                </a:solidFill>
                <a:latin typeface="Comic Sans MS"/>
              </a:rPr>
              <a:t>(Aberastury y Knobel</a:t>
            </a:r>
            <a:r>
              <a:rPr b="0" lang="es-ES" sz="1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56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Búsqueda de la ident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ducta contradictoria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luctuaciones del ánim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Necesidad de intelectualizar y fantasear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subicación temp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Evolución sexual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(autoerotismo a heterosexualidad)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isis religiosa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endencia grup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social reivindicator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paración progresiva de los pad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15" name="" descr="The definition of adolescent insanity"/>
          <p:cNvPicPr/>
          <p:nvPr/>
        </p:nvPicPr>
        <p:blipFill>
          <a:blip r:embed="rId1"/>
          <a:stretch/>
        </p:blipFill>
        <p:spPr>
          <a:xfrm>
            <a:off x="6012000" y="4349880"/>
            <a:ext cx="3132000" cy="173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767800">
            <a:off x="1692360" y="1154880"/>
            <a:ext cx="4895640" cy="311148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l griego </a:t>
            </a: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syndromé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(concurso)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es un cuadro clínico o conjunto sintomático con cierto significado y que por sus características posee cierta identidad; es decir, un grupo significativo de síntomas y signos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s-ES_tradnl" sz="1400" spc="-1" strike="noStrike">
                <a:solidFill>
                  <a:srgbClr val="000000"/>
                </a:solidFill>
                <a:latin typeface="Comic Sans MS"/>
              </a:rPr>
              <a:t>elementos semiológico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que concurren en tiempo y forma, caracterizando un estado morboso determinado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síndrome es plurietiológico, porque tales manifestaciones semiológicas pueden ser producidas por diversas causas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289320" cy="496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84920" y="0"/>
            <a:ext cx="3259080" cy="453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35280" y="3112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9900"/>
                </a:solidFill>
                <a:latin typeface="Comic Sans MS"/>
              </a:rPr>
              <a:t>SER ADOLESCENTE</a:t>
            </a:r>
            <a:endParaRPr b="0" lang="en-US" sz="7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373720"/>
            <a:ext cx="381636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qué significa para usted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push dir="l"/>
    <p:sndAc>
      <p:stSnd>
        <p:snd r:embed="rId4" name="pu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99"/>
                </a:solidFill>
                <a:latin typeface="Comic Sans MS"/>
              </a:rPr>
              <a:t>Desarrollo Psicosocial del Adolescente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TAREAS DEL DESARROLLO 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Búsqueda y consolidación de la ident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Logro de la Autonomí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4033800"/>
            <a:ext cx="77774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Comic Sans MS"/>
              </a:rPr>
              <a:t>Etapas de la 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008080"/>
            <a:ext cx="67690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r>
              <a:rPr b="0" lang="es-ES" sz="4000" spc="-1" strike="noStrike">
                <a:solidFill>
                  <a:srgbClr val="006699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3200" spc="-1" strike="noStrike" u="sng">
                <a:solidFill>
                  <a:srgbClr val="006699"/>
                </a:solidFill>
                <a:uFillTx/>
                <a:latin typeface="Comic Sans MS"/>
              </a:rPr>
              <a:t>Características Biológica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Inicia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umento de la velocidad de crecimien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sarrollo de Caracteres Sexuales Secundari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ambios en la composición corp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Inicia con menarca y polución nocturn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Tard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Biológicamente Adultos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1022400" cy="16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24720" y="1413000"/>
            <a:ext cx="1114560" cy="15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19640" y="4976640"/>
            <a:ext cx="29368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144000" cy="6894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dolescencia Temprana</a:t>
            </a:r>
            <a:br>
              <a:rPr sz="4000"/>
            </a:br>
            <a:r>
              <a:rPr b="1" lang="es-MX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0 a 13 años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mpacto psicosocial de cambios biológic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udor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mpulsiv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ensamiento hipotético-deductiv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operacional formal)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nicio salida desde la famil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nflictos con padre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uncionamiento en grup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icotomía amor-sex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sturbación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nductas homoerótica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os Enamoramient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latónicos”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ugace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Narcicista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blimación sexual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eport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ctividad socia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292640"/>
            <a:ext cx="496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bf1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br>
              <a:rPr sz="5400"/>
            </a:br>
            <a:r>
              <a:rPr b="0" lang="es-MX" sz="2000" spc="-1" strike="noStrike">
                <a:solidFill>
                  <a:srgbClr val="006699"/>
                </a:solidFill>
                <a:latin typeface="Comic Sans MS"/>
              </a:rPr>
              <a:t>14 a 17 año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Adolescente “típico”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ctiva separación de la famil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rrumbe de modelos parent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isis adolescente y pad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Gran importancia del grupo de pares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Exploración normas soci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</a:rPr>
              <a:t>Proceso adquisición de la ident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Normas propias y homogeneidad de la conduct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Heterosexu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br>
              <a:rPr sz="5400"/>
            </a:br>
            <a:endParaRPr b="0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  <a:ea typeface="Arial"/>
              </a:rPr>
              <a:t>Desarrollo Psicológico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Aislamien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Fluctuaciones emocion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esubicación temporal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Tendencia al egocentrism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Invulnerabil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  <a:ea typeface="Arial"/>
              </a:rPr>
              <a:t>Sexual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icotomía amor-sexo hacia integración de amb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iversas conductas sexuales (Petting I al IV)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699"/>
                </a:solidFill>
                <a:latin typeface="Comic Sans MS"/>
                <a:ea typeface="Arial"/>
              </a:rPr>
              <a:t>“</a:t>
            </a:r>
            <a:r>
              <a:rPr b="0" lang="es-MX" sz="2000" spc="-1" strike="noStrike">
                <a:solidFill>
                  <a:srgbClr val="006699"/>
                </a:solidFill>
                <a:latin typeface="Comic Sans MS"/>
                <a:ea typeface="Arial"/>
              </a:rPr>
              <a:t>Agarrar”, “Tirar”, “Andar”, “Pololear”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Temores frente al desempeño 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37" name="" descr="teen drug abuse rehab therapy logo"/>
          <p:cNvPicPr/>
          <p:nvPr/>
        </p:nvPicPr>
        <p:blipFill>
          <a:blip r:embed="rId1"/>
          <a:stretch/>
        </p:blipFill>
        <p:spPr>
          <a:xfrm>
            <a:off x="5508720" y="198900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Tardía</a:t>
            </a:r>
            <a:br>
              <a:rPr sz="5400"/>
            </a:b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18 a 19 años</a:t>
            </a:r>
            <a:br>
              <a:rPr sz="2400"/>
            </a:b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onsolidación de la ident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Vocacional/lab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ilosofía de vid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apacidad de autonom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Liberación de dependencia de pa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apacidad de intimar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areja estable</a:t>
            </a:r>
            <a:r>
              <a:rPr b="0" lang="es-ES" sz="2400" spc="-1" strike="noStrike">
                <a:solidFill>
                  <a:srgbClr val="fdbf1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areas del Desarrollo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gún Etapa de la Adolescencia</a:t>
            </a:r>
            <a:br>
              <a:rPr sz="2800"/>
            </a:b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-184320" y="907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187280"/>
          <a:ext cx="8424720" cy="5232600"/>
        </p:xfrm>
        <a:graphic>
          <a:graphicData uri="http://schemas.openxmlformats.org/drawingml/2006/table">
            <a:tbl>
              <a:tblPr/>
              <a:tblGrid>
                <a:gridCol w="1944360"/>
                <a:gridCol w="2087640"/>
                <a:gridCol w="2303640"/>
                <a:gridCol w="2089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ran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dí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gnitivo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ret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reto con capacidad de abstracción creciente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stract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ones social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de pares del mismo sex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s de pares de ambos sexos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ones individuales más importantes que el grupo de pares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a cuestionar el sistema de valores parental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rado en si mism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alismo; Concepto de lo bueno y lo malo, orientado más en el otr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pendenci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el proceso de separación de los padres ; prefiere a los pares que a la flia.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bivalencia sobre separación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a integrar elementos de independencia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477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6699"/>
                </a:solidFill>
                <a:latin typeface="Comic Sans MS"/>
              </a:rPr>
              <a:t>Indicadores Demográficos </a:t>
            </a: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Adolescentes (10 a 19años)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42465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asa de mortalidad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0,37 por mil/hab</a:t>
            </a:r>
            <a:r>
              <a:rPr b="0" lang="es-ES" sz="2400" spc="-1" strike="noStrike">
                <a:solidFill>
                  <a:srgbClr val="fdbf1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rincipales causas de muerte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raumatismos y los tumores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Suicidio por ahorcamiento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buClr>
                <a:srgbClr val="0066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99"/>
                </a:solidFill>
                <a:latin typeface="Comic Sans MS"/>
              </a:rPr>
              <a:t>Fuente:  OPS</a:t>
            </a:r>
            <a:endParaRPr b="0" lang="en-US" sz="900" spc="-1" strike="noStrike">
              <a:solidFill>
                <a:srgbClr val="ffff99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48360" y="2581200"/>
          <a:ext cx="367164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81200"/>
                    <a:ext cx="367164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roblemas frecuentes de salu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Adiccione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mbarazos no desead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nfermedades de transmisión sexua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Traumatismo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Violencia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ductas de riesgo</a:t>
            </a:r>
            <a:r>
              <a:rPr b="0" lang="es-ES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10360" y="1844640"/>
            <a:ext cx="2033640" cy="1355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86480" y="4724280"/>
            <a:ext cx="133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405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Cerebros</a:t>
            </a:r>
            <a:endParaRPr b="0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92640"/>
            <a:ext cx="38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4800" spc="-1" strike="noStrike">
                <a:solidFill>
                  <a:srgbClr val="006699"/>
                </a:solidFill>
                <a:latin typeface="Comic Sans MS"/>
              </a:rPr>
              <a:t>Deportist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292640"/>
            <a:ext cx="333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Artistas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1413000"/>
            <a:ext cx="373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Rebeldes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99"/>
                </a:solidFill>
                <a:latin typeface="Comic Sans MS"/>
              </a:rPr>
              <a:t>Factores de Riesgo en la Adolescencia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Biológico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dentarism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Conductas Accidentógen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Médicos propios de esta edad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nutricion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nfs. Crón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Sociale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escolares y vocacion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lts. Conductu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spectos Sociales (pares, famili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Psicológico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spectos Emocionales (depresión, ansiedad, intento suicid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buso de Sustanci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Tr. de Conducta alimentária (anorexia y bulimi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Quejas Somát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3157560"/>
            <a:ext cx="4572000" cy="336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20767800">
            <a:off x="1692360" y="834840"/>
            <a:ext cx="4895640" cy="37530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actor de riesg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toda circunstancia o situación que aumenta las probabilidades de una persona de contraer una enfermedad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término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actor de riesg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fue utilizado por primera vez por el investigador de enfermedades cardiacas, el Dr. Thomas R. Dawber en un estudio publicado en 1961 donde atribuyó a la cardiopatía isquémica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6" name="" descr="Risk = \frac {\mbox{number of persons experiencing event (food poisoning)}} {\mbox{number of persons exposed to risk factor (food)}}"/>
          <p:cNvPicPr/>
          <p:nvPr/>
        </p:nvPicPr>
        <p:blipFill>
          <a:blip r:embed="rId2"/>
          <a:stretch/>
        </p:blipFill>
        <p:spPr>
          <a:xfrm rot="20724600">
            <a:off x="1920960" y="2165040"/>
            <a:ext cx="431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Comic Sans MS"/>
              </a:rPr>
              <a:t>Adolescentes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9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349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62160" y="18284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sc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inturón de seguridad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igarrill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ondón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lci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olesterol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35640" y="4897440"/>
            <a:ext cx="460836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dbf11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Cuidemos a estos Cabros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dbf11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Comic Sans MS"/>
              </a:rPr>
              <a:t>OBJETIVOS DESEABL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Retraso en el inicio de la actividad sexua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dopción de conductas sexuales protegid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Expresión de rabia y resolución de conflictos de forma NO violent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Consumo de alcohol de forma madura y responsab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Rechazo al consumo de tabaco y droga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ctividad Física Constan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limentación San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6000"/>
          </a:blip>
          <a:srcRect l="20833" t="8337" r="16667" b="2087"/>
          <a:stretch/>
        </p:blipFill>
        <p:spPr>
          <a:xfrm>
            <a:off x="6372360" y="514044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29080" cy="439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360" y="1484280"/>
            <a:ext cx="8999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Rol nuestro de cada día...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talizador 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Model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Inform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Orient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Educ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Investig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29160" y="2384280"/>
            <a:ext cx="22478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796000" y="831960"/>
            <a:ext cx="3816360" cy="5118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ija única.  Vive en su hogar con su madre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y padrastro. Su padre no la ha visto desde que nació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mixto, 6ºbásico, repitente dos veces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Buena conducta y buenas relaciones con sus compañeros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fesora siempre se queja de que es muy callad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participa en actividades extraprogramát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a probado cigarrillos pero nunca drogas ni alcohol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a aumentado la ingesta en los últimos tres mes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y ha subido de peso, la ropa le queda chic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Nunca ha pololea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Una vez se planteó la idea de suicidarse, pero no hizo nada al respecto.  Nunca recibió consejería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Madre la trae porque hace una semana que presenta nausea y vómit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María José</a:t>
            </a:r>
            <a:br>
              <a:rPr sz="5400"/>
            </a:b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12 años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4064040" cy="6026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61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con su abuela y sus dos hermanos (12 y 3 años)  Sus padres se separaron y su mamá la va a ver de vez en cuando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Está terminando su cuarto medio con buenas notas y no tiene problemas de conducta ni relaciones con sus compañeras. Colegio mixto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participa en actividades extraprogramáticas, porque tiene que ir a su casa a ayudar a cuidar a sus herman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Fuma 3-5 cigarrillos diarios y toma alcohol cuando va a fiestas, una o dos veces al mes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Come lo normal y no tiene problemas con su pes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ololea hace un año y ha tenido relaciones sexuales con su pololo hace más o menos 3 meses, usa condón casi siempre.  Una vez tuvo un retrazo, pero “fue un susto no más”.  No quiere tener guagua porque ya sabe lo que es cuidar a dos ni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Piensa que a veces sería mejor morirse, pero nunca ha sentido ganas de matarse ni lo ha intentado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Consulta por sí misma porque quiere obtener un método más seguro de anticoncepción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5186160" y="18864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66"/>
                </a:solidFill>
                <a:latin typeface="Comic Sans MS"/>
              </a:rPr>
              <a:t>Camila</a:t>
            </a:r>
            <a:br>
              <a:rPr sz="5400"/>
            </a:br>
            <a:r>
              <a:rPr b="0" lang="es-ES" sz="2400" spc="-1" strike="noStrike">
                <a:solidFill>
                  <a:srgbClr val="ff0066"/>
                </a:solidFill>
                <a:latin typeface="Comic Sans MS"/>
              </a:rPr>
              <a:t>17 años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252360" y="2367000"/>
            <a:ext cx="4895640" cy="4491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308480" y="764640"/>
            <a:ext cx="483552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en su hogar con sus padres y sus hermanos de 19 y 7 a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de hombres, inició recién el octavo año básico.  Rendimiento regular, buena conducta y buenas relaciones con sus compañero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Juega Tennis y aprende computación en el colegi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ha probado drogas ni alcohol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Está comiendo muy poco porque se encuentra gor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a pololeado un par de veces, pero nunca más de un més y nunca ha tenido relaciones sexu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Nunca se ha planteado la idea de  suicidar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Lo trae su mamá porque es muy bajo y no se ha desarrolla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Juan </a:t>
            </a:r>
            <a:br>
              <a:rPr sz="44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14 años y 5 mese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324000" y="2367000"/>
            <a:ext cx="4967280" cy="4491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140000" y="764640"/>
            <a:ext cx="500364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en su hogar con sus padres y sus hermano 5 a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mixto, está repitiendo 6º año básico, nunca había repetido antes. Tiene buenas relaciones con sus compañeros, pero constantemente lo reprenden en clase porque se distrae e interrumpe la cla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Le gusta andar en bicicleta, pero no lo hace muy regularment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a probado cerveza, pero dice que no le gustó.  Nunca ha fumado ni ha probado alcohol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me bastante y presenta sobrepeso marcado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unca ha pololeado ni ha tenido relaciones sexuales, dice que le da vergûenz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unca se ha planteado la idea de  suicidar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Lo trae su madre, porque en el colegio se le exige una evaluación médica por su problema de conducta</a:t>
            </a:r>
            <a:r>
              <a:rPr b="0" lang="es-ES" sz="16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Pedro </a:t>
            </a:r>
            <a:br>
              <a:rPr sz="44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13 años,4 mese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-324000" y="2367000"/>
            <a:ext cx="49672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Nerds</a:t>
            </a:r>
            <a:br>
              <a:rPr sz="2800"/>
            </a:b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erebros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53" name="" descr="nerd.gif"/>
          <p:cNvPicPr/>
          <p:nvPr/>
        </p:nvPicPr>
        <p:blipFill>
          <a:blip r:embed="rId1"/>
          <a:stretch/>
        </p:blipFill>
        <p:spPr>
          <a:xfrm>
            <a:off x="1332000" y="333360"/>
            <a:ext cx="136188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260280"/>
            <a:ext cx="2052720" cy="238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15000"/>
            <a:ext cx="34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Skater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Deportista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71500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Hippie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Artista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2492280"/>
            <a:ext cx="33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unk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Rebeld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1633680" cy="242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Hippie"/>
          <p:cNvPicPr/>
          <p:nvPr/>
        </p:nvPicPr>
        <p:blipFill>
          <a:blip r:embed="rId4"/>
          <a:stretch/>
        </p:blipFill>
        <p:spPr>
          <a:xfrm>
            <a:off x="5867280" y="3789360"/>
            <a:ext cx="2305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Inexistente</a:t>
            </a:r>
            <a:endParaRPr b="0" lang="en-US" sz="4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62" name="" descr="ilusion optica"/>
          <p:cNvPicPr/>
          <p:nvPr/>
        </p:nvPicPr>
        <p:blipFill>
          <a:blip r:embed="rId1"/>
          <a:stretch/>
        </p:blipFill>
        <p:spPr>
          <a:xfrm>
            <a:off x="4284720" y="1916280"/>
            <a:ext cx="4673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Problema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69244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9000"/>
            <a:ext cx="3102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Individuo 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de Riesgo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69" name="" descr="Steve and a croc"/>
          <p:cNvPicPr/>
          <p:nvPr/>
        </p:nvPicPr>
        <p:blipFill>
          <a:blip r:embed="rId1"/>
          <a:stretch/>
        </p:blipFill>
        <p:spPr>
          <a:xfrm>
            <a:off x="4211640" y="2060640"/>
            <a:ext cx="3119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403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rotagonista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otencial prevenir  hábitos perjudiciales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143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443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Etimología 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Latín </a:t>
            </a:r>
            <a:r>
              <a:rPr b="1" i="1" lang="es-ES" sz="3200" spc="-1" strike="noStrike">
                <a:solidFill>
                  <a:srgbClr val="006699"/>
                </a:solidFill>
                <a:latin typeface="Comic Sans MS"/>
              </a:rPr>
              <a:t>Adolescere</a:t>
            </a:r>
            <a:r>
              <a:rPr b="0" i="1" lang="es-E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“madurar”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 consideraba un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proceso</a:t>
            </a: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 y no una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etapa del ciclo vit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cepto obsole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32360" y="2093760"/>
            <a:ext cx="421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20:58:50Z</dcterms:created>
  <dc:creator>Teresa Millán</dc:creator>
  <dc:description/>
  <dc:language>en-US</dc:language>
  <cp:lastModifiedBy>Fac. de Medicina</cp:lastModifiedBy>
  <cp:lastPrinted>2000-12-15T11:45:47Z</cp:lastPrinted>
  <dcterms:modified xsi:type="dcterms:W3CDTF">2011-07-07T16:16:00Z</dcterms:modified>
  <cp:revision>264</cp:revision>
  <dc:subject/>
  <dc:title>Adolescencia</dc:title>
</cp:coreProperties>
</file>