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062-FBC6-4102-AE5B-9ED36647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D9D-4D2A-4CE3-B9D5-77297589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FBF-9EA0-4FE3-8EC3-8302ED66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E08-A730-4CB9-AA0B-BA3F4A19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30C9-4296-4B80-BF7C-8D986251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8A9E-069A-4FD8-901F-F28CEFB6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8E3B-8417-48DD-961B-798284CB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B927-E00B-48C7-B953-2A09FACA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4627-C263-4AAF-A3CA-006F67D2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BD47-3054-4E9E-AEFD-E16E9A6A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3587-71F1-4DD7-A5EF-663E456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FCD-E0A6-44D6-B607-EC55E3EE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0180-2FC0-4D30-9E4C-912936E6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2942-9C25-4BED-AA0F-42B3A636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C899-46B4-42C7-8317-63931A79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731B-8F43-4B21-8565-EF50939A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1038-FA8F-4524-9BB1-39C04CF1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0CD-0872-4A2D-8244-D6C0102B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0ACA-7E79-4101-BB22-4637E179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72D-BD5E-444A-840F-FCD56F18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669-7BA0-43F8-B2C3-6C5631CA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049-11D8-4C92-9998-9D3C759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73C-7B15-41AB-BC44-3E26F774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01B-5E25-4558-BC7E-6B65B3D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25A4-BFA4-4B1D-973C-3B02E9660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C37E-3106-4192-8C62-DACE57ECD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cecff"/>
                </a:solidFill>
                <a:latin typeface="Arial"/>
              </a:rPr>
              <a:t>Adolescencia y Desarrollo</a:t>
            </a:r>
            <a:br>
              <a:rPr sz="4000"/>
            </a:br>
            <a:r>
              <a:rPr b="0" i="1" lang="es-CL" sz="3200" spc="-1" strike="noStrike">
                <a:solidFill>
                  <a:srgbClr val="ccecff"/>
                </a:solidFill>
                <a:latin typeface="Arial"/>
              </a:rPr>
              <a:t>Algunos aspectos relevant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9280" y="4419720"/>
            <a:ext cx="428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ra. Mónica Nivelo Clavi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pto. Atención Primaria y Salud Fami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cultad de Medic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2716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403280" cy="1306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5616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1260360" cy="13431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80240" y="5065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7391520" y="228600"/>
            <a:ext cx="14223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rados de Tann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2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689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Evaluación bás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70080" y="2462040"/>
            <a:ext cx="6603840" cy="28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ecff"/>
                </a:solidFill>
                <a:latin typeface="Arial"/>
              </a:rPr>
              <a:t>Adolescencia temprana (10-13 años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daptación al cuerpo nuevo – cambio corpo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mienzo de la salida del adolescente de sí mismo y de la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acción con los propios pares, se tienden a generar grupos pequeños del mismo sexo y semejante desarrollo pub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és por el sexo opues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ntasías sexuales, masturb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lo familiar: ambivalencia afectiva (afecto y rechazo). Tendencia a obstinación y rebeldía frente a figuras de mayor auto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mpulsividad y cambios emocionales frecu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ensamiento operativo concreto – inicio del form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ecff"/>
                </a:solidFill>
                <a:latin typeface="Arial"/>
              </a:rPr>
              <a:t>Adolescencia media (14-16 año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yor preocupación por apariencia fí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mistades íntimas del mismo sex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yor distanciamiento de la familia   conflicto con los pad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ductas nuevas, fluctuaciones emocionales marca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rupo de pares  referente (pertenencia/actividad social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 comienza a perfilar la identidad sexual: experiment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ensamiento operatorio formal, hipotético deductivo (abstracció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ntimiento de omnipot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Juicio subjetivo (tendencia a egocentris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ecff"/>
                </a:solidFill>
                <a:latin typeface="Arial"/>
              </a:rPr>
              <a:t>Adolescencia tardía (17-19 años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1280" y="20044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aduración bi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solidación de la ident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eríodo de decisiones en variados ámbitos (académicos, trabajo, parej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solidación del pensamiento hipotético deduc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pacidad de intim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ucción de la influencia del gru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conciliación con la familia/pad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ecff"/>
                </a:solidFill>
                <a:latin typeface="Arial"/>
              </a:rPr>
              <a:t>Al final de la Adolescencia…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sarrollo de las tareas del período (Erikson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Búsqueda y consolidación de la propia identid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ro de la independencia famili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acción con el grupo de p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ptación de los cambios corporales y de la imagen corp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finición de la identidad sexual y voc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268880" y="4038480"/>
            <a:ext cx="383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ecff"/>
                </a:solidFill>
                <a:latin typeface="Arial"/>
              </a:rPr>
              <a:t>...GRACI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23:11:47Z</dcterms:created>
  <dc:creator>JAIME</dc:creator>
  <dc:description/>
  <dc:language>en-US</dc:language>
  <cp:lastModifiedBy>Fac. de Medicina</cp:lastModifiedBy>
  <dcterms:modified xsi:type="dcterms:W3CDTF">2011-07-07T16:13:50Z</dcterms:modified>
  <cp:revision>13</cp:revision>
  <dc:subject/>
  <dc:title>Diapositiva 1</dc:title>
</cp:coreProperties>
</file>