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52B-2137-44C3-90FD-E46F8067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FBA-5CE6-4CEC-A421-BAE075EF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83B-FBBB-4215-9EEB-A250C17E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B2B-46E1-468C-BF3D-90EA0692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619-1CCD-4B78-B702-7C4D9739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958C-93B7-4BCA-A1AC-D23E38F0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6868-FBA3-4140-9350-5B236B5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BCDE-2CF3-4592-9CE0-5E2C495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AEE-3DB6-418A-83B7-AD25C44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3069-11E6-470E-982E-B9A78C4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1A81-5793-426D-B382-D9C93F1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8D6-7F4C-4999-8722-1F43870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4A03-5726-4A6D-9B93-B0043BBD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B62-BC37-41EB-B415-2CE150B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EE1-0E95-408C-8B2D-9BEC5B9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E838-4946-467B-AFBE-F37245CC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93EB-13BC-4E8A-9F06-0329B379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2DE-EBF8-4406-85CD-9C2E4C7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1EC-34BB-485E-A704-B5637708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920-79C9-4BB2-B769-6BA6AF1D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134C-887B-4563-B616-89F7A355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445-E28A-454E-AD12-76F730AA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63F-6A15-46AA-BC58-055BFDD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0C8-DC6B-4E2E-8075-7F26288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AA0-CE55-4EDC-9F31-1B9DAC861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1222-C8EA-407D-9E64-D2993488D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Adolescencia y Desarrollo</a:t>
            </a:r>
            <a:br>
              <a:rPr sz="4000"/>
            </a:br>
            <a:r>
              <a:rPr b="0" i="1" lang="es-CL" sz="3200" spc="-1" strike="noStrike">
                <a:solidFill>
                  <a:srgbClr val="ccecff"/>
                </a:solidFill>
                <a:latin typeface="Arial"/>
              </a:rPr>
              <a:t>Algunos aspectos relevant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9280" y="4419720"/>
            <a:ext cx="428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ra. Mónica Nivelo Clavi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pto. Atención Primaria y Salud 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cultad de Medic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2716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03280" cy="1306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5616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1260360" cy="1343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8024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22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ados de Tann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689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Evaluación bás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70080" y="2462040"/>
            <a:ext cx="660384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ecff"/>
                </a:solidFill>
                <a:latin typeface="Arial"/>
              </a:rPr>
              <a:t>Adolescencia temprana (10-13 añ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daptación al cuerpo nuevo – cambio corp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mienzo de la salida del adolescente de sí mismo y de la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acción con los propios pares, se tienden a generar grupos pequeños del mismo sexo y semejante desarrollo pub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és por el sexo opues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ntasías sexuales, masturb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lo familiar: ambivalencia afectiva (afecto y rechazo). Tendencia a obstinación y rebeldía frente a figuras de mayor auto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mpulsividad y cambios emocionales frecu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nsamiento operativo concreto – inicio del form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dolescencia media (14-16 año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yor preocupación por apariencia 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istades íntimas del mismo sex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yor distanciamiento de la familia   conflicto con los pa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ductas nuevas, fluctuaciones emocionales marc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rupo de pares  referente (pertenencia/actividad social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comienza a perfilar la identidad sexual: experiment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nsamiento operatorio formal, hipotético deductivo (abstracció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ntimiento de omnipo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icio subjetivo (tendencia a egocentris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dolescencia tardía (17-19 año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20044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duración bi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solidación de la ident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ríodo de decisiones en variados ámbitos (académicos, trabajo, parej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solidación del pensamiento hipotético dedu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pacidad de intim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ucción de la influencia del gru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conciliación con la familia/pa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l final de la Adolescencia…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sarrollo de las tareas del período (Erikson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y consolidación de la propia identi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ro de la independencia 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acción con el grupo de p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ptación de los cambios corporales y de la imagen cor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finición de la identidad sexual y voc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68880" y="4038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...GRAC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3:11:47Z</dcterms:created>
  <dc:creator>JAIME</dc:creator>
  <dc:description/>
  <dc:language>en-US</dc:language>
  <cp:lastModifiedBy>Fac. de Medicina</cp:lastModifiedBy>
  <dcterms:modified xsi:type="dcterms:W3CDTF">2011-07-07T16:13:50Z</dcterms:modified>
  <cp:revision>13</cp:revision>
  <dc:subject/>
  <dc:title>Diapositiva 1</dc:title>
</cp:coreProperties>
</file>