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02A2-D6BE-4141-827F-6597AD8BCEE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2C94-04A5-4DAC-8599-D575B2AEED7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3248-CD27-4228-A5E3-91E3A3AF4C9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C23-C345-4D0F-9744-5CEF13B7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2953-F9A4-424C-8A4A-3A5D90ED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A10-9D49-434F-BBCD-4677263D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94E-6463-4341-AC03-D1C46ADA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CD9-B4F6-4EC4-9237-E557D481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1705-7003-4853-AFDE-4C872D66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5EE8-09A5-4CF8-B337-C086FB24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EA4C-C5FB-4F9D-9660-CD7EB9FF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FC3A-8B03-4253-8DE7-9FC13B09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D65E-F212-4ACE-9402-03891C20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C3F-C5F0-4E7D-BC30-874229AE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2A93-2536-429B-A7ED-7E402898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0E76-025E-44E4-A906-03677C48D35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438280" y="3733920"/>
            <a:ext cx="401004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ra. Mónica Nivelo Clavijo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pto. Atención Primaria y Salud Familiar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Facultad de Medicina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Universidad de Chil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pic>
        <p:nvPicPr>
          <p:cNvPr id="49" name="Picture 3" descr="C:\Documents and Settings\Usuario\Mis documentos\Mis imágenes\uchile2.gif"/>
          <p:cNvPicPr/>
          <p:nvPr/>
        </p:nvPicPr>
        <p:blipFill>
          <a:blip r:embed="rId1"/>
          <a:stretch/>
        </p:blipFill>
        <p:spPr>
          <a:xfrm>
            <a:off x="380880" y="5105520"/>
            <a:ext cx="555840" cy="121896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1143000" y="1752480"/>
            <a:ext cx="64771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Relación médico - pacien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Comunicación 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Entrevista méd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58560" y="301680"/>
            <a:ext cx="747612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ÓN  MÉDICO - PACIENTE   (RP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cuentro de un médico y su enfer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cluye los diversos fenómenos que ocurren 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y durante el encuentro y su efecto sobre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urso de la enferm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ntos de vista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antrop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p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   fisi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   histór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  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lí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pectos técnico - mé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lación inter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jeto que pide ayude            sujeto capacitado para 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yu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f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espiri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Relación im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3429000" y="3809880"/>
            <a:ext cx="533520" cy="333360"/>
          </a:xfrm>
          <a:prstGeom prst="leftRightArrow">
            <a:avLst>
              <a:gd name="adj1" fmla="val 50000"/>
              <a:gd name="adj2" fmla="val 3186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5029200" y="0"/>
          <a:ext cx="247644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0"/>
                    <a:ext cx="247644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8396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ONENTES  SOCIALES de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inserta en medi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eterminada social y cultur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modo de ser del médico (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ciales complej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modo de acceso a atención médica (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GANIZACIÓN SOCIAL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ACT. SOCIOCUL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2133720" y="3124080"/>
            <a:ext cx="333360" cy="609840"/>
          </a:xfrm>
          <a:prstGeom prst="upArrow">
            <a:avLst>
              <a:gd name="adj1" fmla="val 50000"/>
              <a:gd name="adj2" fmla="val 4573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4952880" y="3200400"/>
          <a:ext cx="3886200" cy="33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200400"/>
                    <a:ext cx="388620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380880" y="304920"/>
          <a:ext cx="830592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30592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0720" y="228600"/>
            <a:ext cx="8539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ONENTES  ÉTICOS  de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omiso médico:    prestar ayuda en bien del enfer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preparación técnic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perfeccionamiento 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isposición amis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iligencia en la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respeto (secreto profe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omiso del pac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isposición a colaborar en su tra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responsabilizarse de su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da espiritual             Anhelos personales y Trasc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GOTERAPIA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2743200" y="54864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1447920" y="57913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914400" y="838080"/>
          <a:ext cx="74674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4674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28600" y="457200"/>
            <a:ext cx="891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NEJO DE LA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nejo de las emocion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el pa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el médico (iatrogen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continuo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l acto médico   (separación artifi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ignificado de los síntomas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org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fun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ervación de expresione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verb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no verb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plicación de la naturaleza de la enf.  y su pro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609480" y="838080"/>
          <a:ext cx="80010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8001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3"/>
          <p:cNvGraphicFramePr/>
          <p:nvPr/>
        </p:nvGraphicFramePr>
        <p:xfrm>
          <a:off x="609480" y="1676520"/>
          <a:ext cx="4496040" cy="40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676520"/>
                    <a:ext cx="44960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3:55:57Z</dcterms:created>
  <dc:creator>Fac. de Medicina</dc:creator>
  <dc:description/>
  <dc:language>en-US</dc:language>
  <cp:lastModifiedBy>Maria Ester</cp:lastModifiedBy>
  <dcterms:modified xsi:type="dcterms:W3CDTF">2011-06-12T17:42:40Z</dcterms:modified>
  <cp:revision>8</cp:revision>
  <dc:subject/>
  <dc:title>Sin título de diapositiva</dc:title>
</cp:coreProperties>
</file>