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BEF2-D204-4AE4-891F-8ED8E94C5B3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C644-1E3B-4C40-A79A-D9B5314DA9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BE9E-BB19-43BB-B235-34A6B740F8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E4F-8DF1-4DB0-ABA9-2A75428B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D4E-6274-4B5C-839D-E30CEA74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560-5D51-4F5B-9403-E6DEFA94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2A2-36D0-41AA-8B01-7FDF65BC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8ED-F353-414F-A324-DA547AD2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2E8-7472-47A0-8706-C9B3BC26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E55-2622-487A-A7BD-AF72DC71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2E5-6B99-4F9E-8688-D896E3C2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FCC-FF6C-4CE1-9503-7E39800B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6BD-6271-4FEC-A261-D6B4D840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D24-2164-452E-86DB-35CD365C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A0D-E108-4841-87D2-30D01899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7E62-9B3F-4F68-9D7C-5C7ECDB5E91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438280" y="3733920"/>
            <a:ext cx="40100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ra. Mónica Nivelo Clavijo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pto. Atención Primaria y Salud Familia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Facultad de Medicina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Universidad de Chil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pic>
        <p:nvPicPr>
          <p:cNvPr id="49" name="Picture 3" descr="C:\Documents and Settings\Usuario\Mis documentos\Mis imágenes\uchile2.gif"/>
          <p:cNvPicPr/>
          <p:nvPr/>
        </p:nvPicPr>
        <p:blipFill>
          <a:blip r:embed="rId1"/>
          <a:stretch/>
        </p:blipFill>
        <p:spPr>
          <a:xfrm>
            <a:off x="380880" y="5105520"/>
            <a:ext cx="555840" cy="121896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1143000" y="1752480"/>
            <a:ext cx="64771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Relación médico - pacie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Comunicación 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Entrevista mé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58560" y="301680"/>
            <a:ext cx="747612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 MÉDICO - PACIENTE   (RP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cuentro de un médico y su enfer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cluye los diversos fenómenos que ocurren 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 durante el encuentro y su efecto sobre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urso de la enferm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ntos de vista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antrop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p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   fisi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   histór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  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lí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pectos técnico - mé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ón inter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jeto que pide ayude            sujeto capacitado para 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f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espi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Relación im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3429000" y="3809880"/>
            <a:ext cx="533520" cy="333360"/>
          </a:xfrm>
          <a:prstGeom prst="leftRightArrow">
            <a:avLst>
              <a:gd name="adj1" fmla="val 50000"/>
              <a:gd name="adj2" fmla="val 3186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5029200" y="0"/>
          <a:ext cx="247644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0"/>
                    <a:ext cx="247644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8396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ONENTES  SOCIALES de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inserta en medi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terminada social y cultu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modo de ser del médico (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ciales complej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modo de acceso a atención médica (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GANIZACIÓN SOCIAL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. SOCIO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2133720" y="3124080"/>
            <a:ext cx="333360" cy="609840"/>
          </a:xfrm>
          <a:prstGeom prst="upArrow">
            <a:avLst>
              <a:gd name="adj1" fmla="val 50000"/>
              <a:gd name="adj2" fmla="val 4573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4952880" y="3200400"/>
          <a:ext cx="388620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200400"/>
                    <a:ext cx="388620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80880" y="304920"/>
          <a:ext cx="830592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0720" y="228600"/>
            <a:ext cx="8539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ONENTES  ÉTICOS  de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omiso médico:    prestar ayuda en bien del enfe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preparación técnic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perfeccionamient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isposición amis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iligencia en la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respeto (secreto profe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omiso del pac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isposición a colaborar en su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responsabilizarse de su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da espiritual             Anhelos personales y Trasc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GOTERAPIA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2743200" y="5486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447920" y="5791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914400" y="838080"/>
          <a:ext cx="74674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4674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4572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NEJO DE LA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nejo de las emocion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l 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l médico (iatrog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continuo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l acto médico   (separación artifi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gnificado de los síntomas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org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fun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ción de expresione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verb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no verb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plicación de la naturaleza de la enf.  y su pro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609480" y="838080"/>
          <a:ext cx="80010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8001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3"/>
          <p:cNvGraphicFramePr/>
          <p:nvPr/>
        </p:nvGraphicFramePr>
        <p:xfrm>
          <a:off x="609480" y="1676520"/>
          <a:ext cx="4496040" cy="40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76520"/>
                    <a:ext cx="44960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3:55:57Z</dcterms:created>
  <dc:creator>Fac. de Medicina</dc:creator>
  <dc:description/>
  <dc:language>en-US</dc:language>
  <cp:lastModifiedBy>Maria Ester</cp:lastModifiedBy>
  <dcterms:modified xsi:type="dcterms:W3CDTF">2011-06-12T17:42:40Z</dcterms:modified>
  <cp:revision>8</cp:revision>
  <dc:subject/>
  <dc:title>Sin título de diapositiva</dc:title>
</cp:coreProperties>
</file>