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whoosh.wav" ContentType="audio/x-wav"/>
  <Override PartName="/ppt/media/image8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F354-1B17-44B9-8E26-9DC84A19E1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9697-8BE4-411E-8EC7-1F37660F805C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9D95-7004-4BF7-B3C4-D2AF83400AFB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39D-1933-41FA-AEFB-A1F194B20C36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68B5-A88D-4977-85CA-BEB9FBD174E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27D5-8EB2-44CC-B644-53C9B771F419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FDD7-26AA-47A4-9950-6583061E527D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B4C0-9863-4C5E-AA0B-D8D1B8FBD9DA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614-A367-402A-924A-29752C3E96DF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C3FB-5046-451A-97B6-F38927E157BF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ED1B-5522-46E0-8AC5-C1E378654EBC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B19-45BE-480B-9017-901D7A8D803E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FC68-43F5-406A-9283-54D547DB090F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D6A-3418-4767-BBDC-B9B11D77D577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28B-62E3-4C0A-B2BA-3A5FF51B3AF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6E97-1B76-4BF0-ABDA-8F416F821B86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099C-FF91-473B-9ADD-EB9CC0CDF417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7B98-B6B8-458F-ADF0-36D930BDDC83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96B7-5A70-4E2E-9C1A-29481E8D8E94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D2B6-67CE-46B6-854C-EAA078CFC655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15D6-D0A7-479F-A412-39151D7A13B6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F2F-2BBB-432E-A9BB-8F8901DF3E76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BDE5-7C27-46BC-BF54-9BAB18CD1E5C}" type="slidenum">
              <a:rPr b="0" lang="es-ES" sz="12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4F8-58A8-43C4-8F4A-6877A56F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522-FCC7-49A6-BDF9-8FD20C9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365-9172-4E5C-988D-F8BC2160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1DD-0864-465E-ADDA-BF40E764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8D37-9A84-4EB9-A367-D4A95033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5C9A-6247-4755-B4D9-36D70D45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490-0044-481B-BA60-84E35E01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9C06-51C4-4B1F-8097-6833FDD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7A36-3B45-451D-9B0A-20B922E1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CE20-A5D4-46F3-872A-973E5CBD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E7BB-7E5C-4E15-A6CB-94BE37C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84A-4912-498C-86BA-E0D58F83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A6B-2DBD-4EBB-9521-62486899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3995-07A5-4AEE-99F4-F31C975E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4834-962C-47BB-ACFC-ADA52AFA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AF38-B99F-4FB0-A449-5EB8E332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AF6B-7563-423F-A0F3-9F598789B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B086-3506-41D0-80CA-C8B462B7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F4E-94ED-494A-839C-66961EF5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58A-D07E-4FC1-8B10-F4967535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0E5-156A-42DB-B9A4-2A9E900C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0F3-D274-4162-876E-7D526F5D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7EB-B9E6-427F-9138-D79EAE1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54D-4212-4B44-BCD4-2B6BC99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25EF-E830-4A0F-8B6A-4143348A63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7E5-CD35-4DC4-9E5F-C7016766B17D}" type="slidenum">
              <a:rPr b="0" lang="es-E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5.xml"/><Relationship Id="rId3" Type="http://schemas.openxmlformats.org/officeDocument/2006/relationships/slide" Target="slide10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ff"/>
                </a:solidFill>
                <a:latin typeface="Verdana"/>
              </a:rPr>
              <a:t>CRECIMIENTO Y DESARROLLO NORMAL DEL NIÑO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DRA. THELMA SUAU C.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DPTO PEDIATRIA Y CIRUGIA INFANTIL SUR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6699"/>
                </a:solidFill>
                <a:latin typeface="Arial"/>
              </a:rPr>
              <a:t>UNIVERSIDAD DE CHILE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1" name="Picture 6" descr="logo U"/>
          <p:cNvPicPr/>
          <p:nvPr/>
        </p:nvPicPr>
        <p:blipFill>
          <a:blip r:embed="rId1"/>
          <a:stretch/>
        </p:blipFill>
        <p:spPr>
          <a:xfrm>
            <a:off x="4067280" y="549360"/>
            <a:ext cx="806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1" name="Picture 4" descr="familia%20castro%20bendana"/>
          <p:cNvPicPr/>
          <p:nvPr/>
        </p:nvPicPr>
        <p:blipFill>
          <a:blip r:embed="rId1"/>
          <a:stretch/>
        </p:blipFill>
        <p:spPr>
          <a:xfrm>
            <a:off x="1549440" y="2486160"/>
            <a:ext cx="3454200" cy="2493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Los &quot;nenes&quot;"/>
          <p:cNvPicPr/>
          <p:nvPr/>
        </p:nvPicPr>
        <p:blipFill>
          <a:blip r:embed="rId2"/>
          <a:stretch/>
        </p:blipFill>
        <p:spPr>
          <a:xfrm>
            <a:off x="5327640" y="23558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FACTORES DE RIESG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¿CUÁLE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ATOLOG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5" name="Picture 7" descr="Imágen: Se ve un recien nacido afectado por espina bifida, que se manifiesta por la salida del contenido del conducto vertebral como si fuera &quot;una hernia&quot; localizada en la espalda del recien nacido"/>
          <p:cNvPicPr/>
          <p:nvPr/>
        </p:nvPicPr>
        <p:blipFill>
          <a:blip r:embed="rId1"/>
          <a:stretch/>
        </p:blipFill>
        <p:spPr>
          <a:xfrm>
            <a:off x="324000" y="3213000"/>
            <a:ext cx="3416040" cy="2581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unas"/>
          <p:cNvPicPr/>
          <p:nvPr/>
        </p:nvPicPr>
        <p:blipFill>
          <a:blip r:embed="rId2"/>
          <a:stretch/>
        </p:blipFill>
        <p:spPr>
          <a:xfrm>
            <a:off x="4427640" y="141300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Image3811"/>
          <p:cNvPicPr/>
          <p:nvPr/>
        </p:nvPicPr>
        <p:blipFill>
          <a:blip r:embed="rId3"/>
          <a:stretch/>
        </p:blipFill>
        <p:spPr>
          <a:xfrm>
            <a:off x="5292720" y="4437000"/>
            <a:ext cx="2690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LACTANT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66ff"/>
                </a:solidFill>
                <a:latin typeface="Times New Roman"/>
              </a:rPr>
              <a:t>DESARROLLO  PSICOMOTOR…..ensayo y error</a:t>
            </a:r>
            <a:br>
              <a:rPr sz="2800"/>
            </a:b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Es un proceso dinám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Ordenado, secuencial y previsibl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Céfalo caudal,proximal a dist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espuestas: involuntarias a voluntarias,generalizadas a definidas,simètricas –asimétric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Favorece su independencia y autonomí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6" name="Picture 4" descr="Desa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9" name="Picture 4" descr="Desa Infantil 2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2" name="Picture 4" descr="Desa Infantil 3"/>
          <p:cNvPicPr/>
          <p:nvPr/>
        </p:nvPicPr>
        <p:blipFill>
          <a:blip r:embed="rId1"/>
          <a:stretch/>
        </p:blipFill>
        <p:spPr>
          <a:xfrm>
            <a:off x="2362320" y="485640"/>
            <a:ext cx="4724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5" name="Picture 4" descr="Desa Infantil 6"/>
          <p:cNvPicPr/>
          <p:nvPr/>
        </p:nvPicPr>
        <p:blipFill>
          <a:blip r:embed="rId1"/>
          <a:stretch/>
        </p:blipFill>
        <p:spPr>
          <a:xfrm>
            <a:off x="914400" y="304920"/>
            <a:ext cx="7391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DE PIÉ"/>
          <p:cNvPicPr/>
          <p:nvPr/>
        </p:nvPicPr>
        <p:blipFill>
          <a:blip r:embed="rId1"/>
          <a:stretch/>
        </p:blipFill>
        <p:spPr>
          <a:xfrm>
            <a:off x="350532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NCEPTOS GENERAL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FINICIONES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Recién nacido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0 a 28 dí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Lactantes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menor 1 a 12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440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mayor 12 a 24 mes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reescolar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2 a 6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scolar 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6 a 18 a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dolescente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: 12 a ………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ES ASÍ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urante dos años, el niño trabaja intensanmente logrando un gran avance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...al cabo de dos años...comienza a ser capaz de combinar sus representaciones y asì ejecutar una solución adecuada; pudiendo hacerlo sin ensayos previos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ALIMENT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Arial"/>
              </a:rPr>
              <a:t>Hasta 6m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L Materna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 maternizada (FI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PF 7,5% +Azùcar 2,5% +Aceite 2%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Arial"/>
              </a:rPr>
              <a:t>6m a 12m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Lmaterna o LC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LPF 7,5% + Azúcar2,5% +3-5%cere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                      </a:t>
            </a: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+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1 almuerzo con postre (6m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                              </a:t>
            </a:r>
            <a:r>
              <a:rPr b="1" lang="es-ES_tradnl" sz="3600" spc="-1" strike="noStrike">
                <a:solidFill>
                  <a:srgbClr val="cc6600"/>
                </a:solidFill>
                <a:latin typeface="Arial"/>
              </a:rPr>
              <a:t>+</a:t>
            </a:r>
            <a:r>
              <a:rPr b="1" lang="es-ES_tradnl" sz="36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  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1 comida con postre (8m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                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12  A 24 mese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6600"/>
                </a:solidFill>
                <a:latin typeface="Arial"/>
              </a:rPr>
              <a:t>Leche 10% + cereal 3% + Azùcar 2,5%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 comidas con sus post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uspender leche nocturn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Puede dejarse col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ff"/>
                </a:solidFill>
                <a:latin typeface="Times New Roman"/>
              </a:rPr>
              <a:t>ESQUEMA DE VACUNACIÓN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N                BC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,4,6m           DPT-Polio-Hib – HepatB- 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NEUMOCO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2 m              Trivír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8m                DPT-Pol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1º BASICO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Trivir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2º basico 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EDUCACIÓ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cc00"/>
                </a:solidFill>
                <a:uFillTx/>
                <a:latin typeface="Arial"/>
              </a:rPr>
              <a:t>Prevención accidente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En general,lesiones por:   * 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CAI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* Acción directa de tercer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                       </a:t>
            </a: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*Accidentes de tránsito</a:t>
            </a:r>
            <a:r>
              <a:rPr b="1" lang="es-ES_tradnl" sz="2800" spc="-1" strike="noStrike">
                <a:solidFill>
                  <a:srgbClr val="ffcc00"/>
                </a:solidFill>
                <a:latin typeface="Arial"/>
              </a:rPr>
              <a:t>***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&lt;1 año  Aspiración,quemaduras, accidentes de tránsito, inmers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1-4años  Inmersión, accid tráns., quemaduras,aspiración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772400" cy="570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Arial"/>
              </a:rPr>
              <a:t>INTERVEN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*EDUC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*</a:t>
            </a: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Medidas control y vigilancia. 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NO dejarlo so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Barandas, muebles apropiados(no bordes afilados o metálico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Espacios seguros y protegi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andado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pequeños objetos o alimentos.Intoxicacion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NO a la cocina, ni a los brazos al tomar liq. Cali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99"/>
                </a:solidFill>
                <a:latin typeface="Arial"/>
              </a:rPr>
              <a:t>*Usar sillas de autos adecuad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Creación de Háb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ueñ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Higien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Recreacional y jueg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Salud or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Intestinal y urinar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ff"/>
                </a:solidFill>
                <a:latin typeface="Times New Roman"/>
              </a:rPr>
              <a:t>Apoyo a los padres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Orientación en la educación y socialización de sus hij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Recomendación tiempo personal y con su parej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Entrega de guía anticipator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Contestar duda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99"/>
                </a:solidFill>
                <a:latin typeface="Arial"/>
              </a:rPr>
              <a:t>Pautas en relación a manejo situaciones particulares (morbilidad, variantes normales,otros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AUTOESTIMA </a:t>
            </a:r>
            <a:r>
              <a:rPr b="1" lang="es-ES" sz="3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6699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0160" y="1267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NTINUAM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scolar-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omo enfrentamos un niñ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No son adultos pequeñ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recen y se desarrolla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Logros y metas definid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Supervisión de salud del niño y adolescen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Insertos en una familia y socie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ATENCION INTEGRAL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Times New Roman"/>
              </a:rPr>
              <a:t>HABILIDADES PARA LA VID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AUTOESTIMA </a:t>
            </a:r>
            <a:r>
              <a:rPr b="1" lang="es-ES" sz="3000" spc="-1" strike="noStrike">
                <a:solidFill>
                  <a:srgbClr val="afb5d2"/>
                </a:solidFill>
                <a:latin typeface="Wingdings"/>
                <a:ea typeface="Wingdings"/>
              </a:rPr>
              <a:t></a:t>
            </a: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 CONCIENCIA DE SI MISMO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COMUNICACIÓN EFECTIV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ASERTIVIDAD, EMPATÍ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BUENAS RELACIONES PERSONAL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CAPACIDAD DE RESOLVER PROBLEMA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MANEJO ADECUADO DE EMOCIONES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afb5d2"/>
                </a:solidFill>
                <a:latin typeface="Century Gothic"/>
              </a:rPr>
              <a:t>RESILIENCIA</a:t>
            </a:r>
            <a:endParaRPr b="1" lang="en-US" sz="3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PREVENCION DE ACCIDENT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Aspectos a consider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Biológico (sexual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Social (y familiar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Intelectual y cogni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Emocional y afec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Ético y mor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Estét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DESARROLLO PUBER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tivación eje hipotálamo-hipófisis-gonad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SARROLLO MAMARI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SARROLLO TESTICULA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OLOR AXILA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VELLO AXILAR Y PUB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SOCIAL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IFICIL PERO NO DRAMATICO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ONER EN PRACTICA LO REALIZA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IMPORTANCIA DE LOS PAR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RTENENCIA AL GRUP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Ó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REBELDIA A LO ESTABLECID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Times New Roman"/>
              </a:rPr>
              <a:t>Intelectual y cognitiv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OMPETENCI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ROYECTO DE VI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DEFINICION DE CAPACIDADES Y DESE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OTENCIAR LAS CAPACIDAD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Times New Roman"/>
              </a:rPr>
              <a:t>Emocional y afectiv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UTOESTIM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RSONALID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ON DE MI MISMO: CAPACIDADES Y LIMITACION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ENFRENTAR LAS DISCREPANCIA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ff"/>
                </a:solidFill>
                <a:latin typeface="Times New Roman"/>
              </a:rPr>
              <a:t>Estético</a:t>
            </a: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ACEPTAC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MUNDO ACTUA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VALORES V/S IDEA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……</a:t>
            </a: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. PARA LLEGAR A SER QUIENES SOMOS……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ff"/>
                </a:solidFill>
                <a:latin typeface="Times New Roman"/>
              </a:rPr>
              <a:t>CARACTERÍSTICAS DEL DESARROLLO</a:t>
            </a:r>
            <a:br>
              <a:rPr sz="3200"/>
            </a:b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836280"/>
            <a:ext cx="381456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CRECIMIENTO (cuantitativo) – DESARROLLO (cualitativo)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Proceso continuo y ordenado, cambios previsibl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Organización basada en los niveles anteriores, es decir, cada fase es un soporte para la función siguiente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Dirección céfalo caudal, de proximal a distal y de actividades globales a específica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Arial"/>
              </a:rPr>
              <a:t>El ritmo y la intensidad de las funciones son propias a cada individu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2728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Picture 6" descr="piramide_alimentaria_2005"/>
          <p:cNvPicPr/>
          <p:nvPr/>
        </p:nvPicPr>
        <p:blipFill>
          <a:blip r:embed="rId1"/>
          <a:stretch/>
        </p:blipFill>
        <p:spPr>
          <a:xfrm>
            <a:off x="5400720" y="1628640"/>
            <a:ext cx="3743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QUE EVALUAR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2682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6699"/>
                </a:solidFill>
                <a:latin typeface="Arial"/>
              </a:rPr>
              <a:t>A TODA EDAD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CRECIMIENT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MEDIDAS ANTROPOMÉTRICAS: PESO, TALLA, CIRCUNFERENCIA CRÁNEO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DESARROLL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HITOS DEL DS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ALIMENTACIÓN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EVALUACIÓN NUTRICIONAL: DN, RIESGO DN, EUTROFIA, SP U OBESIDAD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SOCIAL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TIPO FAMILIA, Nº HIJO, CARACT PADRES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Arial"/>
              </a:rPr>
              <a:t>FACTORES DE RIESGO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: MADRE ADOLESCENTE, MADRE SOLTERA, POBREZA, DROGADICCIÓN, SALA CUNA, CONT. INTRADOMICILIARIA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CRECIMIENTO en R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PE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TALL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6699"/>
                </a:solidFill>
                <a:latin typeface="Arial"/>
              </a:rPr>
              <a:t>CIRCUNFERENCIA CRÁNE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66ff"/>
                </a:solidFill>
                <a:latin typeface="Times New Roman"/>
              </a:rPr>
              <a:t>DESARROLLO EN RN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99"/>
                </a:solidFill>
                <a:latin typeface="Arial"/>
              </a:rPr>
              <a:t>Reflejo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1" action="ppaction://hlinksldjump"/>
              </a:rPr>
              <a:t>Reflejo de Moro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2" action="ppaction://hlinksldjump"/>
              </a:rPr>
              <a:t>Reflejo de prensión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3" action="ppaction://hlinksldjump"/>
              </a:rPr>
              <a:t>Reflejo de búsqueda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99ff"/>
                </a:solidFill>
                <a:uFillTx/>
                <a:latin typeface="Arial"/>
                <a:hlinkClick r:id="rId4" action="ppaction://hlinksldjump"/>
              </a:rPr>
              <a:t>Reflejo de la marcha automátic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6ff"/>
                </a:solidFill>
                <a:latin typeface="Times New Roman"/>
              </a:rPr>
              <a:t>¿Cómo estimulamos?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99"/>
                </a:solidFill>
                <a:latin typeface="Arial"/>
              </a:rPr>
              <a:t>Desarrollo sicomoto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Fijar la mirada, aunque sea un rato corto en la persona que se pone delante de él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i uno pone un dedo en su manito, deberá poder apretarlo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Seguir con la mirada algo que Ud. le muestra y mueve lentamente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Al ponerlo de guatita, vuelve su cabeza al otro lado ó la levanta un poco. 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6699"/>
                </a:solidFill>
                <a:latin typeface="Arial"/>
              </a:rPr>
              <a:t>Responde de alguna forma al oir algún ruido, sea con pestañeo, cesación de la actividad, llanto, etc.</a:t>
            </a: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6699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9" name="Picture 4" descr="mamasutra"/>
          <p:cNvPicPr/>
          <p:nvPr/>
        </p:nvPicPr>
        <p:blipFill>
          <a:blip r:embed="rId1"/>
          <a:stretch/>
        </p:blipFill>
        <p:spPr>
          <a:xfrm>
            <a:off x="1332000" y="781200"/>
            <a:ext cx="6769080" cy="5119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2:56Z</dcterms:created>
  <dc:creator>thelmy</dc:creator>
  <dc:description/>
  <dc:language>en-US</dc:language>
  <cp:lastModifiedBy>Fac. de Medicina</cp:lastModifiedBy>
  <dcterms:modified xsi:type="dcterms:W3CDTF">2011-05-19T12:10:24Z</dcterms:modified>
  <cp:revision>7</cp:revision>
  <dc:subject/>
  <dc:title>CRECIMIENTO Y DESARROLLO NORMAL DEL NIÑO</dc:title>
</cp:coreProperties>
</file>