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whoosh.wav" ContentType="audio/x-wav"/>
  <Override PartName="/ppt/media/image8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261-DD26-47ED-B3CB-913E0B8C5D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8247-03E0-44E5-95D4-CB68C9448DBB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7A23-CA96-44E8-BA1F-D567DE569EA4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D73-846F-4919-A8F0-ABA72F924552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F5AC-459C-435F-9575-311D281C1FD5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E67-9DAE-4239-A920-2D00919FF138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260-1082-49DB-B5D8-E0DA62680A9C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25CA-47B0-43AA-A1E7-C550EF52CFE4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DF25-463B-46C5-9273-0BC83154ACF5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6B8A-C8B7-4FF0-8C0F-D22F7D489552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BA65-05C0-491F-9B5F-654A0B640F0A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B70-C566-4C9E-A522-48AFA4542F9A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3A0-1F59-4C7F-B311-15246B129A77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7EEB-19CD-4712-B704-91DB159C7844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CA0A-A4AD-48EC-B007-C030159E8ECF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2C8-F311-425D-84A9-06C4881F810B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53AF-80C0-44E4-BFA3-463111D53971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4547-0756-4E85-B7CF-FDDA9F5D3BCD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61D8-9B35-42B4-A81C-1D967C6CD917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2640-A29C-4F61-AF19-A543DA4AAEA0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8FC-E2CC-4857-B8A8-A999293F6752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25CD-0D9B-4199-9982-F209AFD39D52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6B01-1A81-4318-BA57-F49F5C3EBF4A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BDD-17FD-452E-AD62-70DC2FA0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65C-4962-4CCA-B773-8869B74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8E3-9E32-430B-8896-37B3B349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886-4B4D-4A3F-9360-7642818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247-C859-46C8-88EA-A916F210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2442-7EEB-46D8-9C3A-9EE94C59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7647-A701-412F-A24D-EC880A4F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6F5B-4DDD-4723-84B6-CD8C5170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C653-0224-44C2-81B3-E3DEAB1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1FC-0136-43EA-8DD4-3180BDE1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025-286E-400B-8191-8E2595A4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0CA-4D49-4508-8A81-CA539534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605B-6919-4513-98BF-025B8BC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B75A-2424-49F3-A1B2-CC81A25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29C6-5907-4442-A103-7262F11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C2AF-4AE5-4EF1-87A9-6E7A4ABA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3F9C-5675-4A70-A20E-BD8A67BB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350-91D3-4BB5-AFE4-106CBD3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894-CA22-4081-A40B-488F575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301-46E4-4394-A811-9400B8E5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C55-53EE-45DF-89C2-866BB68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3BD-773A-4032-A670-6ABFDE2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A1D-F4A4-4AE5-814D-F46D086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4A9-52BB-4A01-A2E4-A52A567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38D1-DA1B-479C-8390-D179753FB8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F85F-607B-4CF6-9B81-00A2E8208B05}" type="slidenum"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5.xml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1" name="Picture 6" descr="logo U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1" name="Picture 4" descr="familia%20castro%20bendana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Picture 7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unas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age3811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66ff"/>
                </a:solidFill>
                <a:latin typeface="Times New Roman"/>
              </a:rPr>
              <a:t>DESARROLLO  PSICOMOTOR…..ensayo y error</a:t>
            </a:r>
            <a:br>
              <a:rPr sz="2800"/>
            </a:b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Es un proceso dinám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Ordenado, secuencial y previsibl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Céfalo caudal,proximal a dist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Respuestas: involuntarias a voluntarias,generalizadas a definidas,simètricas –asimétric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Favorece su independencia y autonom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6" name="Picture 4" descr="Desa"/>
          <p:cNvPicPr/>
          <p:nvPr/>
        </p:nvPicPr>
        <p:blipFill>
          <a:blip r:embed="rId1"/>
          <a:stretch/>
        </p:blipFill>
        <p:spPr>
          <a:xfrm>
            <a:off x="457200" y="60948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9" name="Picture 4" descr="Desa Infantil 2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2" name="Picture 4" descr="Desa Infantil 3"/>
          <p:cNvPicPr/>
          <p:nvPr/>
        </p:nvPicPr>
        <p:blipFill>
          <a:blip r:embed="rId1"/>
          <a:stretch/>
        </p:blipFill>
        <p:spPr>
          <a:xfrm>
            <a:off x="2362320" y="485640"/>
            <a:ext cx="47242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5" name="Picture 4" descr="Desa Infantil 6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DE PIÉ"/>
          <p:cNvPicPr/>
          <p:nvPr/>
        </p:nvPicPr>
        <p:blipFill>
          <a:blip r:embed="rId1"/>
          <a:stretch/>
        </p:blipFill>
        <p:spPr>
          <a:xfrm>
            <a:off x="350532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ES ASÍ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urante dos años, el niño trabaja intensanmente logrando un gran avance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...al cabo de dos años...comienza a ser capaz de combinar sus representaciones y asì ejecutar una solución adecuada; pudiendo hacerlo sin ensayos previo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Arial"/>
              </a:rPr>
              <a:t>Hasta 6m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L Materna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L maternizada (FI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LPF 7,5% +Azùcar 2,5% +Aceite 2%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Arial"/>
              </a:rPr>
              <a:t>6m a 12m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Lmaterna o LC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LPF 7,5% + Azúcar2,5% +3-5%cere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                      </a:t>
            </a: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+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1 almuerzo con postre (6m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                      </a:t>
            </a: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+</a:t>
            </a:r>
            <a:r>
              <a:rPr b="1" lang="es-ES_tradnl" sz="36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1 comida con postre (8m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12  A 24 mes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6600"/>
                </a:solidFill>
                <a:latin typeface="Arial"/>
              </a:rPr>
              <a:t>Leche 10% + cereal 3% + Azùcar 2,5%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2 comidas con sus post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Suspender leche nocturn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Puede dejarse col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Times New Roman"/>
              </a:rPr>
              <a:t>ESQUEMA DE VACUNACIÓN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RN                BC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2,4,6m           DPT-Polio-Hib – HepatB- 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NEUMOCO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12 m              Trivír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18m                DPT-Pol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1º BASICO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Trivir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2º basico 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EDUC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cc00"/>
                </a:solidFill>
                <a:uFillTx/>
                <a:latin typeface="Arial"/>
              </a:rPr>
              <a:t>Prevención accident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En general,lesiones por:   * 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CAI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* Acción directa de tercer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                       </a:t>
            </a: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*Accidentes de tránsito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***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&lt;1 año  Aspiración,quemaduras, accidentes de tránsito, inmers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1-4años  Inmersión, accid tráns., quemaduras,aspir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77240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INTERVEN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*EDUC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*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Medidas control y vigilancia.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NO dejarlo so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Barandas, muebles apropiados(no bordes afilados o metálico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Espacios seguros y protegi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NO andado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NO pequeños objetos o alimentos.Intoxicacion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NO a la cocina, ni a los brazos al tomar liq. Cali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Usar sillas de autos adecuad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Creación de Háb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Sueñ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Higien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Recreacional y jue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Salud or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Intestinal y urinar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Apoyo a los padres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Orientación en la educación y socialización de sus hij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comendación tiempo personal y con su parej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Entrega de guía anticipator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ontestar duda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Pautas en relación a manejo situaciones particulares (morbilidad, variantes normales,otros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AUTOESTIMA </a:t>
            </a:r>
            <a:r>
              <a:rPr b="1" lang="es-ES" sz="3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0160" y="126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ONTINUAM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scolar-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AUTOESTIMA </a:t>
            </a:r>
            <a:r>
              <a:rPr b="1" lang="es-ES" sz="3000" spc="-1" strike="noStrike">
                <a:solidFill>
                  <a:srgbClr val="afb5d2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spectos a consider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Biológico (sexual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Social (y familiar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Intelectual y cogni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Emocional y afec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Ético y mor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Estét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DESARROLLO PUBER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tivación eje hipotálamo-hipófisis-gonad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SARROLLO MAMAR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SARROLLO TESTICULA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OLOR AXILA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VELLO AXILAR Y PUB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IFICIL PERO NO DRAMATICO…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ONER EN PRACTICA LO REALIZ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IMPORTANCIA DE LOS PA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ERTENENCIA AL GRUP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EPT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REBELDIA A LO ESTABLECI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Times New Roman"/>
              </a:rPr>
              <a:t>Intelectual y cognitiv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OMPETENC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ROYECTO DE VI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FINICION DE CAPACIDADES Y DESE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OTENCIAR LAS CAPACIDAD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Times New Roman"/>
              </a:rPr>
              <a:t>Emocional y afectiv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UTOESTIM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ERSONALI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EPTACION DE MI MISMO: CAPACIDADES Y LIMITAC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NFRENTAR LAS DISCREPANCI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Estético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EPTAC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MUNDO ACTU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VALORES V/S IDEA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……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. PARA LLEGAR A SER QUIENES SOMOS……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836280"/>
            <a:ext cx="381456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Picture 6" descr="piramide_alimentaria_2005"/>
          <p:cNvPicPr/>
          <p:nvPr/>
        </p:nvPicPr>
        <p:blipFill>
          <a:blip r:embed="rId1"/>
          <a:stretch/>
        </p:blipFill>
        <p:spPr>
          <a:xfrm>
            <a:off x="5400720" y="1628640"/>
            <a:ext cx="374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2682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RECIMIENTO en R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DESARROLLO EN R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9" name="Picture 4" descr="mamasutra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Fac. de Medicina</cp:lastModifiedBy>
  <dcterms:modified xsi:type="dcterms:W3CDTF">2011-05-19T12:10:24Z</dcterms:modified>
  <cp:revision>7</cp:revision>
  <dc:subject/>
  <dc:title>CRECIMIENTO Y DESARROLLO NORMAL DEL NIÑO</dc:title>
</cp:coreProperties>
</file>