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EE5-52BC-40AC-BD9A-99ABF9CC66BC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1F1-8E8B-45FE-8266-C540FB2421F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eparación durante el embarazo acción hormonas del embarazo estrógenos y H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st parto al caer los estrógenos la PRL actúa sobre las células alveolares produciendo la leche, signos de congestión mam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ccitocina actúa sobre las miofibrillas llevando la leche a los grandes conductos alveolares y  a los reservorios retro are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imulo a la producción de PRL y occitocina es la succión del pez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FA30-CF7C-4596-B0FE-F2265BD50C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uelo perina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2/1000 nacen muertos o fallecen en 1os 28 d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qué falleció, culpabilidad propia y del personal de atención, conversación médico-pa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0% depresión, insomnio y sensación de per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r al bebe muerto, aún si es malformado. Se recomienda retrasar la siguiente gestación algunos meses pero es la pareja quien dec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B5C6-B3EB-4B39-B298-4E6DD0166C1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F97-B5F0-4BAB-94FA-7B1F7216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ECD-23DE-4F44-B3CB-FF420C2D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9B8-B1C1-40AA-A036-3649C52F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339-18D8-4434-ADB8-779AC35E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84F-33B9-41CA-89E7-BFF6F70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160-8212-4B03-B6BB-30E7615E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3FC-4CCD-4169-8B6D-72F353A6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E4B-FFEE-47E2-A7D0-196B1B55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1C9-2545-45A4-9051-BA4FAE12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D5C-7829-48D8-88AD-35A63EB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AA4-18D0-44E2-BB8F-A78782C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06A-9858-4F3A-A58B-35BDEE5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E50-E670-47EF-B3C4-5D07EB9C4E0C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mbarazo, Parto, Puerperio normal.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ién Nacido norm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 a la obstetricia y neonat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 año Medicina, Universidad de Ch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r. Cristian Pérez C.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arazo y 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tr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 conyug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oyo psicológ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de primer día de ultima menstruación el embarazo dura 280 días o 40 sema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de el día de la concepción (difícil de precisar) son 264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tilizan las semanas desde el 1er día de la última menstruación para fechar el emba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perio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s periodos, desde el punto de vista del desarrollo, son reconocidos en el embar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rionar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 trimestre = hasta las 11 se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y 3er tri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, periodo embrio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mbr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rganogén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ad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íntomas simpáticos del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itar contacto con tóx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itar contagio enfermedades infeccio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, periodo f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recimiento y maduración de los sist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ón del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dición de la altura uterina y ecograf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ón del bienestar fe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rva crecimiento fet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vimientos feta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itorización electrónica y ecografí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crecimiento f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urv crec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, periodo f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d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es +/- cada 4 sem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Presión ar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Estado nutricional, p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  Ecografí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4 y 32 se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mino del embarazo 40 seman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semanas  &lt; pre ter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&gt; post te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icio:  espont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esárea electiva o ur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acción uter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Contrac ut"/>
          <p:cNvPicPr/>
          <p:nvPr/>
        </p:nvPicPr>
        <p:blipFill>
          <a:blip r:embed="rId1"/>
          <a:stretch/>
        </p:blipFill>
        <p:spPr>
          <a:xfrm>
            <a:off x="684360" y="1484280"/>
            <a:ext cx="799128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es perio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er periodo de dil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 lat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se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º periodo de expul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er periodo de alumbr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arqu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clo Menstrual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v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stru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aso menstrual y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barazo: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odo embrio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odo f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rmino del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o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i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odo de dil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ul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umb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rp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latación cuello ut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Borr y dilat"/>
          <p:cNvPicPr/>
          <p:nvPr/>
        </p:nvPicPr>
        <p:blipFill>
          <a:blip r:embed="rId1"/>
          <a:stretch/>
        </p:blipFill>
        <p:spPr>
          <a:xfrm>
            <a:off x="395280" y="1484280"/>
            <a:ext cx="7705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1er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 latente        F.a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acciones uterinas   2/10´               4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latación cervical     hasta 4 cm          &gt;4 cm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mbranas               integras               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beza fetal              apoyada             encaj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ducta                   pasiva                 a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uración                    &gt;12 hrs               6 a 8h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1er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latación y descenso de la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ilat y des"/>
          <p:cNvPicPr/>
          <p:nvPr/>
        </p:nvPicPr>
        <p:blipFill>
          <a:blip r:embed="rId1"/>
          <a:stretch/>
        </p:blipFill>
        <p:spPr>
          <a:xfrm>
            <a:off x="228600" y="1717560"/>
            <a:ext cx="89154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2º per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del parto. Perineotom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erineot"/>
          <p:cNvPicPr/>
          <p:nvPr/>
        </p:nvPicPr>
        <p:blipFill>
          <a:blip r:embed="rId1"/>
          <a:stretch/>
        </p:blipFill>
        <p:spPr>
          <a:xfrm>
            <a:off x="1619280" y="1628640"/>
            <a:ext cx="46814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2º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2º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del p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77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to, 3er per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umbr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Alumbr"/>
          <p:cNvPicPr/>
          <p:nvPr/>
        </p:nvPicPr>
        <p:blipFill>
          <a:blip r:embed="rId1"/>
          <a:stretch/>
        </p:blipFill>
        <p:spPr>
          <a:xfrm>
            <a:off x="395280" y="1628640"/>
            <a:ext cx="792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rp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u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6 semanas desde el día de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ierten camb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isiológicos del embar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rm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né y vag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ero y loqu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gil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ero y loqu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tremidad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cción y defecación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rperio, Lactancia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canismo de producción y eyección de le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39607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ctancia ma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blemas de la lact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gestión ma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rietas del pez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sis de le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stitis ag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ARQU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ª menstruación entre los 9 y 14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s ciclos anovulatorios, niña es infér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 a 3 años mujer madura sus sistemas haciéndose fértil, y entra al periodo re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uerp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tros problemas del puerpe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i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resión puerp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sicosis puerp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ién Nacido n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la sala de p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sala de atención inmedi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sala puerpe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idados en su domicil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os 10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ías 11 a 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la sala de pa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estra del cordón VDRL, HIV, Grupo-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gadura del cordón  a 2 cm del abd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p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ala de atención inmedia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iración de secre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st de Apgar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C, ER, TM, Reflejos,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filaxis de enfermedad hemorragipa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tamina K 1 m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filaxis ocular colirio de cloramfenicol 1 gota en cada o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º rec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amen médico compl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stir y trasladar a sala de observación por 2 h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tención en sala de puerpe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ervación de la icter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º rec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imentación, favorecer la lactancia ma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ervación deposiciones y or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ámenes de screening metabó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KU (fenilalan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SH (hormona tiroestimulan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idados en su domicil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meros 10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dón, aseo con alcohol 70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o piel y después de deposi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imentación, pecho libre dema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menos de 2 ni mas de 4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0 a 15 min por p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idados en su domicil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los días 11 a 28 desde el pa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e cordón + o -14 dí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ño di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tamina D 400 U día, mantener hasta el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iclo menstrual fért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ito fecun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ecund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porte tubario y desarrollo del embr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herencia e Implan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DE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ínico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traso menstrual (uso anticoncep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stal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íntomas simpáticos del embaraz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aquiu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mento volumen ute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scultación latidos cardio fet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cepción movimientos f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lpación de partes fe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DE EMBAR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onadotrofína coriónica humana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HC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cografia transvag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squisar en forma precoz algunas patolog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clínico: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ió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ura u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idos cardio f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ón de sínt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523520"/>
            <a:ext cx="8663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rol de laborato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lic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D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upo 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in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cografías ser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BARAZO  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s leg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ención profesional de los controles y del 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imentación complemen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cencia pre y post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rroga del pre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ero Maternal (Inamovilidad labora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21:25:49Z</dcterms:created>
  <dc:creator>Alberto Glavic</dc:creator>
  <dc:description/>
  <dc:language>en-US</dc:language>
  <cp:lastModifiedBy>Cristian Pérez Corvalán</cp:lastModifiedBy>
  <dcterms:modified xsi:type="dcterms:W3CDTF">2011-04-28T17:58:31Z</dcterms:modified>
  <cp:revision>24</cp:revision>
  <dc:subject/>
  <dc:title>Diapositiva 1</dc:title>
</cp:coreProperties>
</file>