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35CB-0F50-4817-8801-53271C78877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0C16-87E5-49B7-A511-91BB05E658E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paración durante el embarazo acción hormonas del embarazo estrógenos y H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st parto al caer los estrógenos la PRL actúa sobre las células alveolares produciendo la leche, signos de congestión mam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ccitocina actúa sobre las miofibrillas llevando la leche a los grandes conductos alveolares y  a los reservorios retro areol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imulo a la producción de PRL y occitocina es la succión del pez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BDA2-B8DF-467A-9CF9-B4B6F059797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uelo perina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2/1000 nacen muertos o fallecen en 1os 28 dí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rqué falleció, culpabilidad propia y del personal de atención, conversación médico-pac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0% depresión, insomnio y sensación de per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er al bebe muerto, aún si es malformado. Se recomienda retrasar la siguiente gestación algunos meses pero es la pareja quien dec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D320-AF07-4369-9879-EDC2DCBF73A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E5AC-7917-45F8-ABA1-38295A85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3CAF-E82E-4C28-8587-2D450717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6E3-4477-4D14-8FCF-BEE7084A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5D5E-E785-4C9C-A61C-69EB9204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815-F5E0-411D-9E57-37A89E23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8FE-3393-4952-8194-E41CCC0B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716-F424-4597-98E5-D5133A0E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DB1-19AC-4638-92E6-EED9A607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2D5-1359-4609-8402-78A2F8B8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ADB-1AFB-4AAF-AE19-E3094438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E428-AC98-4615-A044-9EF65079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B16F-88A1-40CA-8FF7-0DEC0D9B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0105-ABB7-4E7F-ADC8-211729FA162F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mbarazo, Parto, Puerperio normal.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ién Nacido norma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roducción a la obstetricia y neonat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er año Medicina, Universidad de Ch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r. Cristian Pérez C.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BARAZO  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barazo y pa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tr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idad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idad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idad conyug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oyo psicológ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BAR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de primer día de ultima menstruación el embarazo dura 280 días o 40 sema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de el día de la concepción (difícil de precisar) son 264 d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utilizan las semanas desde el 1er día de la última menstruación para fechar el embar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barazo perio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s periodos, desde el punto de vista del desarrollo, son reconocidos en el embaraz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brionari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r trimestre = hasta las 11 sem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º y 3er trim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barazo, periodo embrion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mbr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organogén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d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íntomas simpáticos del emba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itar contacto con tóx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itar contagio enfermedades infeccios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barazo, periodo f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recimiento y maduración de los sist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valuación del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ción de la altura uterina y ecograf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valuación del bienestar fe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rva crecimiento fet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vimientos feta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itorización electrónica y ecografí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barazo crecimiento f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70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urv crec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barazo, periodo f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d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oles +/- cada 4 sem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  Presión ar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  Estado nutricional, p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  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  Ecografí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4 y 32 sem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rmino del embarazo 40 seman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 semanas  &lt; pre ter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&gt; post termi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icio:  espontán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duc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esárea electiva o urg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acción ute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Contrac ut"/>
          <p:cNvPicPr/>
          <p:nvPr/>
        </p:nvPicPr>
        <p:blipFill>
          <a:blip r:embed="rId1"/>
          <a:stretch/>
        </p:blipFill>
        <p:spPr>
          <a:xfrm>
            <a:off x="684360" y="1484280"/>
            <a:ext cx="799128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es perio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er periodo de dila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se lat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se 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º periodo de expuls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er periodo de alumbr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arqu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clo Menstrual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v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nstru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raso menstrual y emba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barazo: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iodo embrio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iodo f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rmino del emba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to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ien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iodo de dila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ul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umbr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rpe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latación cuello ute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Borr y dilat"/>
          <p:cNvPicPr/>
          <p:nvPr/>
        </p:nvPicPr>
        <p:blipFill>
          <a:blip r:embed="rId1"/>
          <a:stretch/>
        </p:blipFill>
        <p:spPr>
          <a:xfrm>
            <a:off x="395280" y="1484280"/>
            <a:ext cx="7705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o, 1er peri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se latente        F.a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acciones uterinas   2/10´               4/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latación cervical     hasta 4 cm          &gt;4 cm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mbranas               integras               r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beza fetal              apoyada             encaj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ducta                   pasiva                 a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uración                    &gt;12 hrs               6 a 8h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o, 1er peri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latación y descenso de la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Dilat y des"/>
          <p:cNvPicPr/>
          <p:nvPr/>
        </p:nvPicPr>
        <p:blipFill>
          <a:blip r:embed="rId1"/>
          <a:stretch/>
        </p:blipFill>
        <p:spPr>
          <a:xfrm>
            <a:off x="228600" y="1717560"/>
            <a:ext cx="89154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o, 2º per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ención del parto. Perineotom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Perineot"/>
          <p:cNvPicPr/>
          <p:nvPr/>
        </p:nvPicPr>
        <p:blipFill>
          <a:blip r:embed="rId1"/>
          <a:stretch/>
        </p:blipFill>
        <p:spPr>
          <a:xfrm>
            <a:off x="1619280" y="1628640"/>
            <a:ext cx="468144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o, 2º peri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o, 2º peri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ención del pa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777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o, 3er per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umbr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Alumbr"/>
          <p:cNvPicPr/>
          <p:nvPr/>
        </p:nvPicPr>
        <p:blipFill>
          <a:blip r:embed="rId1"/>
          <a:stretch/>
        </p:blipFill>
        <p:spPr>
          <a:xfrm>
            <a:off x="395280" y="1628640"/>
            <a:ext cx="7921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erpe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ur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6 semanas desde el día del pa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vierten cambi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fisiológicos del embaraz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iné y vag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ero y loqu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igil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ero y loqu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tremidades inf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cción y defecación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erperio, Lactancia ma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canismo de producción y eyección de le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396072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ctancia ma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blemas de la lacta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gestión ma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rietas del pez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sis de le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stitis ag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NARQU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ª menstruación entre los 9 y 14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eros ciclos anovulatorios, niña es infért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 a 3 años mujer madura sus sistemas haciéndose fértil, y entra al periodo reprod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erpe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tros problemas del puerpe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ti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resión puerp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sicosis puerp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ién Nacido n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ención en la sala de par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ención en sala de atención inmedi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ención en sala puerpe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idados en su domicili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meros 10 dí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ías 11 a 2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ención en la sala de par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estra del cordón VDRL, HIV, Grupo-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gadura del cordón  a 2 cm del abd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ala de atención inmedia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piración de secre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st de Apgar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C, ER, TM, Reflejos,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filaxis de enfermedad hemorragipa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tamina K 1 m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filaxis ocular colirio de cloramfenicol 1 gota en cada o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º rec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amen médico compl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stir y trasladar a sala de observación por 2 h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ención en sala de puerpe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servación de la icteri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º rec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imentación, favorecer la lactancia ma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servación deposiciones y or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ámenes de screening metabó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KU (fenilalan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SH (hormona tiroestimulan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idados en su domicil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meros 10 dí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dón, aseo con alcohol 70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eo piel y después de deposi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imentación, pecho libre dema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menos de 2 ni mas de 4 h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0 a 15 min por pe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idados en su domicil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 los días 11 a 28 desde el pa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e cordón + o -14 dí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ño di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tamina D 400 U día, mantener hasta el a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iclo menstrual fért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ito fecund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cund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nsporte tubario y desarrollo del embr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herencia e Implan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AGNÓSTICO DE EMBAR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ínico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traso menstrual (uso anticonceptiv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stal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íntomas simpáticos del embaraz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laquiu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mento volumen ute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scultación latidos cardio fet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cepción movimientos fe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lpación de partes fe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AGNÓSTICO DE EMBAR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onadotrofína coriónica humana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HC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Ecografia transvag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barazo  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squisar en forma precoz algunas patolog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ol clínico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ión ar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tura ut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tidos cardio fe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d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olución de sínto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barazo  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523520"/>
            <a:ext cx="8663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ol de laborator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m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licem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D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rupo 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ina 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cografías ser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BARAZO  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neficios leg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tención profesional de los controles y del pa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imentación complemen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cencia pre y post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rroga del pre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ero Maternal (Inamovilidad labora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21:25:49Z</dcterms:created>
  <dc:creator>Alberto Glavic</dc:creator>
  <dc:description/>
  <dc:language>en-US</dc:language>
  <cp:lastModifiedBy>Cristian Pérez Corvalán</cp:lastModifiedBy>
  <dcterms:modified xsi:type="dcterms:W3CDTF">2011-04-28T17:58:31Z</dcterms:modified>
  <cp:revision>24</cp:revision>
  <dc:subject/>
  <dc:title>Diapositiva 1</dc:title>
</cp:coreProperties>
</file>