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64F-6BBE-47BD-9546-B3720E01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881E-88E0-4EF3-A31E-1FBEE0A7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D22-EC94-4DDD-B483-715C298B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BFEA-26DA-4D89-93B4-271F647B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7888-DE0A-4E6B-B2B7-0FFB7906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4414-25EB-40AB-9275-8BE5FF9F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D69-3B52-4121-B772-66E7C5A0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D4C2-4029-42C9-8458-5A0A2F46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932-CF85-4339-999D-C56C52FA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21BD-6F54-4691-8430-B862B584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DE01-3364-4CE4-AD8B-EB5680C8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DBBB-23D0-49E7-9504-A8B94F9B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EE87-3D24-4147-A5B3-F56EBF488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5280" y="1484280"/>
            <a:ext cx="51051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ivel de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rm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alud - Enfer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ra. Mónica Nivelo Clav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artamento de Atención Primaria y Salud 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Sal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MS: Estado de completo bienestar físico, mental y social y no simplemente la ausencia de enferm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alu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ferm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actores y condicione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3962520"/>
            <a:ext cx="4343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09880" y="4419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809880" y="426708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809880" y="4267080"/>
            <a:ext cx="19814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809880" y="4571640"/>
            <a:ext cx="2895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5791320"/>
            <a:ext cx="33526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moción de la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562720" y="5486400"/>
            <a:ext cx="923760" cy="846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705720" y="5562720"/>
            <a:ext cx="593640" cy="823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315200" y="5510160"/>
            <a:ext cx="18288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Salud y bienest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2286000"/>
            <a:ext cx="396216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Son sinónim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4419720"/>
            <a:ext cx="70866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dos temporales de malestar = buena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der expresar el malestar o dolor = actitud salud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icc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ícese de lo que se halla en su estado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e sirve de norma o reg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ícese de lo que por su naturaleza, forma o  magnitud se ajusta a ciertas normas fijadas de ante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Normal en clí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dística (Curva de Ga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dístico (porcentaj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 Factor de riesgo de morbi-mort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eptado socialmente o políticamente, deseado cultur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abilístico (Exámenes norma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recu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so Salud - Enfermedad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act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lí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conó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ltu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u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io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2052720" cy="2057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114800" y="5257800"/>
            <a:ext cx="40384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salu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e crea y se v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la vida cotid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teminantes de Salud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lasificación de De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iología human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dio ambiente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stema sanitario 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tención méd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IBERTAD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Nivel de vida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tención de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du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vi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st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cre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bertades hum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 - Trabaj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uridad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81480" y="3505320"/>
            <a:ext cx="23623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peranza de vida al nacer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hile comunas (199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elem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4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umbe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depende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7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tacur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8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arneche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7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an Javie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3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lin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3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3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tacur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arneche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2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09680" y="838080"/>
            <a:ext cx="495324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Círculo de la pobreza-enfer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1752480"/>
            <a:ext cx="19814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nor energí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y capaci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3200400"/>
            <a:ext cx="19814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alarios ba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4572000"/>
            <a:ext cx="2743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limentación, Viviend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igiene y educación pob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5943600"/>
            <a:ext cx="19810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ferm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5029200"/>
            <a:ext cx="19814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ltos gastos cu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4114800"/>
            <a:ext cx="259056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aja inversión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aneamiento y prev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3276720"/>
            <a:ext cx="19810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ás enferm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438280"/>
            <a:ext cx="1981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capacidad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nor sobrev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2362320"/>
            <a:ext cx="19810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ducción b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209680" y="19810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19810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3809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638680" y="5105520"/>
            <a:ext cx="1371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819520" y="556236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209320" y="46483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98108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98108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erequisitos para la sal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du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ivi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cosistema e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sticia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qu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4648320"/>
            <a:ext cx="76201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uena salu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el mejor recurso para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greso personal, económico y social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dimensión importante de la calidad de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86200" y="1523880"/>
            <a:ext cx="152388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amili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unida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a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2590920"/>
            <a:ext cx="1523880" cy="1447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dividu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2514600"/>
            <a:ext cx="152388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ocieda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a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3581280"/>
            <a:ext cx="152388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2819520"/>
            <a:ext cx="121932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alu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609480"/>
            <a:ext cx="23623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gradación eco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5410080"/>
            <a:ext cx="243828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menazas nueva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emergentes a la 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4267080"/>
            <a:ext cx="236196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tilos de vida riesgo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514600"/>
            <a:ext cx="23623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ig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752480"/>
            <a:ext cx="23623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rb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609480"/>
            <a:ext cx="23623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recimiento pob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1828800"/>
            <a:ext cx="23623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dustri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2971800"/>
            <a:ext cx="23623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lución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4419720"/>
            <a:ext cx="266688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alta de calidad nutr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y seguridad alimenti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5410080"/>
            <a:ext cx="243864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mbios en sistemas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alores y é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429000"/>
            <a:ext cx="2590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nsición socioeconó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1371240" y="464832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142640" y="3733560"/>
            <a:ext cx="152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6668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066680" y="21337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095520" y="13716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219320" y="220968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219320" y="396216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96080" y="2209680"/>
            <a:ext cx="1526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7619760" y="3352680"/>
            <a:ext cx="2286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095520" y="49528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714640" y="5028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190760" y="5638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5146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10280" y="9907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762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600200" y="9907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57200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3429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0"/>
            <a:ext cx="3048120" cy="4572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ores condicio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Sal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2438280"/>
            <a:ext cx="5790960" cy="2895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logro del más alto nivel de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ienesta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ísico, mental y soci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y de capac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que permitan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ctores socia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 los que v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mersos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dividuo y la cole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3284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Salu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ente de riqueza de la vida cotidi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z de identificar sus aspi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atisfacer sus neces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mbiar o adaptarse al me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91320" y="3200400"/>
            <a:ext cx="30686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nfermedad hum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unto de vista 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unto de vista su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3809880"/>
            <a:ext cx="64771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7960" y="3581280"/>
            <a:ext cx="67644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Times New Roman"/>
              </a:rPr>
              <a:t>EN GRIEG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993300"/>
                </a:solidFill>
                <a:latin typeface="Times New Roman"/>
              </a:rPr>
              <a:t>NOSOS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DAÑO  Y </a:t>
            </a:r>
            <a:r>
              <a:rPr b="0" lang="es-ES_tradnl" sz="2000" spc="-1" strike="noStrike">
                <a:solidFill>
                  <a:srgbClr val="993300"/>
                </a:solidFill>
                <a:latin typeface="Times New Roman"/>
              </a:rPr>
              <a:t>PATH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PAD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Times New Roman"/>
              </a:rPr>
              <a:t>EN LATI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es-ES_tradnl" sz="2000" spc="-1" strike="noStrike">
                <a:solidFill>
                  <a:srgbClr val="993300"/>
                </a:solidFill>
                <a:latin typeface="Times New Roman"/>
              </a:rPr>
              <a:t>MORBUS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LO QUE HACE MORIR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000" spc="-1" strike="noStrike">
                <a:solidFill>
                  <a:srgbClr val="993300"/>
                </a:solidFill>
                <a:latin typeface="Times New Roman"/>
              </a:rPr>
              <a:t>PASSIO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PADECIMIENTO O PA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Times New Roman"/>
              </a:rPr>
              <a:t>EN ALEMA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es-ES_tradnl" sz="2000" spc="-1" strike="noStrike">
                <a:solidFill>
                  <a:srgbClr val="993300"/>
                </a:solidFill>
                <a:latin typeface="Times New Roman"/>
              </a:rPr>
              <a:t>KRANKHEIT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; ENFERMEDAD OBJETIVA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000" spc="-1" strike="noStrike">
                <a:solidFill>
                  <a:srgbClr val="993300"/>
                </a:solidFill>
                <a:latin typeface="Times New Roman"/>
              </a:rPr>
              <a:t>LEIDE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; ENFERMEDAD SUBJE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c. de Medicina</cp:lastModifiedBy>
  <cp:lastPrinted>2003-03-19T19:46:21Z</cp:lastPrinted>
  <dcterms:modified xsi:type="dcterms:W3CDTF">2011-04-04T16:59:56Z</dcterms:modified>
  <cp:revision>22</cp:revision>
  <dc:subject/>
  <dc:title>Sin título de diapositiva</dc:title>
</cp:coreProperties>
</file>