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9CEF-CE14-47FB-9AA8-7EBB5AF3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2EC5-85A0-440B-8835-705E46F8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4766-FFDA-4BAE-B203-FEF89F77C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66B4-EB50-43EE-8F59-10E61E86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7161-579B-497D-91B8-66F5DD8D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F2AB-651D-4177-8931-D7B6A778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B78E-EE13-49F6-8D29-7615B093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BF11-6A53-4306-B1FC-5182A71F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3B41-1A81-43B7-B9A2-ECFDA8DB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15BC-FA8F-471E-B23E-287802CD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D686-522B-4587-9D44-B05DA0CE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D151-73E3-4C66-B51F-5D9ACD98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6826-8411-4637-9249-A78EB1CC2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35280" y="1484280"/>
            <a:ext cx="51051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ivel de V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orm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alud - Enferm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ra. Mónica Nivelo Clavi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artamento de Atención Primaria y Salud Famil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Sal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MS: Estado de completo bienestar físico, mental y social y no simplemente la ausencia de enferme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alud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ferm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actores y condicione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3962520"/>
            <a:ext cx="4343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09880" y="4419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809880" y="426708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809880" y="4267080"/>
            <a:ext cx="19814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809880" y="4571640"/>
            <a:ext cx="28958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5791320"/>
            <a:ext cx="335268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moción de la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562720" y="5486400"/>
            <a:ext cx="923760" cy="846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705720" y="5562720"/>
            <a:ext cx="593640" cy="823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315200" y="5510160"/>
            <a:ext cx="18288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Salud y bienest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2286000"/>
            <a:ext cx="396216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Son sinónim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4419720"/>
            <a:ext cx="70866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ados temporales de malestar = buena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der expresar el malestar o dolor = actitud salud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icc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ícese de lo que se halla en su estado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e sirve de norma o reg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ícese de lo que por su naturaleza, forma o  magnitud se ajusta a ciertas normas fijadas de ante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Normal en clí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dística (Curva de Ga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dístico (porcentaj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n Factor de riesgo de morbi-mort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eptado socialmente o políticamente, deseado cultural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babilístico (Exámenes norma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recu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so Salud - Enfermedad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act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lít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conó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ltu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duc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iológ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2052720" cy="20574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114800" y="5257800"/>
            <a:ext cx="403848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salu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se crea y se v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la vida cotid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teminantes de Salud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lasificación de De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ilo de vid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iología human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7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dio ambiente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stema sanitario 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tención médic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1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IBERTAD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Nivel de vida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tención de sal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du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i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vi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stu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cre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ibertades huma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 - Trabaj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guridad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81480" y="3505320"/>
            <a:ext cx="23623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peranza de vida al nacer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hile comunas (199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elemu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4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umbe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dependenci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7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tacur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78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arneche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77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an Javie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73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lin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73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73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tacur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84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arneche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82.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09680" y="838080"/>
            <a:ext cx="4953240" cy="6098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Círculo de la pobreza-enferm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1752480"/>
            <a:ext cx="19814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nor energí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y capaci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3200400"/>
            <a:ext cx="19814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alarios ba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4572000"/>
            <a:ext cx="2743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limentación, Viviend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higiene y educación pob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5943600"/>
            <a:ext cx="198108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ferm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5029200"/>
            <a:ext cx="19814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ltos gastos cur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4114800"/>
            <a:ext cx="259056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aja inversión 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aneamiento y prev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3276720"/>
            <a:ext cx="198108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ás enferm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2438280"/>
            <a:ext cx="1981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capacidad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nor sobrev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2362320"/>
            <a:ext cx="198108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ducción ba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209680" y="19810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198108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3432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3809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5638680" y="5105520"/>
            <a:ext cx="13716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2819520" y="556236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209320" y="46483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98108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981080" y="297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erequisitos para la sal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du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ivi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i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cosistema es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sticia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qu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4648320"/>
            <a:ext cx="76201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uena salu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s el mejor recurso para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greso personal, económico y social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a dimensión importante de la calidad de v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86200" y="1523880"/>
            <a:ext cx="152388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amili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munida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a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2590920"/>
            <a:ext cx="1523880" cy="1447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dividu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2514600"/>
            <a:ext cx="152388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ocieda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a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3581280"/>
            <a:ext cx="152388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2819520"/>
            <a:ext cx="121932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alu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o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609480"/>
            <a:ext cx="23623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gradación eco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5410080"/>
            <a:ext cx="243828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menazas nuevas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emergentes a la sal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4267080"/>
            <a:ext cx="236196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stilos de vida riesgo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514600"/>
            <a:ext cx="23623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ig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752480"/>
            <a:ext cx="23623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rba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609480"/>
            <a:ext cx="23623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recimiento pob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1828800"/>
            <a:ext cx="23623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dustri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81680" y="2971800"/>
            <a:ext cx="23623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lución ambi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48520" y="4419720"/>
            <a:ext cx="2666880" cy="533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alta de calidad nutri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y seguridad alimenti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5410080"/>
            <a:ext cx="243864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mbios en sistemas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alores y é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429000"/>
            <a:ext cx="2590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nsición socioeconó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1371240" y="4648320"/>
            <a:ext cx="15238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1142640" y="3733560"/>
            <a:ext cx="152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6668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066680" y="21337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095520" y="13716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219320" y="2209680"/>
            <a:ext cx="1752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219320" y="396216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96080" y="2209680"/>
            <a:ext cx="1526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7619760" y="3352680"/>
            <a:ext cx="2286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095520" y="49528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5714640" y="5028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190760" y="5638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5146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10280" y="9907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7621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600200" y="9907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572000" y="1219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3429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0"/>
            <a:ext cx="3048120" cy="4572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ores condicio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Sal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2438280"/>
            <a:ext cx="5790960" cy="2895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logro del más alto nivel de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ienesta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ísico, mental y soci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y de capac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uncionamient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que permitan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actores social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n los que v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mersos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dividuo y la cole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32846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Salu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ente de riqueza de la vida cotidi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z de identificar sus aspi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atisfacer sus neces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mbiar o adaptarse al me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791320" y="3200400"/>
            <a:ext cx="306864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nfermedad hum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unto de vista obje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unto de vista subje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3809880"/>
            <a:ext cx="647712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7960" y="3581280"/>
            <a:ext cx="676440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Times New Roman"/>
              </a:rPr>
              <a:t>EN GRIEG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993300"/>
                </a:solidFill>
                <a:latin typeface="Times New Roman"/>
              </a:rPr>
              <a:t>NOSOS: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DAÑO  Y </a:t>
            </a:r>
            <a:r>
              <a:rPr b="0" lang="es-ES_tradnl" sz="2000" spc="-1" strike="noStrike">
                <a:solidFill>
                  <a:srgbClr val="993300"/>
                </a:solidFill>
                <a:latin typeface="Times New Roman"/>
              </a:rPr>
              <a:t>PATHO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PADE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Times New Roman"/>
              </a:rPr>
              <a:t>EN LATI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es-ES_tradnl" sz="2000" spc="-1" strike="noStrike">
                <a:solidFill>
                  <a:srgbClr val="993300"/>
                </a:solidFill>
                <a:latin typeface="Times New Roman"/>
              </a:rPr>
              <a:t>MORBUS: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LO QUE HACE MORIR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000" spc="-1" strike="noStrike">
                <a:solidFill>
                  <a:srgbClr val="993300"/>
                </a:solidFill>
                <a:latin typeface="Times New Roman"/>
              </a:rPr>
              <a:t>PASSIO: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PADECIMIENTO O PA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Times New Roman"/>
              </a:rPr>
              <a:t>EN ALEMA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es-ES_tradnl" sz="2000" spc="-1" strike="noStrike">
                <a:solidFill>
                  <a:srgbClr val="993300"/>
                </a:solidFill>
                <a:latin typeface="Times New Roman"/>
              </a:rPr>
              <a:t>KRANKHEIT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; ENFERMEDAD OBJETIVA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000" spc="-1" strike="noStrike">
                <a:solidFill>
                  <a:srgbClr val="993300"/>
                </a:solidFill>
                <a:latin typeface="Times New Roman"/>
              </a:rPr>
              <a:t>LEIDE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; ENFERMEDAD SUBJE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c. de Medicina</cp:lastModifiedBy>
  <cp:lastPrinted>2003-03-19T19:46:21Z</cp:lastPrinted>
  <dcterms:modified xsi:type="dcterms:W3CDTF">2011-04-04T16:59:56Z</dcterms:modified>
  <cp:revision>22</cp:revision>
  <dc:subject/>
  <dc:title>Sin título de diapositiva</dc:title>
</cp:coreProperties>
</file>