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61.xml" ContentType="application/vnd.openxmlformats-officedocument.theme+xml"/>
  <Override PartName="/ppt/theme/theme19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77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34.png" ContentType="image/png"/>
  <Override PartName="/ppt/media/image9.jpeg" ContentType="image/jpeg"/>
  <Override PartName="/ppt/media/image11.jpeg" ContentType="image/jpeg"/>
  <Override PartName="/ppt/media/image6.wmf" ContentType="image/x-wmf"/>
  <Override PartName="/ppt/media/image36.wmf" ContentType="image/x-wmf"/>
  <Override PartName="/ppt/media/image37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1.jpeg" ContentType="image/jpeg"/>
  <Override PartName="/ppt/media/image3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28.png" ContentType="image/png"/>
  <Override PartName="/ppt/media/image7.jpeg" ContentType="image/jpeg"/>
  <Override PartName="/ppt/media/image40.jpeg" ContentType="image/jpeg"/>
  <Override PartName="/ppt/media/image13.jpeg" ContentType="image/jpeg"/>
  <Override PartName="/ppt/media/image3.wmf" ContentType="image/x-wmf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</p:sldMasterIdLst>
  <p:notesMasterIdLst>
    <p:notesMasterId r:id="rId78"/>
  </p:notesMasterIdLst>
  <p:sldIdLst>
    <p:sldId id="256" r:id="rId79"/>
    <p:sldId id="257" r:id="rId80"/>
    <p:sldId id="258" r:id="rId81"/>
    <p:sldId id="259" r:id="rId82"/>
    <p:sldId id="260" r:id="rId83"/>
    <p:sldId id="261" r:id="rId84"/>
    <p:sldId id="262" r:id="rId85"/>
    <p:sldId id="263" r:id="rId86"/>
    <p:sldId id="264" r:id="rId87"/>
    <p:sldId id="265" r:id="rId88"/>
    <p:sldId id="266" r:id="rId89"/>
    <p:sldId id="267" r:id="rId90"/>
    <p:sldId id="268" r:id="rId91"/>
    <p:sldId id="269" r:id="rId92"/>
    <p:sldId id="270" r:id="rId93"/>
    <p:sldId id="271" r:id="rId94"/>
    <p:sldId id="272" r:id="rId95"/>
    <p:sldId id="273" r:id="rId96"/>
    <p:sldId id="274" r:id="rId97"/>
    <p:sldId id="275" r:id="rId98"/>
    <p:sldId id="276" r:id="rId99"/>
    <p:sldId id="277" r:id="rId100"/>
    <p:sldId id="278" r:id="rId101"/>
    <p:sldId id="279" r:id="rId102"/>
    <p:sldId id="280" r:id="rId103"/>
    <p:sldId id="281" r:id="rId104"/>
    <p:sldId id="282" r:id="rId105"/>
    <p:sldId id="283" r:id="rId106"/>
    <p:sldId id="284" r:id="rId107"/>
    <p:sldId id="285" r:id="rId108"/>
    <p:sldId id="286" r:id="rId109"/>
    <p:sldId id="287" r:id="rId110"/>
    <p:sldId id="288" r:id="rId111"/>
    <p:sldId id="289" r:id="rId112"/>
    <p:sldId id="290" r:id="rId113"/>
    <p:sldId id="291" r:id="rId114"/>
    <p:sldId id="292" r:id="rId115"/>
    <p:sldId id="293" r:id="rId116"/>
    <p:sldId id="294" r:id="rId117"/>
    <p:sldId id="295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notesMaster" Target="notesMasters/notesMaster1.xml"/><Relationship Id="rId79" Type="http://schemas.openxmlformats.org/officeDocument/2006/relationships/slide" Target="slides/slide1.xml"/><Relationship Id="rId80" Type="http://schemas.openxmlformats.org/officeDocument/2006/relationships/slide" Target="slides/slide2.xml"/><Relationship Id="rId81" Type="http://schemas.openxmlformats.org/officeDocument/2006/relationships/slide" Target="slides/slide3.xml"/><Relationship Id="rId82" Type="http://schemas.openxmlformats.org/officeDocument/2006/relationships/slide" Target="slides/slide4.xml"/><Relationship Id="rId83" Type="http://schemas.openxmlformats.org/officeDocument/2006/relationships/slide" Target="slides/slide5.xml"/><Relationship Id="rId84" Type="http://schemas.openxmlformats.org/officeDocument/2006/relationships/slide" Target="slides/slide6.xml"/><Relationship Id="rId85" Type="http://schemas.openxmlformats.org/officeDocument/2006/relationships/slide" Target="slides/slide7.xml"/><Relationship Id="rId86" Type="http://schemas.openxmlformats.org/officeDocument/2006/relationships/slide" Target="slides/slide8.xml"/><Relationship Id="rId87" Type="http://schemas.openxmlformats.org/officeDocument/2006/relationships/slide" Target="slides/slide9.xml"/><Relationship Id="rId88" Type="http://schemas.openxmlformats.org/officeDocument/2006/relationships/slide" Target="slides/slide10.xml"/><Relationship Id="rId89" Type="http://schemas.openxmlformats.org/officeDocument/2006/relationships/slide" Target="slides/slide11.xml"/><Relationship Id="rId90" Type="http://schemas.openxmlformats.org/officeDocument/2006/relationships/slide" Target="slides/slide12.xml"/><Relationship Id="rId91" Type="http://schemas.openxmlformats.org/officeDocument/2006/relationships/slide" Target="slides/slide13.xml"/><Relationship Id="rId92" Type="http://schemas.openxmlformats.org/officeDocument/2006/relationships/slide" Target="slides/slide14.xml"/><Relationship Id="rId93" Type="http://schemas.openxmlformats.org/officeDocument/2006/relationships/slide" Target="slides/slide15.xml"/><Relationship Id="rId94" Type="http://schemas.openxmlformats.org/officeDocument/2006/relationships/slide" Target="slides/slide16.xml"/><Relationship Id="rId95" Type="http://schemas.openxmlformats.org/officeDocument/2006/relationships/slide" Target="slides/slide17.xml"/><Relationship Id="rId96" Type="http://schemas.openxmlformats.org/officeDocument/2006/relationships/slide" Target="slides/slide18.xml"/><Relationship Id="rId97" Type="http://schemas.openxmlformats.org/officeDocument/2006/relationships/slide" Target="slides/slide19.xml"/><Relationship Id="rId98" Type="http://schemas.openxmlformats.org/officeDocument/2006/relationships/slide" Target="slides/slide20.xml"/><Relationship Id="rId99" Type="http://schemas.openxmlformats.org/officeDocument/2006/relationships/slide" Target="slides/slide21.xml"/><Relationship Id="rId100" Type="http://schemas.openxmlformats.org/officeDocument/2006/relationships/slide" Target="slides/slide22.xml"/><Relationship Id="rId101" Type="http://schemas.openxmlformats.org/officeDocument/2006/relationships/slide" Target="slides/slide23.xml"/><Relationship Id="rId102" Type="http://schemas.openxmlformats.org/officeDocument/2006/relationships/slide" Target="slides/slide24.xml"/><Relationship Id="rId103" Type="http://schemas.openxmlformats.org/officeDocument/2006/relationships/slide" Target="slides/slide25.xml"/><Relationship Id="rId104" Type="http://schemas.openxmlformats.org/officeDocument/2006/relationships/slide" Target="slides/slide26.xml"/><Relationship Id="rId105" Type="http://schemas.openxmlformats.org/officeDocument/2006/relationships/slide" Target="slides/slide27.xml"/><Relationship Id="rId106" Type="http://schemas.openxmlformats.org/officeDocument/2006/relationships/slide" Target="slides/slide28.xml"/><Relationship Id="rId107" Type="http://schemas.openxmlformats.org/officeDocument/2006/relationships/slide" Target="slides/slide29.xml"/><Relationship Id="rId108" Type="http://schemas.openxmlformats.org/officeDocument/2006/relationships/slide" Target="slides/slide30.xml"/><Relationship Id="rId109" Type="http://schemas.openxmlformats.org/officeDocument/2006/relationships/slide" Target="slides/slide31.xml"/><Relationship Id="rId110" Type="http://schemas.openxmlformats.org/officeDocument/2006/relationships/slide" Target="slides/slide32.xml"/><Relationship Id="rId111" Type="http://schemas.openxmlformats.org/officeDocument/2006/relationships/slide" Target="slides/slide33.xml"/><Relationship Id="rId112" Type="http://schemas.openxmlformats.org/officeDocument/2006/relationships/slide" Target="slides/slide34.xml"/><Relationship Id="rId113" Type="http://schemas.openxmlformats.org/officeDocument/2006/relationships/slide" Target="slides/slide35.xml"/><Relationship Id="rId114" Type="http://schemas.openxmlformats.org/officeDocument/2006/relationships/slide" Target="slides/slide36.xml"/><Relationship Id="rId115" Type="http://schemas.openxmlformats.org/officeDocument/2006/relationships/slide" Target="slides/slide37.xml"/><Relationship Id="rId116" Type="http://schemas.openxmlformats.org/officeDocument/2006/relationships/slide" Target="slides/slide38.xml"/><Relationship Id="rId117" Type="http://schemas.openxmlformats.org/officeDocument/2006/relationships/slide" Target="slides/slide39.xml"/><Relationship Id="rId118" Type="http://schemas.openxmlformats.org/officeDocument/2006/relationships/slide" Target="slides/slide40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 type="dt" idx="2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7" name="PlaceHolder 5"/>
          <p:cNvSpPr>
            <a:spLocks noGrp="1"/>
          </p:cNvSpPr>
          <p:nvPr>
            <p:ph type="ftr" idx="2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6"/>
          <p:cNvSpPr>
            <a:spLocks noGrp="1"/>
          </p:cNvSpPr>
          <p:nvPr>
            <p:ph type="sldNum" idx="2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1421-7F27-415B-A6BD-BAEB50E6E5D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Historia Pediat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N A Vargas   MD MPH  U.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D37C-03F6-433E-BF6A-38FF9E29FC1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5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4827-C058-482A-BA51-41A83BA8BBE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5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35C6-D7AB-4347-8B57-4BAFE1C6B80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5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65DA-FB6F-4ABA-9FB7-B1444257547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9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5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E999-03C7-425B-BB5C-2E846982E54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8958-DD29-4D2A-ABC4-115D396B7B2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5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E08-8014-48B6-B481-D366987D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76E-DC2E-4B28-9BE4-62C62D09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94504-4E10-492E-BE80-F749A673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4ABE8-6CAA-4993-9C5E-A92695A1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A6983-9584-4151-8E37-FB1A774C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C44E7-2AFF-41C8-9835-F00DC3B9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DB27F-1649-44EA-A92A-9F3B1984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3DA9E-2E03-40E7-9AA4-75F3FA11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B57B3-1DCB-45AA-87DF-462FBEBF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D6D1A-3378-4A1A-BB98-A0D6B826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871FF-9F36-4B82-B8E5-52DCC551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8688C-3B19-4AC1-9F2F-372141C0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9F9-5CE2-47A6-9BC2-658B20AF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FB108-94FD-4B7E-A2DA-36A5DF48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97FCB-3E56-41D9-9077-438E35CE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3D01D-5CAA-4C57-A836-A9308598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D3956-922F-415F-AE8A-34805644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F32D3-412B-45C2-B895-07C29CFA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98E72-9A71-43B7-9B6F-FDA046C4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B5C71-7AF4-4964-AB12-097B84FD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010CB-D47F-4175-B8E9-9AB87FC5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FCF7A-94B2-4B84-AAA6-DB9E3102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AA378-1B8E-4C5E-8656-B4EBBA1E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BC8-52E3-4608-A4C6-067CB799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D21C-1F5C-4FFB-87EF-86137145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AD45E-CFEF-43B0-A170-2CBFE2F9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E2A8E-9AA9-43C9-A679-985DDA2C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39FAB-8D8E-4CB4-A9DC-A135B714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51B22-F73E-482D-AFAD-F19BA202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76668-4635-4AF1-8598-B9B054C8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C876B-7C26-4E51-93D9-06E95D75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236B8-1A36-4F22-B996-791F9DB8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0C7F1-93EE-410B-8171-620EDBAE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E98E7-F0FC-404C-BC9F-C502D8F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0ACF-1DCC-4687-99E4-D3770C66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3C02A-7EC5-4339-B820-AFB54F24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B093A-7D79-46DB-B79B-F0B4D919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C3091-0EBE-487E-B38A-811961BE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428E1-2FE4-4D46-BF3D-B2FF57AA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BC044-D26D-4019-A35B-B9D25D2C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2D5C5-A2E7-4973-821F-5C4C841C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141D5-B83F-491E-9472-5AD99294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B2639-AFF2-4E77-A3FE-EA36A2F8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D0E2D-FA19-4F5F-9E1F-9D6FFFDA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C4EA8-B913-4651-9E47-E0695C59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EC18-8318-4B57-B6A8-F32406FC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535BE-49BD-4C9D-AB1B-0425B8AA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62B6E-5BA7-45FC-BA18-DDB097E1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39CD1-E7A9-44B2-BB49-E913C4C6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5CD64-3739-4C60-933F-E317340E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86975-10EF-4BBC-96F8-62AE5D12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84283-0869-4E31-9285-EFEFAB13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D87D5-7338-4F9C-9BD1-60265E1C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71D18-1ECC-43BC-A622-0B042651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7F239-960C-492E-AB17-FE140BBE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2990B-FAB5-4580-9703-D1B15A2D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39D8-F633-446E-A0D6-592BC429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2D69C-1C15-4F48-B9E1-E1D9EDE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8C3F5-6C00-4049-8111-4B2DAC32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244A3-E243-4739-BA3C-E83E2F3A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E6818-8DBC-46EB-80A5-4B963CB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5F5BD-A2F9-4B49-B2CD-A8B81C91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6E1B4-6425-4F62-9B94-5F3C5E7C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1F77E-31F3-4F7B-B91B-1C3960EB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10DB5-8FD5-4C80-B260-CED63677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074EB1-2D40-4BEA-9761-4D114184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49D67-D82A-420D-8B7B-E80DC2EA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BD3E-77AA-4279-A0B5-4E030CDA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BEADC-9F36-4D30-B40B-390FB68E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5C900-214A-49B7-B4CE-85361B6E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1316D-D891-42CF-959A-0BF66489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B3E2B-3D5A-4AF6-B73A-51303F46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5D7B4-42FB-44AB-8AD7-B123282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987C3-DCD8-440F-8996-14F705D6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C9508-376D-481A-AB45-169E09BC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FE523-A2F9-4759-88E0-8D0A47F5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87100-0D6E-4713-A68D-12F47A79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0F850-BB67-4968-81AC-B93EC213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9596-28F9-4FBC-9AFB-BAE00E4E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7EAF7-09B0-4010-9ACB-66636C33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09D9D4-BE42-427A-8ADD-98B71165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BA944-A439-4617-AFC4-E1EB94FC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A942D-9866-4B77-945D-02AB589F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91674-3394-48F1-BAC3-217AFFE2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F8B53-52F0-41BF-924E-3C3ABEC6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D4AD4-5B7B-4BFC-8E0A-83EE43EE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DB6E5-2F86-411A-9F42-E1FB394E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0CE62-B000-4964-B9B6-09476E6C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01BCB-0A99-47A1-85FC-BC885A39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A1E6-ADAF-4816-826F-ABBFC141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F61A4-85F1-4F9E-844A-B8FC72BB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6947C-FA2C-4C24-A86F-B95EF078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7F972-088A-44FC-90B6-98ACDE9E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EB48E-0B4E-4D2C-BCD7-40C96303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768EF5-CDE2-4C88-83B6-5876F03B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43551-B3D0-4CAE-9AEE-17948BA0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60D5B-9B1E-4328-89F7-DF461B8C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384EA-B58D-4E89-906F-D146A59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4ECF0-85D2-4A1C-87C9-A0E82E5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8D9B0-F11E-41A9-9F9B-E7A488CA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6D89-3CA5-4E49-AB03-BE9F9EB8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9FDF7-F0B3-4D15-AC6B-86B26DE7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D0D6C-658B-4F30-B30F-527EB6B3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3F7BB-E0C4-4C6C-A8FA-3AC00213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F09CB-B88C-4970-907A-6B4BA531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67AE2-0A89-4938-99A4-D68D3DF7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D1AAF-E72A-4B20-9129-212E27B3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E1CAB-A1E0-4756-827A-46465D95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EDFB2-B228-4F7B-A1D4-E9A83D69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AE5E8-62BA-4494-BAAF-F3CEC8A4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F61461-5EE9-40F1-A0B8-B69F2771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A51-EED7-493C-837A-DC1F4763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E34D-BA0E-4398-8A45-23A20CFA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3F645-FB91-40F1-9F5A-E7A3214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FDFA7-BAC9-4D97-A5C4-B390A620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CD959-0496-4905-8C1F-95EC4D3E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79435-2F15-4C44-ABA0-A6D4D839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F1446-7760-4B5B-AE23-121DD67F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5D571-38BF-4A94-BFEA-0FB461F9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BE9C8-8D30-4CFD-B364-24765555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175D7F-FEAC-42FE-8190-4CE6ACAA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49138-E5D6-49B9-8CC6-DF283299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05F03-186B-4D2E-BD59-6979DB08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4D17-9E00-4897-A615-1A4079B1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C04225-9437-45AA-B41B-E10A80C2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08E61-952B-4D00-B4CF-8381413F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F21DF-B982-4418-8E4F-7CB8BBB9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43593-D1ED-4C4B-9B8F-452142CA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7756B-C76F-486E-8DDC-999C345E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0B60C-6FB1-4578-921C-57C7F1FC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CE692-B3D0-4621-8B01-4FBC24A2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533C00-FFB6-4381-970D-57672C7B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7257DA-39A4-4EC3-8024-33A77FD3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00B04-BF5E-4DE0-B142-58F37727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33CD-9A53-44BE-880B-1784CBC2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27285-D957-48FB-A3C6-711B4EBE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C9CA77-6CEB-45A6-B9B9-928A3485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4EAEED-E5CD-45B0-838C-2AF58668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DCAD6A-DC31-4F4C-8B2D-EBBEB856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7EEA07-BA5A-44C1-B3F3-CC1AB4E8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597E3-2FA6-405D-BAF8-4051064D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A6D50-D0A8-498C-A3A2-31EDBAC2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0558FB-3813-4015-9F79-34B2A45C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25904C-38E6-4302-B7B3-828A33A0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20478F-7B9B-444A-8133-BABD8E26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6A73-4D0A-4B88-8BA7-9E0EF980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FBB7D6-800C-41AF-8114-585F317A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0456C3-CDFB-4AB9-87A0-98AA6D9B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CAE83A-6915-4A76-940E-3DB58989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0103B-316D-45C4-8C46-2197BD70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FD20E6-13D7-448B-9949-CE15735D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9D0A1-D8B5-4EA0-8086-B2F5D8B8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EAAA0-B109-436E-B8B3-F29FCCA8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D70A85-351B-4FB2-9497-D9D33CF1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08A0C-A3A7-4978-B737-3CC07833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9813F4-CDBD-428E-BFA4-467C6478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D2BB-0165-4D39-8A00-780F421D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C2DB5-09D3-4241-8C8E-D8733DF7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488755-53B2-4E9E-A838-B80EDF5F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45EEAC-F9BE-4AFF-BCF7-E2CB44C2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D1EC8D-5059-4356-90AE-9A0FAC76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952F31-4F4F-442A-8D32-42FE4D3F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A748B7-292B-4CF0-ACC7-B611EA81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456FF6-284E-43F3-89E8-8A3CF557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EB56C-17CD-4259-B417-9B936158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339B01-066B-4995-AC7A-F2A008BD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794041-069A-40FD-AD9F-D181D09B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07E9-2277-417E-9EB2-76E7E075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F607A-E1EF-4F38-82D9-900C147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FB6CDC-66DE-4850-898C-25F78396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CA4A2D-7279-4A2B-A341-41CD8B45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CC8EF-6825-4FF4-B163-E54404F6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F26B48-4F41-40AB-9E55-1602ADAC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F8A426-B4AE-4E45-9C80-9870DC9D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F46BEE-AE17-4D41-A322-8D2EF07F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852CC1-121A-432A-BCD2-32DED466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0E477B-634A-4370-A6D5-53597B8E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005835-6B93-40FE-A7C4-08B75AC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EEF6-106B-4831-AD48-A7937622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C54939-23F5-4B59-B809-83642C6E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CF0306-6401-42A5-B2FC-3016A6D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34330B-C064-41F9-82EF-D581DE29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315612-043C-4B3E-AF73-A7571655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3F716E-6D22-4F02-94CA-97B152F2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2D43AE-11C5-45B7-A902-5FA58C97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00C35E-3AD7-4252-A8CA-0AA0E445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E3F65A-24FE-4EAC-8DDF-2F6394E3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83D66D-5E70-4386-87D3-0523F8E0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98C811-AECE-44CF-8D23-1F976744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B16D3-5181-4B79-AB07-800956A0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EC7185-5A1A-4B0E-9460-A988B0E9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3050EB-E721-48F8-9E58-DA3FC35A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DCFEBB-E455-431B-A1EB-08B844AC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196B5F-8B1F-4CE5-8356-BB40B1C4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134DAB-8CA4-48ED-82B5-4219E0F5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1FD4F1-9C27-45D5-B6DB-7E563071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17B11F-CFA1-4E18-94C2-8693BB3D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90EAE3-68F6-4274-968B-C56D395B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FFEB9C-070A-4E6F-A71D-7AE2D1D1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A7CB6D-9E02-45D9-915F-6AE4C481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2D11-1B6F-4E4A-BE41-69556939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67AEFA-8577-440C-A292-1E63DF28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A17772-4D06-4FC2-806D-F3AF0C71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DEF5BA-A6B8-4028-BB1A-E810FD24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875122-4948-451F-A821-A80EF04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65BBF5-02A5-46E3-BD3E-E4DF668A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4FF730-295B-45AF-80C8-18659B0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523756-12A9-4D42-928A-177FC90C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488116-CC18-4195-AB45-16226F35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CF8C69-2C88-4E66-9B8C-53481160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6B27C1-E2F4-4988-BDD3-073654FD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E5AD5-57A5-4B7A-8F23-87D8D63C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209DA2-7C9B-4C17-8CB0-05C873FF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C543F1-0BFB-4240-9B3B-8552684D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318E1F-E03B-4107-BF9C-6B5B2BE5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384CB7-9918-4747-888C-9E5C1144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9C0072-0966-42E4-92DE-94232901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3E872A-3183-4B7C-8FFB-0C8C27AB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FC4413-2DD0-42A8-BDAE-335F8782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5DE4CA-81C6-4F2D-A50C-7C8A1DA5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E33B61-C5D1-4B0E-94D0-62C39C02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094003-1CA7-4561-A327-D7D172BC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54E-64F0-4818-8F63-A968AD86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D1B6-6222-41B2-ACF5-6C62B62A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3F6D1A-B871-4D87-BEE3-3FEFB1A0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853754-221A-48DC-8620-1BB10288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3C4DF6-44B7-41E3-A2A9-C7B29C55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337547-253E-4037-8CE8-CB60E361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B51FAA-9867-4E95-8801-A24C94E4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53F5B6-DD15-49DE-9B8F-E4FC9D12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67AE4E-358D-47C5-841D-1924E7EE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6F0DCE-824D-4D33-8651-7A7D7B15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A4ECC0-BAF3-41C6-8ECE-B6CE9FDA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EE31D5-4650-4942-B4C7-9B6445E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2160-264B-405E-B1F0-E71D7857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C20D62-6886-4E10-9598-9E0E4486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412257-A9CF-4286-92B5-5B0AA639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D33D7A-2646-41BA-B681-921FA6AA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C07FCF-B4E7-42F9-A510-B9204F82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8EA72F-453D-4EA1-8F07-CEEF12B7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B1DF39-13F6-4DEA-8B1D-1B8A34D1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03B5E5-5609-44FF-913D-33BB3368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53E142-B569-4CC5-A2F7-8B8A948D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F92E26-B070-4E7A-85C8-5C25FEFC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528159-9799-4A74-A433-8F940450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A2900-3886-4A97-92CD-96952CFC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5F6649-6877-44E4-91AA-1773AA63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43DFCA-837A-47F1-94B9-527A9B4C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D54A04-1378-408F-A67C-6A2A0BBB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55D20B-0058-49C5-97E1-817BDFE8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D5BBB7-E5BF-4C06-9183-033C8377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237C89-18DA-43A0-AAA7-57803582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956640-FE6E-406E-AE3A-ED3A6E61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2D11B5-7925-410B-B51A-2C942883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0C33C0-BA19-4573-A315-F4AF5CB7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CC9F2D-538A-48E3-8ED7-D19C0707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1652-6B72-41C1-A325-BB313C77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32FDE9-30D6-43FD-9C13-0A8657A3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96BF79-2DB2-4FD7-BC12-A6D14C8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4BAC02-E5E9-4729-8805-037E0511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10AB15-4065-4226-9D8A-CB57B0E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DBACF6-B7D9-4AD5-B2E9-2D43CE8D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FDC41E-8F88-4FB1-9D18-F22196C5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712523-B6F1-43B6-A888-2B7E62EC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60BF8C-9BD4-45F1-A4DF-6F4490B6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B38912-F01A-497E-95E7-08BA4C0E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E2EC65-124C-4126-B724-A982C7EE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2288-E393-4AC0-832D-D7BB3F9E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FAC279-3456-4193-9C47-F011A9A3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7E05C2-7DE5-43D8-BF5A-6CF2911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34A79E-F789-4409-835D-ECFFDEBC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46B27B-CE68-4109-9994-1CC254C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896F48-B4A3-4A96-8865-5EA5180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B468D2-D971-4634-A637-43EB62D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49120F-5699-4999-8579-0A76E074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5C3267-F050-4AF0-A955-3BE4E548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0CC50C-955D-4DA6-B854-57D7851E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BB4869-1561-4075-BD36-1DF4DA04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05709-136A-4FA7-9CCD-2CB78939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904362-AA04-4234-A456-7785358B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968146-5FE8-41AA-BC85-517913E9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248832-1AD7-4C7A-8769-0C62A799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47260E-45B1-42D6-9ECD-5EA7FBED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C4B4EF-168A-425F-B049-968EC5BA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C1AC18-596C-40F9-A45F-31AF6516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259003-C2E7-4092-9226-A82DA792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CF1071-11F4-4EA0-A073-52F67650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EE4DC9-D9FE-4FD6-B3FE-E8D88FD5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BE97FC-4508-437E-AB25-727AB69D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55D3-4B1E-4457-9D95-9DA596D9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67F491-5F8D-46C4-BD1B-BDFBF18C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92E5CF-1145-499A-A358-0F7AC105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1B9806-3056-41DD-82F0-39272434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489EE1-B80C-4AC9-8FE5-DBA2A022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2E6095-3326-4FE2-B8D9-7627EB39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9D868B-A289-4489-B6B6-AF5D70A7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1F4B96-2FB5-4856-9252-963330F8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119563-D402-44CC-A8A5-ED20D122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8A45F7-15A8-4FF7-A80E-C31C5FB5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9417A0-EF89-4BB9-93A0-716F24C2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A272-AE97-4AD9-806D-34438FCA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E3CAD3-4EEB-4531-8F74-7005610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0CCED4-1BC3-4454-B8A9-AD18CCCC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D8AB96-21DF-4538-98BB-C9247AB6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948B83-0CAE-4191-98C1-82F22622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00B01E-683C-4973-BA90-1A4C1BFB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F36D8E-891C-431B-93BD-60399869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142AEE-B843-4DE2-81D6-482D8A23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FA444B-1AB4-4C8A-B0A0-9CAD1474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4EC636-E7B9-4AAB-91A6-C21F0784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20220B-10CA-4BF8-8A95-213232AF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5D7E0-6E32-4D9F-A495-C3F4530A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0D8E81-2BEC-4DD8-8A7B-A81EA9A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5747C4-1F96-443C-8515-2EE35665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A19BB1-34C0-48B1-B418-5DBC4657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FB470F-0D7D-4972-A7AE-673C303A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758F94-0DEC-467C-8533-FAC15666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206E86-8D2A-43A0-A268-0DE41D46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DAD497-CADB-4D20-8898-F6585E65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05CFBF-8E67-4D9E-BBD5-A550BD6F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69A6E6-B50D-4450-8D7C-AE82300C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CC0A99-E9FA-4961-9161-4C3E2EAA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C5A1-5DAF-42C9-B112-A8A8A566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A647F2-25FF-4290-BD57-C3660AF0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AED12C-8986-45BC-9370-A3B6649B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1F3543-0E92-4271-B81F-AC8BE05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8D5ABE-D341-421C-A73F-24C2ED50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656119-74F9-4439-BDA2-E7381B53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CFDFFF-F72F-4874-9606-D1B07FA0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7498EB-88A3-45A6-9AD2-D116CD87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32B50E-D9EF-4A85-81BE-45F611A6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98EE00-266F-483D-977F-299E5F0E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219BDD-DAA3-4C16-9119-F739C0E5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EED-F1AE-4D64-A0D9-E89E0B00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C4B51-43F0-4D6F-8AB0-4A45C763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A431BB-94D3-4218-9872-BA56CD8F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AE6376-70EC-4A19-9936-E3EAE507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1266EE-8002-4898-B585-DF09E756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7B454B-20AA-4593-B886-4D8CDF93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4FB92D-25C1-4FF6-B0A9-E6E115B6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DBCA5B-086C-4D2C-ABBA-DD8F4CE0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BDDC20-4B38-4E89-9FA5-24E034F2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B58029-A410-4864-95EE-DBAB8713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136E6E-8B53-4AC6-9CED-2110F205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6FF9E6-2381-4F53-881F-8880C3B5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9D28F-8740-4D2A-9F6F-BC24BFAF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06E7BC-A58B-4FA6-9C50-2DA6EED9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5EBFF6-A587-4B0E-A188-C5445D1B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1EB058-5A48-4929-B7B2-8535B00E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F33E45-3ADA-4449-8783-801C1320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C80EC6-1853-4E61-8B31-BA44E43D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2C6017-64FD-402B-B0F2-EA670126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6BA56C-18A2-4B30-8A7C-1D26DCF5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7DE24C-B9CD-47A0-A25E-67C9896B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910C58-53FA-4BE8-8D04-25A903C8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9ADF93-E09F-41A7-B99D-11C55B3A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DD2CB-F882-40EA-B09B-4A003530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836324-6D3D-47E0-AA15-74C795A5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450D04-7852-44C0-8F84-18EAF6B9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29D762-F2BF-41B7-B7C7-D63538F6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5EDD1E-44EE-4173-B512-BF1D3C98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FF93AA-06E5-40B5-857D-EE2B99DA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5E839F-7FED-4392-BB26-BD8D9757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7C6604-00E6-4C91-905F-B52E07F1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B50804-0EC6-44D0-A28E-BD690263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62122C-7A19-4A52-829B-E74DB480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D846B6-89F0-4598-A543-5C1129B8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DDB8-57CB-44A9-9BEB-8FB1C79D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D6E60E-D9B6-487C-B3B2-E3134560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5CC6E2-0015-4680-B0CC-0FB6D07F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DC188A-28F1-42A1-86D5-99298920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8BCE6E-2B1E-42BD-B856-4829666D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6C7613-BC9B-42C6-82F7-9EF7B609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9DB013-C0DC-43CD-A714-4D62A888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744C8E-8AC0-4D3F-89AE-747B3D53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6C3A0A-F777-4BA4-81A4-77D20D2E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9339DD-317F-49EA-9553-C1D75B2A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305790-0F87-4E11-899E-1BC0F97C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36D3D-C486-4A2D-A2D6-03FCBF06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C98BD0-A779-42DE-9B16-881719AF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DCF8E9-CB5E-49D1-ADB9-C8DD220C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FFACD8-2FC0-45A2-93CF-CFC04D95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4AB760-3079-45B8-9526-2BA9C45B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C5486C-4D48-46DC-8CBE-364A7F31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7E0ACC3-4D1E-49A8-8D99-884F735A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68B92D-96B6-44EB-B526-32A13DC6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9A3997-7672-4AB3-9A84-4C9BA104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3F7BC9-5D31-4802-BF75-6A8DFDB8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D72D55-73A0-4303-B96B-9A00E744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709D-A830-44F6-B315-2DA826A6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12BA37-ACA7-42D6-806A-A44D2B83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D6CB9F2-0FDE-481A-8BD9-DE04F055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3B61FB-D02B-4731-972C-5B9B1C21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6C4DD23-C4F4-4163-BA13-3ECA8254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D7B555-8F0F-4346-8574-8862F643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C9EE6C1-2F24-47A5-8E99-59BF50C3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0196C0-4702-452F-9E2C-C2FD61EA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5C2F15-7EB3-46CC-9B22-DAE2C437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AAFBDD-0852-4832-99BF-D3176C1A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09CB14-100C-4015-9BB6-A155CE99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2F58-434A-4710-ABEB-7F5D45C3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87A47D-2388-40D9-BE01-6E769BEE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DDE45E-FBDE-40E3-8B2C-395DFC25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7D58378-3985-47BF-A397-CA6DAFDE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9E544D-DBED-4389-ACEF-FD3BA53E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B86D84-612A-4219-AB11-C04D5FF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9E90F72-384F-4336-8F12-0B3ED508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60351C2-DD91-4F98-A157-A9430019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FFF32A-8473-46FF-927C-5E65AB9E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8FB3F5-9288-4B3E-A500-FD240A06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83A203-116A-4419-9AAC-816ABFEB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A690-E90A-4E1D-91AA-7CBF890E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8BB2B7-0795-46BD-A284-CE21BC65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2CC46A-E483-4A41-A152-E634559B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419FF4-6A1F-4C52-B461-F4168035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5C9508-1789-42AE-AF5E-AB7ABA69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9A4D89A-A450-4DE4-AF67-D5B05DF7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BB6E97E-600C-4881-BB16-A3C1222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E47042-69F1-4128-A0E4-5FCFAC0D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8E01DB-29E2-47CF-8C8C-D2A8FCE9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7C6257-DF4A-4831-B76B-619C8C86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A47392-AD0F-4F85-8745-E2F26C01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06B2-8C30-4A1E-8100-14682F75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8AC7CDB-3813-4717-9F33-0B5D8A10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3F808C-6160-4F6F-95D3-64574C44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66251DE-08BE-4BA0-88C9-9254F17A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BC01E5-91FD-4F91-AC0C-57DA4609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EF6863-D5CD-4772-9271-BC6CC8CA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A5F3D56-DE10-4BCB-B24A-330CA9E7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56A9C9-7E81-45E3-89D3-7F72F86C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D3C7AE-EC1F-481B-823C-0C3A412B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0A2A05-02D5-4143-9A52-95775BE9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005559E-512D-4D30-8691-374815AE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273FF-97A5-4E60-9762-BF3163EF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E53B7C-B55C-42E5-864A-B1DD95C0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87547A-5084-471C-96AD-FBE5662F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2E82B18-F484-4C9A-9AFB-080705BB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D144C9D-71CF-4961-BEF9-21D56912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0F5E5D-F720-4A81-A569-F880BF75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F72A3B-D815-4D85-8BDE-81AC9268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E8BF3F-43C1-463C-8462-A70BEF6E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81D8C61-9C5E-4063-8F58-2E4E29AF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9586610-42AE-45C1-A102-7AB4B0E9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2DAD75-EC9F-4178-95CC-D2AAA908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636-B1E4-406F-B1D6-D466B3F5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D54CE-8A15-46B9-9CCF-6BCA5094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64158AB-8429-4893-A91D-50353985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4103A7-DF15-4B9D-B8FE-ECA4333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55F677-A8F4-4362-A85C-F380FA04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36ABC66-E08F-4CDE-9822-D8F059E8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8206FDD-9183-4E7C-81E7-1F433466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547539-9289-4409-8F36-980B49F2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C802AE2-D1D1-42D8-98BD-22E82929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D3619F-CCB7-4868-B782-B7FB9B05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5C68779-728C-4D89-9341-FE1A73FD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166F6B7-369B-47E3-AAC4-40301C4F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06220-06DB-474D-A8BF-34BE7AE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CF7EF0E-2F96-4E9F-A52B-707F5FCD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899C579-3DF2-4637-AE62-37190D2E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5B9042B-C809-4C0B-AC4F-C7238906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52F7918-1030-41F9-9D1D-136C3784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5951AAC-610B-47F8-A0E2-9410A46B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40D408-2A94-4329-B879-AC28A822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3DCBC1-BBF7-4A40-B39F-77E50367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18FA21-18A3-4CAF-AB46-9E1E0728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BA08B44-8055-48DC-A79F-351D7B12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310089-904D-4A66-9C18-183A2AF7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E62B0-C75C-4A7D-B259-75ABFAFA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B3BC68B-27B9-4C93-B17A-CF1FCBD9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909F66-9B4C-459B-8EB6-982244EF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8825459-CA92-4269-BE4F-64A01A4D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86CCE1-0FC3-4D0E-B81C-FCD053B5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1CD2AC-9F72-4521-A6BD-39B98A82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C50109E-C161-4046-ABD3-BD2B6F82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B9AD1C2-A37D-4A9D-89FE-E3610174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9D28FBE-3265-4F35-ACA6-24C650BB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9490D03-BC5E-45E4-B0E4-246B5239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F718BC-534B-49F1-ACE8-5BE6C3DB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ECDDE-702F-4760-9E19-A3C661C4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AA7236-AE01-47A6-BEE9-CE794619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743253-D8B4-40B2-8084-EEE0F3E5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72C8D35-2DF3-4F22-837D-BDBCF818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4F77525-776D-4DAE-B6A4-09FC24B1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F50612-95B7-434A-8E47-051AC165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1A7FE5E-C309-47A6-808F-51168245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5CBE2C-CD5A-41C2-BA51-D146CFC7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CAA54FB-3AB0-40BF-A145-3EBD74F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B445A1A-F800-4C73-B4E6-34642650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C075BA-68EE-4ABC-B7E7-24000B51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23DF0-0C17-46B0-812E-9010CBF1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E2457C-3B65-4D1E-9B72-50499E58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0177456-58D6-4B8C-9837-F9DB0BCF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54CECDE-0185-4A52-9F84-87703762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D0F10C8-860A-4C54-9C40-B0EC36BC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1AFDBD3-2E23-42E0-86ED-BE1CAE01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AFEA082-A4F9-4391-BD0E-F565228F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2A800B-7D6E-4590-8219-101A05FF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AAF6DD-49D6-419E-9651-6234223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9FB8C53-1DAA-482D-9F3D-BAEF885A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2BFF13A-2C78-437F-BB2A-CF1D589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C7A74-C001-497D-836A-66BB8E3D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59AA985-0B41-47AB-8586-C78816BD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6E97422-2F2C-48D3-B71F-F6139E56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82828E-C58C-45FC-96CA-7E34E10C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2446063-6C29-4998-8A1D-1D9EF9EB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5AD7B94-39C0-47E2-8E3A-E5D2A98A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69D8C7F-ABDD-4890-8E32-2F7ADA8C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5DBB9C0-A02C-42ED-A9C1-5251524E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E824EB7-1364-4314-95BE-AD14AE1D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4349C06-5574-44FD-BC14-28D7320A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39D336D-E559-4F2C-9C83-DFE01EC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E43A8-B9D1-459B-AA7A-AB0FB9AA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3C862E-4636-4A82-9AC7-CAEE03E6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BC7F525-6A9F-466A-BE25-C3EB7174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1892D79-FEA0-4B3E-AA49-E84F3B8A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D429292-B570-4E8C-93EE-DD0A17A0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A547EC8-71F2-41C4-ADD5-1916AE09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37D3D5A-3D66-4934-BF85-25DE3200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6EA8232-CD58-4C82-9E7D-67F57887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8A1D0F7-8ACF-4724-ABB3-BAAD079D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2BFA44-C68F-4EF4-A7F0-BD7AAFAE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F8A4A9-554A-4F22-8EAB-7BF6BE15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C23E2-E9FB-4C44-8D49-8FA24AB8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BF5603-F873-4FB0-84E5-06DBDE0E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E1D83B1-CE65-4632-B9FC-9CEE4A1B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A9B8D6-25AE-4880-9F87-3591A4C6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9378456-9160-4958-999A-CA5486F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228F250-407E-4BBD-B7A3-42AF399E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546E93-AEC6-48CA-B944-5814CA39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98B018-F372-4A67-B7C3-22FAE031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1E4A8C0-95EE-4EDA-B1E9-413786DF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1B3D00B-B5B6-4966-9544-7ACC31FE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56F7219-FD96-402D-8D1A-B4DA66FA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49EA8-D904-4B0E-B8D3-AB836204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1535B01-AD4C-42BA-A931-396C8505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30F2F14-4BD1-4AAA-82BD-AF7FC207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2E65111-28BB-4A48-8729-9859F6F0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46C3BA7-2DB7-49FC-B173-3D20699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AE9C8F0-3AF8-4C19-9FDA-D478C49D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47AF06A-44E7-4D58-9935-75BD2B6F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72E71E7-1477-4AA0-9D51-F3C2EFBC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FD30F91-1F0F-41AC-B273-9EEE792D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135FBD2-ED69-4FCD-948A-2A60DF36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5D10C3-D52B-467B-84D3-A4FB0AEA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0E1AD-D5A0-440C-8282-BF396768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EFA298B-26AA-43C9-9CDB-7D9FA086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04D1CAD-C176-4D81-AC40-841CDA19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3C49656-8E01-4044-B907-A11B1B00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9215C34-6D44-4C18-B329-60AD106E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D0EAD4F-8ABE-46BC-9254-E27A4174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F70A10C-0314-48CE-B18C-FEFAFDE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8BF7705-8C1A-4CEC-B626-CD6876D4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E3F121-421D-4E03-8F6B-891CBED7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52CC5DF-6277-4762-BFCD-E917729E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8D4BBCF-3E6F-48AF-9F0E-CABA9E45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5DC-08F8-4DB8-8899-BF8EF5CC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A98D-0D62-4DAE-869B-5FE1C325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7BCFD9A-70A1-4114-A573-3CD121C8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4AAA534-8980-4B8A-9C19-2AFBCD1D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9DB40D2-ECF0-4896-AEB6-7DB7F154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168F8E0-FA1C-437A-BF96-4A148924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B48CA0A-2047-44BB-B0B0-D2DBAE38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DF20E6E-13D8-410E-A9FB-314A8AA3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3AFF692-D807-49A4-9BEE-760D36D9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974D91B-663B-4E9E-BF50-71F5E665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7C295C2-C1BB-4AC5-B847-04A03426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A71C1A2-341C-4DD4-A11A-C5C7EDF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0C7F3-7642-4E9A-AA2E-102CE6D5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8D1D9AB-4955-4433-AF33-C192DCC8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A6CE695-898A-4776-B147-0330572D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D5AE8A9-0914-4788-A9DA-4E687183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B935C52-1405-4F80-8238-C048ED41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9E5D467-E939-4706-9867-034E607E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20A2D98-12D3-4BD6-87DC-96F7B57C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F76617-3629-4BA0-BF1D-42A04C2B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459FD7-49F3-40DE-9DEF-1A1D3DA0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B8770D8-EF20-40E7-A2FC-D1BCE5D2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AFA0A43-808C-48EC-B0EC-4607B80A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5B5A6-C868-4D5F-AB56-C9294896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0B1A8FA-5BF1-4BCA-9838-13E18B97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A1A5A14-CF90-4866-B264-E1D02B75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41DF444-F0D5-44A9-96BB-4AE0450D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9F41B4B-218C-4180-AAFA-8340A76F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3DFA13A-013F-4E53-84AF-6036A0D9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ED204EC-877C-497F-9F45-FB23CF27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5574D43-EDBC-47AD-B798-1C90C318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583451B-43D9-48D5-A355-53964756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AE93021-BE27-40B5-A92E-493F4CFB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08955CA-17AC-4B9B-86B5-4EEE261E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1B807-2677-48D5-B842-B2AF7F43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EDAB415-3A71-4D5D-846A-B86BB187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A5E1392-833E-467B-A367-8312173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710DADF-AAC8-49F5-90BD-861C74C2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80F4866-8CC2-4F3F-962C-249028E6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E48BDBC-D497-47D1-80D4-4AA4EF8D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05E5978-41E2-4F24-BEC1-ABD03DA9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03398BD-A27F-4D2E-B781-08C1B07A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F86AB4-AFD1-4EDE-BB73-C235CB43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3B5E7F0-BFDF-4D3D-97BD-CE44719A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AD7B82A-9602-4DAE-8EFE-CA38E3D7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2085-A503-41FD-B081-F4605B3D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14E9BB5-83E0-4E47-B4AA-3AE0CCC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36A30C8-556E-4787-A3C1-B221DA02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727D82C-BD14-446A-B0C3-AFAFFDE8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6FA325-A300-4598-A558-E8D68F62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4AA678-1AEE-42B3-AC25-9D14B517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DFAE061-193E-4F5A-9CD1-C22417D9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AA104A0-0894-452A-8472-5421CD52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B4AA51C-E1F9-4DF6-B9C5-B40C2185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63A7A9B-00A2-4746-BFF1-7BC9E24D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8FCD820-3ECE-4095-AC61-D3419220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D97C2-2E3B-4A35-96FF-09D0BD44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0AEFC4B-7882-45B1-B8EE-313283B8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D36C02-CC89-47B4-AA85-5A5E0B6B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D606C0-F4CC-4BF9-B82C-4468616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53ADA0-0F28-4EA2-89FE-599BF6F6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2FDFBB7-D1F9-41ED-9CC4-1340BB33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94A311-6477-42FA-ABE3-5BD98790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1B6D6A0-8908-4F83-A689-9D40F55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D5018C4-835B-4F7A-8ED7-F9F4C926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B62835F-B2DC-4A20-8106-2567AC62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E1683C-68AB-4FC9-8DF5-88EB9FDD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D053B-A558-4012-9B4F-C16FA05D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4A1C4CE-96FA-441C-B298-AC30E94F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A662E23-A680-4107-B4EC-D7BB7170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824B99C-A0DF-4CF1-BB3C-6282EAE8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C4B6544-085D-41B6-B3EF-8CA42BC5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04CEA63-8364-4FD4-B3AA-DE5AA30D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A11A65F-60E4-4053-AC36-C6E4082A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775036-36E5-4107-B7BB-E9CDDB85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3B862D-5DAF-4F2A-B2D9-688054C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6FEB100-BEE8-4A20-BD61-A6E0E239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CBBFB83-307D-452B-8EBE-2492D235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49F54-B05F-4649-A840-FCE91C2A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E631C25-341C-4EB2-B21B-E6874179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057DAE5-6A0E-4D00-9DED-1AB91099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58EE4D6-2A98-470E-B909-F741BBC6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AFCD20F-4148-445E-8C8A-F0761A11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3C5F7D4-6024-4C57-9AB8-D1E66395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406C175-27FA-42B4-AA9F-6C61BFCD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5617959-5F8F-4EA3-9A81-F264B0C5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3D1CD24-DC23-4324-A3E5-99CA3C76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AAB16FB-E1D9-43A4-8546-0BCE890E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411EB87-0C05-4FA0-83CC-B2F23EDC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1141D-85A6-4447-9616-5DE1FABF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D7C11EB-2CF5-4C21-9926-AE6B34E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08E8250-1CAF-4650-B56C-7593DD4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D3E2822-6C5E-4239-B468-4770D496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3C50C92-5660-41DE-9227-958DE2C9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B4C12DF-449D-428B-9E0A-0861FD13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A11EC79-7445-4CC5-B249-04DAD4F9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02313C6-00C6-4985-A962-EBE0AF21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A13E2AF-A35F-47EA-917C-58386A9F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BC8B7F5-6663-4D54-999C-E07385D8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749F31D-18E8-4554-BA63-92756C2C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0878-1061-4016-99AE-B2D98768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23EB7A9-90D9-4E76-A752-EAA911D9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AF37E0A-E77A-47C5-92FD-EBE69DE7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3DC8D70-6E20-4DD7-9ABC-7D903B08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6EA57A5-CC7F-4F0C-847B-644FBF24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ED77E5F-F9AA-4D27-9533-932628F1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EE078AE-42CC-4F29-A382-9688DACA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82E7C7E-FC12-4F78-AA93-04F6DAC3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E81023F-1027-486C-8D3E-68EC178F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D2091A2-315B-44D7-A312-814DBDE0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0594265-15FF-4E32-AAA4-22DA6B7C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91E-5E84-47F4-9E79-D58BF5F7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0D35C-E54A-4438-B21D-EB7D4E5A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467CD9C-FC93-41C1-95BA-B9E52F2E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997ED25-A564-432E-A6EB-FB9F1CD5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50302F8-500F-4951-8FF2-53E0A8A5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5B8423E-0F4B-407B-B12A-7843A8C2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6124719-7841-4D2B-8B81-D85D348F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623058B-E8B3-40B0-8384-DA0CF1B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CE29D3C-C34F-4D31-88F2-3CF8C25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163E2DC-4141-47D8-AF82-04C8A1D4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29C2878-6D3D-4640-B04F-1E5FBBAC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3EB0976-C8C4-4B28-B580-FA44F7B6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A5BBA-3798-40C4-835F-46E1FBC4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560C082-FECE-4140-BF28-02CE3A37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EB6445C-2A6F-48D5-B648-CA19BB26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EDCEE50-FE10-443B-A4E4-3B4A03B6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72FE21F-4D90-4E0D-AC26-BCB7707E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B254CD3-1A6C-4425-9451-A9056D31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19554E6-80FF-4B56-BE9D-B879A983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B23C664-65FA-48BB-A30F-56DF1B56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8569937-3BFE-43EC-B0B3-87D798AB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F493AB5-E900-4D0F-AF74-642B15B5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3E3F0B5-C65D-4581-86AB-018551A6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5B4B1-A94E-4FA5-AE48-F25CB34E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17AA668-9229-4FAF-8590-056D89C5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EE4046D-B7DE-42FD-B382-A901AB35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42147F1-FC52-49F5-AB72-C686CA9E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25583EB-F56F-4012-B888-2CECE8DC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6AA86FB-C085-4FBE-8883-159157FC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4651A49-B78A-4486-A752-4C4B2ACA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AFC96B1-8B54-49B7-8BF7-8E7ABE17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6774F42-EAB8-46B7-AA67-30A59D9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9B3AFA8-D181-4A60-BCA4-2BCAB526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8C39E2D-27C1-4C9D-9AE3-3D9D6717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6FA38-A944-4B65-B266-ACF94039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AF6205B-6327-4C8A-B64B-477541A9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38AD67F-FF42-45E3-A2D7-7BAEAA97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462F76E-4E05-4009-B75C-2D43FE41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EB5404E-8FEE-4813-AFEE-3DA7F712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CAF136D-2CCC-4DE3-8F9B-DF939A3F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33F8B1B-3EBB-40F9-A09B-D70E4DDE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662F9EF-6E71-4B23-90EE-BB0C53E8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FA97C5A-837E-4356-9360-0317F551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2DBBF4E-4573-456E-8528-9BBCBFF8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17F4A15-5D98-4BAF-B760-F551106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4F8AA-2E44-4501-8C60-F2D7F356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7D8A297-F52C-42C0-AC40-74895436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BDEFDCE-AA35-4B44-886C-F388F7FA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1348C7D-8A4E-494C-8AA7-F3497BFD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65DA4E9-4A0F-481E-8E78-9B3677FE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F9E556D-E56B-4EFA-BD09-CF3D4999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94F27E8-0D12-42F3-8665-047A7355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6EF18F1-1806-41B1-9B60-1A4295EA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EABE0E3-ACAC-44A9-BD3A-AB4C2947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6666596-63E6-46ED-8BB5-4FB6DD66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E382C85-05CD-48D9-BA9F-065E9A05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07ADA-A39E-4895-AB36-EE1D07F6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7BFC05F-CD17-48B4-85B8-3148C63A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699C5C4-136C-41F1-B44E-AE3836B6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641F352-FE02-4C97-A7CF-0C2DD13D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9A3806D-5299-47E2-8379-0059E129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1738A07-B2C3-4F2A-B784-67E5813C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1BD0C51-9C2C-488F-B4E2-A81630AE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2A5FE4D-314F-4BF1-96E2-3A6779C8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6E3591C-DB74-495E-B02E-2E43A174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F4FD061-A915-4DC6-AFB6-739EE28F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73C2063-D4BB-43C7-9786-298CD6CD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DD6A9-3675-411F-85F1-9283FAB7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E067566-1B49-4A5A-882D-161434F5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59EE327-F959-4EA2-8B73-12D4BA49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7608DB1-199D-4991-8885-528A9982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2BAB908-6870-466D-9D05-D38D1BD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385B9FB-1780-442C-A157-215A6217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DF3492E-3057-4ED3-BA42-30652FE1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2F14624-07D1-4476-B45F-BEF9C0CA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B9FA9CC-6E04-424C-A145-4BB3114B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9D2B781-48B5-4EBB-A146-27726B57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B7BA28C-6557-4141-B24D-1FA9CA23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6E846-C852-4406-8A94-BD5BF1BC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698E98D-B7E0-4B16-AF9B-3E51436B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5A7D092-2814-42AC-9ADF-78A2697F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23246C9-1E06-42D4-BA3F-027764F0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4CBF4E4-1AD6-4C4A-A585-479266D5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1F1071E-C4A2-4AE3-A4B6-9A2ED1CC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595B45A-58F9-4365-8740-99B2DE5A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8695BBD-DAD6-4A6C-A7CE-976B823E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D3EA1E0-1B23-4870-982B-C1EF0CCA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B88F807-74EA-4DB3-BEA1-F4E7C9BA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8D47CCC-21CD-4DFA-9564-96AF5264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F05DF-D07B-46CE-8C32-7719806A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82E10DF-937E-424A-85AC-C42230E7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DED8512-B04F-4DB4-9AEC-1AA862A0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1C6D2A5-709A-4430-A32B-23D964BE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E0374BD-281E-40F6-AFD6-26DB270A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4C7971F-D3AC-4414-BB4D-7219122D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BED86DC-5AE3-4366-B6FF-7BE37781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967C3BD-DDB1-4472-B48D-A8D392E6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7B924BF-C3D7-45A5-B1E1-D0F71F24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75DA762-A967-4FD4-B9B4-2B2096E9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BFC40E3-E99E-4FBF-AE6A-1DC0E7FE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D91EF-4F10-4B87-895C-3FF29DB4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6791D6B-0894-47C7-A92F-99042DA1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503A517-0B7C-4156-8EBC-39F9F970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130F2E8-CD06-453E-A935-7DF6C825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250A824-7D1E-4852-9CF3-F30A2947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5440B03-E9D0-479A-ACC8-06EA1C68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8ADFF7B-A3DA-4BAA-BD6F-E3C62543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CFCE7DD-41DF-4DD3-B5DF-C9080445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FB54061-FDD9-4473-A4F9-014E8556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89FDF64-76F7-4AE3-B095-0DBFE693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F297243-F11D-4C57-82FE-77F3FC4A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B69-DF9D-4E88-B70E-B2D9EFDA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6B544-D7DB-481F-B80D-DF18A9B0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FBEE664-393C-4711-9106-52626A1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AA7BE28-A044-4D93-9E62-4579A3BC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030FD3E-D931-4DCE-9E7F-59D7AB8C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24A2914-A2FD-4D5E-8356-024F7E3C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60D228C-DED8-4E7A-8F88-5425F523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2123508-9242-42DD-92D9-90B6D884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FA990E7-DA95-430D-A56A-269BC433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6540E58-0CA7-405B-9C6D-C58473B1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DBA1698-C433-4737-A8CB-16957BBF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D9BEA6F-19AC-4AAE-B458-ADE66957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E2682-0AF7-4610-AAE6-5DA37F25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A5B4A3C-7141-4AD6-99B8-4B590D8A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B3A6CAE-542F-41EF-B554-A2161F7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1B7813A-90D2-468B-9990-53969728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4C90DEA-E09C-4557-8912-1ABFDE8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7E3A2FB-4778-427A-B412-7355A018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020F711-EA90-4699-89B1-10F1F622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487A390-721A-40C7-AF3F-D8FC801C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61BBF16-3583-4D4E-8B49-DEEE27A1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22034DE-FE4C-455D-A37A-67158EDE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85DC9F3-9171-4990-87FD-93776FBF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C30A6-6E0F-41AA-9809-CD37F40A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C9E10A6-B311-4B6B-BDC7-B6F1C051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449F0DB-2CA2-4D5C-87BB-2456457C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F531B76-CD57-4636-A612-68E23752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79A01EA-F4B4-4AA7-81A1-5FD788BA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822AB73-9CF8-45BF-B929-69B4B43C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01C2441-A3A0-4B3A-BCE4-FF0E6D00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0827A53-F8B6-42C7-A3FC-C9BD09D7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F0755E7-232A-4E99-8437-C627A0F7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24427CF-5FFF-4C30-9EE8-29BA6883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C969886-DFCC-4A3F-9971-7EDBB09F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FBC18-E1C8-46A6-9249-D6C534BF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9C73D1C-464A-4E96-A6BE-DB3906C6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4ED4AB1-4B9C-478F-87A2-22F2000E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DF65A0F-E902-4ACE-9A65-E5712F4B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0F1BCE2-28D0-4168-9A69-39B02200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E626EC6-FA9D-414E-955B-C84ACA32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CCA3E7F-0E9B-40F9-ADCA-06CE637F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BEE79D7-1C19-48F3-B33F-66407ED3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85DE21D-86D2-4A1D-8DA9-58333B37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FD0BC08-3CF2-4480-AB2E-0B670D5C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BA4FEB7-6437-4A5B-B243-DB36CC5A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25E1D-0F85-4BAD-BEB8-94401F2A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7C282A4-0380-4C7E-8023-CA5A97A6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01BA284-F857-4010-B058-75AD177E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F450564-A62F-4B7D-BEDF-0352B873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B15ED45-0C90-4AE9-9058-51F3F64D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9742A75-BB7D-4C75-9B34-D84FBDBB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AD0427A-C49B-44E5-AB32-0415C144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507C564-237F-4D7B-8285-14012B23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850EB58-6FB4-4979-95A0-371BDDBC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0B7E50D-DFB0-4BB5-8F35-17D9B1D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3428F0C-D4A1-4076-8C66-B3960959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CE7EA-480B-45BC-B6AF-BAACC7AB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3623845-B030-4676-A0D5-CABAB5AB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82019AE-9F4F-4D00-BD8F-9DEDB19C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495B811-BD36-4366-9A8D-3CF83A68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42FBC50-9448-42B7-B4A5-6B1406F1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6AFE953-247C-4125-81A8-39D4ECC9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BC5945C-1935-4752-BCD6-1F2084E7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D085333-7D9F-401F-ADDE-55365596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B91B22F-81C0-43BB-BD97-6992FA83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A9A4C9E-EF88-477A-ADE2-0E38D68A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D10646C-092B-4F96-A7FB-1DF99B2A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E527B-752A-4832-89FE-A2D448B4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2501286-325E-46CE-BCE6-00A8AA9F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1CF2A01-FBA2-4EFA-8E43-193FD205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14DB79F-8A0E-4E60-B977-1544C36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AA94CAA-0E34-4B8A-ABA2-33708D98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53486C2-CE11-41FC-ABD1-1739AE8E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8F1F59E-F6F8-4994-B819-0B8C9655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1E23BE8-773A-4BCC-AECB-1E967F76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8453C4C-2C80-4BE2-A888-2F0996D4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5B75FE4-E050-424B-A6B7-227872B4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61C464C-06F7-4A48-B38C-D76359C2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FB9BE-7E84-4198-AB19-40BCAE7E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1CE3246-4CC2-431F-8C0D-7669E20A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A146773-F77D-438E-B4FB-CF067E46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30A28B4-5818-4695-B09B-E938409E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24E2F4E-388E-4FA3-8D88-0D65835A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D090D48-ED96-4470-9E2C-6FD4E49C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1F8B3E1-0276-4A72-A420-B6A01A6D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9FC7D50-4431-49D0-B8AD-213E29EC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5425218-2EC9-4A53-BEF9-3C86689B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DF36B1C-F05F-442C-AD1B-8F32C74E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507BE86-DB20-4037-8FA6-CFBF452E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F8C87-AFE6-4547-A831-A306D8A7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162207F-4F5F-4EAE-A128-8118349B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90B8B90-C386-4AC2-B30B-149843DA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F9A450E-8F49-4C2A-8181-174A1ED7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B2EA5A7-0DD6-49B9-B2A8-6EF3E7EA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B5F65B2-9FF5-4BEB-AF88-FF1B99DD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253A39D-5896-433A-969A-E6D300BA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650260C-467D-4A2A-BB1A-35F01569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A3FE9C2-777A-40D8-A33B-3614A819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3DD4027-C774-40D2-8A0F-09D5F2B2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73467D1-DA0E-4707-84F0-090EF648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E81C6-34B2-416E-A1EC-A9A8E4D9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EA8D283-EAE7-477D-AD23-724C9A0A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919EC83-D41D-4442-8DAC-985F8AC7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CB50414-B8E5-48F7-9710-A2EE9812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5A1949A-0445-4BF2-A36E-11208013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E011FFC-ECAC-4A19-B5D6-4720E3D7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C0979E6-786A-4A10-855E-C8AF525E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5B98122-08B5-488F-B58A-65E3F1CB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B520750-9F00-455A-97A3-8FC0E94F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8CC9D56-7174-4922-86A8-C798FE51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DD531B4-AF3D-4A40-B02D-7A3CD209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BF0-EDC2-4190-96C5-85458926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53A6F-B4A1-4E2B-A967-9E308EB0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CEF46D1-D147-44C4-AA25-1C09F31E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070B05A-D6BD-48A1-96AA-27842E55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3EF8C9B-6FF2-4188-B15F-DFFAE4C1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04E314D-8A8C-4451-A65C-2373F915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8DF9C80-A112-41A2-B7DA-9508F6D0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10B7E28-D33D-4CBA-8984-F04306E2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488793F-04C1-43D5-8086-9A6FC57A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AE25695-90D2-45B8-946A-799FBB4B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361981F-39EE-42EA-84D8-3516DC7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64C9B63-2C95-4A7D-8075-21EFFE1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FF557-5462-430D-974E-B41435E7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AB03CDA-2ED7-4F25-ABFB-5549909C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21A52D1-1336-49EF-B9A2-FAA0868B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B026BB0-A2F8-418E-9611-AD19D54E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9BD20-D9B4-4408-AA76-87D20994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83D1B-B20A-4228-B8A7-55FCFB92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8FBAC-16A1-4EA3-A2CA-DC9F3134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79E4B-FB65-4D98-9C8F-0566318B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7D1ED-A823-4C2A-B60B-6B6AD9BB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8DD30-3AC7-4DB4-9F37-D81F0952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C2585-51B4-471C-929D-6CB85E16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ADAFA-4CEC-4A4E-96E3-991AE83A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54E4-C885-4FF4-A76D-F592B747EF3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522E-2F78-4D62-A699-77A08CBD009D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FA62-7C28-4765-B06E-CDC7747BFF5E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108B-CBD1-448B-BEFB-A3AD66136691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52C6-7D71-460F-B761-DEEE82E7E677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9E28-47C7-4467-8797-4612926E22BD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428A-BC8B-4B3E-90D9-6A9AAED14E95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46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C48B-1E9F-4C6F-A814-A0F79D5B2F81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9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B86C-03E8-4080-BF33-35B4F946B9AB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52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E65B-2A2D-46D7-8543-4EBCE1E1FD3F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C:\pptwork\0723\서식용\BL02_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ACC8-6606-4345-AB6D-B840931EB36E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49E1-96D4-4A47-9D31-9CA2CFE13DCB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D409-382F-442B-84B3-3F8E86F0078B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61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62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63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2AB7-F5CB-4D2C-8926-0D7229E06617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64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65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66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9E01-D454-419F-A302-9B893AE963F6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7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8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9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9921-BF2F-4475-820B-03071F22ED76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70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71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 type="sldNum" idx="72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02F9-E74C-4525-BDC6-1B70E3EDE250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73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74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75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1D04-97DE-41C2-BAFD-6C4166E53FF5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dt" idx="76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77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sldNum" idx="78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32ED-CDE4-4806-9EAB-84949B23318A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9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80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81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7FAD-2CD4-44DC-9B10-C618BC250BD8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82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83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84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8FB3-1299-4C46-B2B7-42952C64B542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dt" idx="85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ftr" idx="86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sldNum" idx="87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C0C6-B718-4B9C-BFF6-04863012AB58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C241-1A28-4D81-86A1-2C04B481D906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0" y="0"/>
            <a:ext cx="9159840" cy="686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3"/>
          <p:cNvSpPr/>
          <p:nvPr/>
        </p:nvSpPr>
        <p:spPr>
          <a:xfrm>
            <a:off x="0" y="3433680"/>
            <a:ext cx="915984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4"/>
          <p:cNvSpPr/>
          <p:nvPr/>
        </p:nvSpPr>
        <p:spPr>
          <a:xfrm>
            <a:off x="343080" y="2295360"/>
            <a:ext cx="8458200" cy="2286000"/>
          </a:xfrm>
          <a:prstGeom prst="roundRect">
            <a:avLst>
              <a:gd name="adj" fmla="val 9306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Picture 5" descr="C:\Slide1.6\ClipArt\일반심볼\CA0209_6.emf"/>
          <p:cNvPicPr/>
          <p:nvPr/>
        </p:nvPicPr>
        <p:blipFill>
          <a:blip r:embed="rId2"/>
          <a:stretch/>
        </p:blipFill>
        <p:spPr>
          <a:xfrm>
            <a:off x="4038480" y="1143000"/>
            <a:ext cx="777960" cy="914400"/>
          </a:xfrm>
          <a:prstGeom prst="rect">
            <a:avLst/>
          </a:prstGeom>
          <a:ln w="0">
            <a:noFill/>
          </a:ln>
        </p:spPr>
      </p:pic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88"/>
          </p:nvPr>
        </p:nvSpPr>
        <p:spPr>
          <a:xfrm>
            <a:off x="6858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8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90"/>
          </p:nvPr>
        </p:nvSpPr>
        <p:spPr>
          <a:xfrm>
            <a:off x="6553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9735-6C4C-49DA-8551-BF13FB4875BD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7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268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269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990C-D127-410C-920E-0CDB9CF6D55D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315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316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D76A-0217-46B1-9EB6-5F3217086957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1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362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363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A9C-5C62-4A00-A6B3-AAEC8A2515D3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8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409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410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A5A9-0F0E-40A8-8516-755D7E9FB52E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456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457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802B-21D7-4C88-9326-1B5A1E50FEDD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2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503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504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A9BE-F441-4EA4-B2D3-FD10D8B63A00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9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550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551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696C-9CA4-4932-84A6-6C69C7F6D49A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597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598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1D61-E37A-435E-9507-8B02C00F35E3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644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645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AE1A-0755-4C0C-ABC7-18CC448DE000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29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B309-1AE9-424C-A32E-643A0A8F5FF6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0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691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692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4F22-243B-4C4E-92ED-2878909C93D5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5" name="Picture 2" descr="C:\pptwork\0723\서식용\BL02_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dt" idx="12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ftr" idx="12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 type="sldNum" idx="12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0D56-0588-488A-890E-2FC17C1D091C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7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 type="dt" idx="124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 type="ftr" idx="125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 type="sldNum" idx="126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BCFE-0D11-4A90-8D5E-F6104DEF8274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9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dt" idx="127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 type="ftr" idx="128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 type="sldNum" idx="129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3E99-82BA-46B2-9026-9B4817B1D0B9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130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131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132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4293-3630-435E-BC97-92B7BC1D8C46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3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133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ftr" idx="134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 type="sldNum" idx="135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54FE-51E9-4C77-9A4E-CFEAC35F5C0D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5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 type="dt" idx="136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 type="ftr" idx="137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 type="sldNum" idx="138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90F7-162F-489A-83C1-A02D106554C3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7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 type="dt" idx="139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 type="ftr" idx="140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 type="sldNum" idx="141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F501-58CD-41D6-BB12-F0332F2DDFD3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9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 type="dt" idx="142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 type="ftr" idx="143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 type="sldNum" idx="144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A1A5-7495-4271-AB57-5569E5C328F0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1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 type="dt" idx="145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 type="ftr" idx="146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 type="sldNum" idx="147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2F1A-3AEC-4CF5-AB01-3946823475DA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548-4DA9-45B3-BD54-01AD0D8014D2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3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148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149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150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0A4B-330A-4B75-8D41-FE4E4E45F4A3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5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 type="dt" idx="151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 type="ftr" idx="152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 type="sldNum" idx="153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10D1-E82E-48B9-8773-EB4AAD29F951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33E8-B159-4619-BC16-FAE678CEE04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A30D-C37A-4155-B751-473F4D900B2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 type="dt" idx="1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5"/>
          <p:cNvSpPr>
            <a:spLocks noGrp="1"/>
          </p:cNvSpPr>
          <p:nvPr>
            <p:ph type="sldNum" idx="1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60D4-D4F8-475B-BB1F-E6C26303F21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 type="dt" idx="1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 type="sldNum" idx="1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908D-9A03-4161-BC0E-5500C9E224D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578E-D845-4E83-8510-1236E880765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 type="dt" idx="16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 type="sldNum" idx="17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A9D9-7F34-4754-9640-A84C65B1986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 type="dt" idx="17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 type="sldNum" idx="17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BC20-79A4-4622-93EF-9BE94B7822E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dt" idx="17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 type="sldNum" idx="17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1B73-48B6-42D5-B653-82AD137713D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17C0-B870-499C-9F10-26DDBF43516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 type="dt" idx="17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5"/>
          <p:cNvSpPr>
            <a:spLocks noGrp="1"/>
          </p:cNvSpPr>
          <p:nvPr>
            <p:ph type="sldNum" idx="18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8B50-ACDE-4AB1-9DD1-2A3D8816240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 type="dt" idx="18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5"/>
          <p:cNvSpPr>
            <a:spLocks noGrp="1"/>
          </p:cNvSpPr>
          <p:nvPr>
            <p:ph type="sldNum" idx="18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86AC-8E91-4203-A408-F0318A9FF31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8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8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E943-4597-45EF-9157-E8677C19D7E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dt" idx="18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5"/>
          <p:cNvSpPr>
            <a:spLocks noGrp="1"/>
          </p:cNvSpPr>
          <p:nvPr>
            <p:ph type="sldNum" idx="18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D4DA-C994-4BAC-8044-781BBA8ECED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 type="dt" idx="19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5"/>
          <p:cNvSpPr>
            <a:spLocks noGrp="1"/>
          </p:cNvSpPr>
          <p:nvPr>
            <p:ph type="sldNum" idx="19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096C-858D-42FC-8518-151F80C23E6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 type="dt" idx="19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 type="ftr" idx="1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5"/>
          <p:cNvSpPr>
            <a:spLocks noGrp="1"/>
          </p:cNvSpPr>
          <p:nvPr>
            <p:ph type="sldNum" idx="19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B544-87D6-4894-B51D-340CD442329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dt" idx="19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 type="ftr" idx="1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 type="sldNum" idx="19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178A-ED48-4249-AE1C-711DD946D11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 type="dt" idx="19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5"/>
          <p:cNvSpPr>
            <a:spLocks noGrp="1"/>
          </p:cNvSpPr>
          <p:nvPr>
            <p:ph type="sldNum" idx="20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4D76-2DF5-40AC-98FC-CE9E277481C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 type="dt" idx="20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 type="ftr" idx="2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5"/>
          <p:cNvSpPr>
            <a:spLocks noGrp="1"/>
          </p:cNvSpPr>
          <p:nvPr>
            <p:ph type="sldNum" idx="20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534B-8932-4A2D-A291-D74D205B3E6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 type="dt" idx="2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5"/>
          <p:cNvSpPr>
            <a:spLocks noGrp="1"/>
          </p:cNvSpPr>
          <p:nvPr>
            <p:ph type="sldNum" idx="2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5602-4599-4F91-9E6D-B6B70B53B96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EAF7-C0D7-45C0-8883-02F77C9FA48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 type="dt" idx="2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4"/>
          <p:cNvSpPr>
            <a:spLocks noGrp="1"/>
          </p:cNvSpPr>
          <p:nvPr>
            <p:ph type="ftr" idx="2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5"/>
          <p:cNvSpPr>
            <a:spLocks noGrp="1"/>
          </p:cNvSpPr>
          <p:nvPr>
            <p:ph type="sldNum" idx="2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750E-328D-4C18-B24F-479DDB01E8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 type="dt" idx="2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 type="ftr" idx="2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 type="sldNum" idx="2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2D50-3676-4C82-8EC2-5E033074267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 type="dt" idx="2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4"/>
          <p:cNvSpPr>
            <a:spLocks noGrp="1"/>
          </p:cNvSpPr>
          <p:nvPr>
            <p:ph type="ftr" idx="2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5"/>
          <p:cNvSpPr>
            <a:spLocks noGrp="1"/>
          </p:cNvSpPr>
          <p:nvPr>
            <p:ph type="sldNum" idx="2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ABF5-4739-44DB-894B-AEDB100E30D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 type="dt" idx="2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 type="ftr" idx="2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 type="sldNum" idx="2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6E43-974D-44C5-A314-B41E489AA58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 type="dt" idx="2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4"/>
          <p:cNvSpPr>
            <a:spLocks noGrp="1"/>
          </p:cNvSpPr>
          <p:nvPr>
            <p:ph type="ftr" idx="2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5"/>
          <p:cNvSpPr>
            <a:spLocks noGrp="1"/>
          </p:cNvSpPr>
          <p:nvPr>
            <p:ph type="sldNum" idx="2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6749-5512-4CCE-9279-76AB1441980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 type="dt" idx="2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 type="ftr" idx="2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 type="sldNum" idx="2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9A1F-7F67-4E4D-8868-EDB00135353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 type="dt" idx="2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PlaceHolder 4"/>
          <p:cNvSpPr>
            <a:spLocks noGrp="1"/>
          </p:cNvSpPr>
          <p:nvPr>
            <p:ph type="ftr" idx="2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5"/>
          <p:cNvSpPr>
            <a:spLocks noGrp="1"/>
          </p:cNvSpPr>
          <p:nvPr>
            <p:ph type="sldNum" idx="2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463F-52D9-4E9F-9BA9-E26FBA2DA79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G:\파워프리젠테이션\ppt pro\배경서식작업\최종수\A_배경세트(13세트)\수정_미란(5세트)\12345\일반02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AE00-FDF5-4E1B-AACA-A3FE68B158D4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2598-48B3-4B47-A76B-94CD1728B699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es.wikipedia.org/wiki/Archivo:Boccaccio01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edicine_aryballos_Louvre_CA1989-2183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93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4321440" cy="3365640"/>
          </a:xfrm>
          <a:prstGeom prst="rect">
            <a:avLst/>
          </a:prstGeom>
          <a:solidFill>
            <a:srgbClr val="f7e7a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Concepto </a:t>
            </a: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de Medicina</a:t>
            </a: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          y </a:t>
            </a: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        sus </a:t>
            </a: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fundam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0" name="3 Marcador de contenido" descr="lirapedroElni%F1oenfermo.jpg"/>
          <p:cNvPicPr/>
          <p:nvPr/>
        </p:nvPicPr>
        <p:blipFill>
          <a:blip r:embed="rId1"/>
          <a:stretch/>
        </p:blipFill>
        <p:spPr>
          <a:xfrm>
            <a:off x="3059280" y="620640"/>
            <a:ext cx="5698800" cy="42483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sp>
        <p:nvSpPr>
          <p:cNvPr id="3231" name="4 Rectángulo"/>
          <p:cNvSpPr/>
          <p:nvPr/>
        </p:nvSpPr>
        <p:spPr>
          <a:xfrm>
            <a:off x="4074840" y="515772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04a7b"/>
                </a:solidFill>
                <a:latin typeface="Calibri"/>
              </a:rPr>
              <a:t>El niño enfermo. Pedro L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428400" y="1357200"/>
            <a:ext cx="8429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2d2db9"/>
                </a:solidFill>
                <a:latin typeface="Arial"/>
                <a:ea typeface="-윤고딕160"/>
              </a:rPr>
              <a:t>P</a:t>
            </a:r>
            <a:r>
              <a:rPr b="1" lang="es-CL" sz="2800" spc="-1" strike="noStrike">
                <a:solidFill>
                  <a:srgbClr val="2d2db9"/>
                </a:solidFill>
                <a:latin typeface="Arial"/>
                <a:ea typeface="-윤고딕160"/>
              </a:rPr>
              <a:t>recaver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(Del lat. </a:t>
            </a:r>
            <a:r>
              <a:rPr b="0" i="1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praecavēre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-윤고딕160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tr. Prevenir un riesgo, daño o peligro, para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          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guardarse de él y evitarlo. U. t. c. prnl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d2db9"/>
                </a:solidFill>
                <a:latin typeface="Arial"/>
                <a:ea typeface="-윤고딕160"/>
              </a:rPr>
              <a:t>Curar 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(Del lat. </a:t>
            </a:r>
            <a:r>
              <a:rPr b="0" i="1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curāre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, cuidar)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-윤고딕160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tr. Aplicar con éxito a un paciente los remedios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          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correspondientes a la remisión de una lesión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          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o dolencia. U. t. c. prnl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-윤고딕16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25718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-윤고딕160"/>
              </a:rPr>
              <a:t>Salud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 type="subTitle"/>
          </p:nvPr>
        </p:nvSpPr>
        <p:spPr>
          <a:xfrm>
            <a:off x="428760" y="2143080"/>
            <a:ext cx="7858080" cy="3286080"/>
          </a:xfrm>
          <a:prstGeom prst="rect">
            <a:avLst/>
          </a:prstGeom>
          <a:noFill/>
          <a:ln w="28440">
            <a:solidFill>
              <a:srgbClr val="22228b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Bookman Old Style"/>
                <a:ea typeface="-윤고딕160"/>
              </a:rPr>
              <a:t>Estado de 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Bookman Old Style"/>
                <a:ea typeface="-윤고딕160"/>
              </a:rPr>
              <a:t>completo bienestar físico, mental y social; 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Bookman Old Style"/>
                <a:ea typeface="-윤고딕160"/>
              </a:rPr>
              <a:t>y no solamente la ausencia de enfermedad</a:t>
            </a:r>
            <a:r>
              <a:rPr b="0" lang="es-CL" sz="24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-윤고딕160"/>
              </a:rPr>
              <a:t>Medicina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 type="subTitle"/>
          </p:nvPr>
        </p:nvSpPr>
        <p:spPr>
          <a:xfrm>
            <a:off x="428400" y="2000160"/>
            <a:ext cx="8001000" cy="3500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CIENCIA Y ARTE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de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precaver y curar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las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enfermedades,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con el fin último de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mantener la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salud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y prevenir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la enfermedad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-윤고딕160"/>
              </a:rPr>
              <a:t>Medicina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713880" y="1214280"/>
            <a:ext cx="80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OMS: Arte y ciencia 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Cuatro objetivos: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Recuperar la salud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Rehabilitar el paciente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Prevenir la enfermedad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Promover la salud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072560" cy="1143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c0000"/>
                </a:solidFill>
                <a:latin typeface="Calibri"/>
              </a:rPr>
              <a:t>Conciencia de daño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928440" y="2000160"/>
            <a:ext cx="3214440" cy="311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000"/>
                </a:solidFill>
                <a:latin typeface="Calibri"/>
              </a:rPr>
              <a:t>Comb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000"/>
                </a:solidFill>
                <a:latin typeface="Calibri"/>
              </a:rPr>
              <a:t>Traumatis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000"/>
                </a:solidFill>
                <a:latin typeface="Calibri"/>
              </a:rPr>
              <a:t>Catástrof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Enferme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5" name="4 CuadroTexto"/>
          <p:cNvSpPr/>
          <p:nvPr/>
        </p:nvSpPr>
        <p:spPr>
          <a:xfrm>
            <a:off x="4286160" y="2643120"/>
            <a:ext cx="39290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¿Porqu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Explicaciones var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664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Ley de la constante intelectual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de la humanida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"/>
          <p:cNvSpPr txBox="1"/>
          <p:nvPr/>
        </p:nvSpPr>
        <p:spPr>
          <a:xfrm>
            <a:off x="571320" y="2143080"/>
            <a:ext cx="5214600" cy="398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Frente a una dificultad, igu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roble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8" name="4 Marcador de contenido" descr="Adultos distintas razas.jpg"/>
          <p:cNvPicPr/>
          <p:nvPr/>
        </p:nvPicPr>
        <p:blipFill>
          <a:blip r:embed="rId1"/>
          <a:stretch/>
        </p:blipFill>
        <p:spPr>
          <a:xfrm>
            <a:off x="6715080" y="1714680"/>
            <a:ext cx="1800360" cy="165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69" name="5 Imagen" descr="Evolución humana.jpg"/>
          <p:cNvPicPr/>
          <p:nvPr/>
        </p:nvPicPr>
        <p:blipFill>
          <a:blip r:embed="rId2"/>
          <a:stretch/>
        </p:blipFill>
        <p:spPr>
          <a:xfrm>
            <a:off x="2286000" y="4357800"/>
            <a:ext cx="5929200" cy="203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713880" y="642960"/>
            <a:ext cx="82155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Seres inanimados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Huecuvú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Brujo o chamá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2214360" y="3357360"/>
            <a:ext cx="635796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e00bb"/>
                </a:solidFill>
                <a:latin typeface="Times New Roman"/>
              </a:rPr>
              <a:t>Era más que eso: Yerbas en infusiones y pa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vellano: astrin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Hinojo y mileu: diuré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alagüala: vermífugo y febrífu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aqui: diar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2" name="Picture 4" descr="franjaMapuche"/>
          <p:cNvPicPr/>
          <p:nvPr/>
        </p:nvPicPr>
        <p:blipFill>
          <a:blip r:embed="rId1"/>
          <a:stretch/>
        </p:blipFill>
        <p:spPr>
          <a:xfrm>
            <a:off x="457200" y="228600"/>
            <a:ext cx="8344080" cy="411120"/>
          </a:xfrm>
          <a:prstGeom prst="rect">
            <a:avLst/>
          </a:prstGeom>
          <a:ln w="0">
            <a:noFill/>
          </a:ln>
        </p:spPr>
      </p:pic>
      <p:pic>
        <p:nvPicPr>
          <p:cNvPr id="3273" name="Picture 5" descr="mapuche1"/>
          <p:cNvPicPr/>
          <p:nvPr/>
        </p:nvPicPr>
        <p:blipFill>
          <a:blip r:embed="rId2"/>
          <a:stretch/>
        </p:blipFill>
        <p:spPr>
          <a:xfrm>
            <a:off x="5500800" y="785880"/>
            <a:ext cx="3154320" cy="2079720"/>
          </a:xfrm>
          <a:prstGeom prst="rect">
            <a:avLst/>
          </a:prstGeom>
          <a:ln w="0">
            <a:noFill/>
          </a:ln>
        </p:spPr>
      </p:pic>
      <p:pic>
        <p:nvPicPr>
          <p:cNvPr id="3274" name="Picture 6" descr="franjaMapuche"/>
          <p:cNvPicPr/>
          <p:nvPr/>
        </p:nvPicPr>
        <p:blipFill>
          <a:blip r:embed="rId3"/>
          <a:stretch/>
        </p:blipFill>
        <p:spPr>
          <a:xfrm>
            <a:off x="457200" y="5791320"/>
            <a:ext cx="83440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57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Dios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428400" y="1928880"/>
            <a:ext cx="7257960" cy="4186080"/>
          </a:xfrm>
          <a:prstGeom prst="rect">
            <a:avLst/>
          </a:prstGeom>
          <a:noFill/>
          <a:ln w="19080">
            <a:solidFill>
              <a:srgbClr val="604a7b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alibri"/>
              </a:rPr>
              <a:t>Teoría teúrg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astigo div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Imhot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7" name="6 Marcador de contenido" descr="Imhotep.jpg"/>
          <p:cNvPicPr/>
          <p:nvPr/>
        </p:nvPicPr>
        <p:blipFill>
          <a:blip r:embed="rId1"/>
          <a:stretch/>
        </p:blipFill>
        <p:spPr>
          <a:xfrm>
            <a:off x="5072040" y="428760"/>
            <a:ext cx="1857240" cy="2860560"/>
          </a:xfrm>
          <a:prstGeom prst="rect">
            <a:avLst/>
          </a:prstGeom>
          <a:ln w="57240">
            <a:solidFill>
              <a:srgbClr val="17375e"/>
            </a:solidFill>
            <a:miter/>
          </a:ln>
        </p:spPr>
      </p:pic>
      <p:pic>
        <p:nvPicPr>
          <p:cNvPr id="3278" name="7 Imagen" descr="Siva.jpg"/>
          <p:cNvPicPr/>
          <p:nvPr/>
        </p:nvPicPr>
        <p:blipFill>
          <a:blip r:embed="rId2"/>
          <a:stretch/>
        </p:blipFill>
        <p:spPr>
          <a:xfrm>
            <a:off x="571680" y="3857760"/>
            <a:ext cx="2214360" cy="2527200"/>
          </a:xfrm>
          <a:prstGeom prst="rect">
            <a:avLst/>
          </a:prstGeom>
          <a:ln w="76320">
            <a:solidFill>
              <a:srgbClr val="604a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1143000"/>
          </a:xfrm>
          <a:prstGeom prst="rect">
            <a:avLst/>
          </a:prstGeom>
          <a:noFill/>
          <a:ln w="9360">
            <a:solidFill>
              <a:srgbClr val="180c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Giovanni  Bocac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0" name="4 Marcador de contenido" descr="Decameron 1.jpg"/>
          <p:cNvPicPr/>
          <p:nvPr/>
        </p:nvPicPr>
        <p:blipFill>
          <a:blip r:embed="rId1"/>
          <a:stretch/>
        </p:blipFill>
        <p:spPr>
          <a:xfrm>
            <a:off x="571680" y="1857240"/>
            <a:ext cx="3000240" cy="1892520"/>
          </a:xfrm>
          <a:prstGeom prst="rect">
            <a:avLst/>
          </a:prstGeom>
          <a:ln w="57240">
            <a:solidFill>
              <a:srgbClr val="4f6228"/>
            </a:solidFill>
            <a:miter/>
          </a:ln>
        </p:spPr>
      </p:pic>
      <p:pic>
        <p:nvPicPr>
          <p:cNvPr id="3281" name="5 Marcador de contenido" descr="Decameron 2.jpg"/>
          <p:cNvPicPr/>
          <p:nvPr/>
        </p:nvPicPr>
        <p:blipFill>
          <a:blip r:embed="rId2"/>
          <a:stretch/>
        </p:blipFill>
        <p:spPr>
          <a:xfrm>
            <a:off x="6948360" y="260280"/>
            <a:ext cx="1258920" cy="2136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282" name="Picture 2" descr="http://upload.wikimedia.org/wikipedia/commons/thumb/2/25/Boccaccio01.jpg/250px-Boccaccio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1844640"/>
            <a:ext cx="2663640" cy="4497480"/>
          </a:xfrm>
          <a:prstGeom prst="rect">
            <a:avLst/>
          </a:prstGeom>
          <a:ln w="57240">
            <a:solidFill>
              <a:srgbClr val="7f7f7f"/>
            </a:solidFill>
            <a:miter/>
          </a:ln>
        </p:spPr>
      </p:pic>
      <p:sp>
        <p:nvSpPr>
          <p:cNvPr id="3283" name="6 CuadroTexto"/>
          <p:cNvSpPr/>
          <p:nvPr/>
        </p:nvSpPr>
        <p:spPr>
          <a:xfrm>
            <a:off x="1000080" y="41432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mienzos del siglo XI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6 CuadroTexto"/>
          <p:cNvSpPr/>
          <p:nvPr/>
        </p:nvSpPr>
        <p:spPr>
          <a:xfrm>
            <a:off x="743040" y="4581360"/>
            <a:ext cx="28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8000"/>
                </a:solidFill>
                <a:latin typeface="Bookman Old Style"/>
              </a:rPr>
              <a:t>Y digo pu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180c00"/>
                </a:solidFill>
                <a:latin typeface="Calibri"/>
              </a:rPr>
              <a:t>Tales de Mileto: Siglo 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3499920" y="1643040"/>
            <a:ext cx="5186520" cy="4525920"/>
          </a:xfrm>
          <a:prstGeom prst="rect">
            <a:avLst/>
          </a:prstGeom>
          <a:solidFill>
            <a:srgbClr val="f7e7a3"/>
          </a:solidFill>
          <a:ln w="9360">
            <a:solidFill>
              <a:srgbClr val="1e1c1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Escuela Jó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Sustancia origen. Physis: ag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7" name="4 CuadroTexto"/>
          <p:cNvSpPr/>
          <p:nvPr/>
        </p:nvSpPr>
        <p:spPr>
          <a:xfrm>
            <a:off x="4929120" y="3286080"/>
            <a:ext cx="3357720" cy="1923480"/>
          </a:xfrm>
          <a:prstGeom prst="rect">
            <a:avLst/>
          </a:prstGeom>
          <a:solidFill>
            <a:srgbClr val="371b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Aesclepio o Escula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Sus h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Higeia : Diosa de la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(espo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Panacea : Todo lo c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8" name="Picture 7" descr="Physician treating a patient. Louvre Museum, Paris, Franc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571760"/>
            <a:ext cx="1901880" cy="17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289" name="Picture 1028" descr="019_vestales_002.jpg image by lillyanna"/>
          <p:cNvPicPr/>
          <p:nvPr/>
        </p:nvPicPr>
        <p:blipFill>
          <a:blip r:embed="rId3"/>
          <a:stretch/>
        </p:blipFill>
        <p:spPr>
          <a:xfrm>
            <a:off x="785880" y="3571920"/>
            <a:ext cx="1612800" cy="271476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6715080" cy="14702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s-MX" sz="4400" spc="-1" strike="noStrike">
                <a:solidFill>
                  <a:srgbClr val="00b050"/>
                </a:solidFill>
                <a:latin typeface="Calibri"/>
              </a:rPr>
              <a:t>2  Tareas prev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 type="subTitle"/>
          </p:nvPr>
        </p:nvSpPr>
        <p:spPr>
          <a:xfrm>
            <a:off x="1371600" y="2999880"/>
            <a:ext cx="6400800" cy="26384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Calibri"/>
              </a:rPr>
              <a:t>¡¡ GRACIAS 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Esta es 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Calibri"/>
              </a:rPr>
              <a:t>Universidad del Nombre Bon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4" name="3 Imagen" descr="Escudo U color.jpg"/>
          <p:cNvPicPr/>
          <p:nvPr/>
        </p:nvPicPr>
        <p:blipFill>
          <a:blip r:embed="rId1"/>
          <a:stretch/>
        </p:blipFill>
        <p:spPr>
          <a:xfrm>
            <a:off x="6143760" y="500040"/>
            <a:ext cx="23320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Hipócrates de 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1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2842920" cy="3232080"/>
          </a:xfrm>
          <a:prstGeom prst="rect">
            <a:avLst/>
          </a:prstGeom>
          <a:ln w="0">
            <a:noFill/>
          </a:ln>
        </p:spPr>
      </p:pic>
      <p:sp>
        <p:nvSpPr>
          <p:cNvPr id="3292" name="3 Rectángulo"/>
          <p:cNvSpPr/>
          <p:nvPr/>
        </p:nvSpPr>
        <p:spPr>
          <a:xfrm>
            <a:off x="3714840" y="1428840"/>
            <a:ext cx="50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(460-375 AC)  </a:t>
            </a:r>
            <a:r>
              <a:rPr b="1" i="1" lang="es-CL" sz="1800" spc="-1" strike="noStrike">
                <a:solidFill>
                  <a:srgbClr val="000000"/>
                </a:solidFill>
                <a:latin typeface="Calibri"/>
              </a:rPr>
              <a:t>Aires, aguas y lugares: </a:t>
            </a: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importancia del ambiente como causa de enferme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4 CuadroTexto"/>
          <p:cNvSpPr/>
          <p:nvPr/>
        </p:nvSpPr>
        <p:spPr>
          <a:xfrm>
            <a:off x="4572000" y="2214720"/>
            <a:ext cx="3000240" cy="642600"/>
          </a:xfrm>
          <a:prstGeom prst="rect">
            <a:avLst/>
          </a:prstGeom>
          <a:noFill/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rpus hippocra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Agua, aire, tierra y fu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5 CuadroTexto"/>
          <p:cNvSpPr/>
          <p:nvPr/>
        </p:nvSpPr>
        <p:spPr>
          <a:xfrm>
            <a:off x="4000680" y="4714920"/>
            <a:ext cx="4214520" cy="642600"/>
          </a:xfrm>
          <a:prstGeom prst="rect">
            <a:avLst/>
          </a:prstGeom>
          <a:noFill/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Humores de la v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Sangre, flema, bilis negra y bilis ama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6 CuadroTexto"/>
          <p:cNvSpPr/>
          <p:nvPr/>
        </p:nvSpPr>
        <p:spPr>
          <a:xfrm rot="20310600">
            <a:off x="4502520" y="3456000"/>
            <a:ext cx="2992680" cy="581400"/>
          </a:xfrm>
          <a:prstGeom prst="rect">
            <a:avLst/>
          </a:prstGeom>
          <a:solidFill>
            <a:srgbClr val="984807"/>
          </a:solidFill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Des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7 CuadroTexto"/>
          <p:cNvSpPr/>
          <p:nvPr/>
        </p:nvSpPr>
        <p:spPr>
          <a:xfrm>
            <a:off x="857160" y="5643720"/>
            <a:ext cx="4357800" cy="459720"/>
          </a:xfrm>
          <a:prstGeom prst="rect">
            <a:avLst/>
          </a:prstGeom>
          <a:solidFill>
            <a:srgbClr val="660033"/>
          </a:solidFill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Ruptura del equilibro: Discr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785520" y="928440"/>
            <a:ext cx="70722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Calibri"/>
              </a:rPr>
              <a:t>Alejandría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(disección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8" name="Picture 2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2328840" cy="2916000"/>
          </a:xfrm>
          <a:prstGeom prst="rect">
            <a:avLst/>
          </a:prstGeom>
          <a:ln w="0">
            <a:noFill/>
          </a:ln>
        </p:spPr>
      </p:pic>
      <p:pic>
        <p:nvPicPr>
          <p:cNvPr id="3299" name="Picture 3" descr=""/>
          <p:cNvPicPr/>
          <p:nvPr/>
        </p:nvPicPr>
        <p:blipFill>
          <a:blip r:embed="rId2"/>
          <a:stretch/>
        </p:blipFill>
        <p:spPr>
          <a:xfrm>
            <a:off x="4500720" y="3214800"/>
            <a:ext cx="2828880" cy="2714400"/>
          </a:xfrm>
          <a:prstGeom prst="rect">
            <a:avLst/>
          </a:prstGeom>
          <a:ln w="57240">
            <a:solidFill>
              <a:srgbClr val="1025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4214880" y="528588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Ali ibn-sinab  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 Avice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1" name="Picture 2" descr=""/>
          <p:cNvPicPr/>
          <p:nvPr/>
        </p:nvPicPr>
        <p:blipFill>
          <a:blip r:embed="rId1"/>
          <a:stretch/>
        </p:blipFill>
        <p:spPr>
          <a:xfrm>
            <a:off x="642960" y="2428920"/>
            <a:ext cx="2365200" cy="3429000"/>
          </a:xfrm>
          <a:prstGeom prst="rect">
            <a:avLst/>
          </a:prstGeom>
          <a:ln w="0">
            <a:noFill/>
          </a:ln>
        </p:spPr>
      </p:pic>
      <p:sp>
        <p:nvSpPr>
          <p:cNvPr id="3302" name="1 Título"/>
          <p:cNvSpPr/>
          <p:nvPr/>
        </p:nvSpPr>
        <p:spPr>
          <a:xfrm>
            <a:off x="42876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Kitab al-qanun fi al-ti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non de med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3" name="Picture 3" descr=""/>
          <p:cNvPicPr/>
          <p:nvPr/>
        </p:nvPicPr>
        <p:blipFill>
          <a:blip r:embed="rId2"/>
          <a:stretch/>
        </p:blipFill>
        <p:spPr>
          <a:xfrm>
            <a:off x="4643280" y="2143080"/>
            <a:ext cx="3533760" cy="26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verr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"/>
          <p:cNvSpPr txBox="1"/>
          <p:nvPr/>
        </p:nvSpPr>
        <p:spPr>
          <a:xfrm>
            <a:off x="456840" y="1600200"/>
            <a:ext cx="304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lcan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6" name="Picture 3" descr=""/>
          <p:cNvPicPr/>
          <p:nvPr/>
        </p:nvPicPr>
        <p:blipFill>
          <a:blip r:embed="rId1"/>
          <a:stretch/>
        </p:blipFill>
        <p:spPr>
          <a:xfrm>
            <a:off x="5857920" y="428760"/>
            <a:ext cx="2278080" cy="1785960"/>
          </a:xfrm>
          <a:prstGeom prst="rect">
            <a:avLst/>
          </a:prstGeom>
          <a:ln w="38160">
            <a:solidFill>
              <a:srgbClr val="953735"/>
            </a:solidFill>
            <a:miter/>
          </a:ln>
        </p:spPr>
      </p:pic>
      <p:pic>
        <p:nvPicPr>
          <p:cNvPr id="3307" name="Picture 4" descr=""/>
          <p:cNvPicPr/>
          <p:nvPr/>
        </p:nvPicPr>
        <p:blipFill>
          <a:blip r:embed="rId2"/>
          <a:stretch/>
        </p:blipFill>
        <p:spPr>
          <a:xfrm>
            <a:off x="3714840" y="2714760"/>
            <a:ext cx="1709640" cy="23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08" name="1 Título"/>
          <p:cNvSpPr/>
          <p:nvPr/>
        </p:nvSpPr>
        <p:spPr>
          <a:xfrm>
            <a:off x="5857920" y="3357720"/>
            <a:ext cx="29289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alibri"/>
              </a:rPr>
              <a:t>Moshé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alibri"/>
              </a:rPr>
              <a:t>b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alibri"/>
              </a:rPr>
              <a:t>Maim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alibri"/>
              </a:rPr>
              <a:t>Médico, rabino y teó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alibri"/>
              </a:rPr>
              <a:t>de Al Anda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8358120" cy="52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Thomas Sydenham 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(1624-89)  y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Giovanni María Lancisi 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(1654-1720)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Teoría de los miasma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junto de emanaciones fétidas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e suelos y aguas impuras,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ausa de enfermedad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                                             Atuendo médico: peste negr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0" name="4 Marcador de contenido" descr="Medico_peste.jpg"/>
          <p:cNvPicPr/>
          <p:nvPr/>
        </p:nvPicPr>
        <p:blipFill>
          <a:blip r:embed="rId1"/>
          <a:stretch/>
        </p:blipFill>
        <p:spPr>
          <a:xfrm>
            <a:off x="5572080" y="571680"/>
            <a:ext cx="28576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66"/>
                </a:solidFill>
                <a:latin typeface="-솔잎M"/>
              </a:rPr>
              <a:t>¿Culpables humanos?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38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Gitanos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Judíos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Minorías étnicas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-윤고딕140"/>
              </a:rPr>
              <a:t>                                         </a:t>
            </a:r>
            <a:r>
              <a:rPr b="1" lang="es-MX" sz="3000" spc="-1" strike="noStrike">
                <a:solidFill>
                  <a:srgbClr val="ffffff"/>
                </a:solidFill>
                <a:latin typeface="-윤고딕140"/>
              </a:rPr>
              <a:t>¿Pretexto?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66"/>
                </a:solidFill>
                <a:latin typeface="-솔잎M"/>
              </a:rPr>
              <a:t>Visión siglo XIX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3246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-윤고딕140"/>
              </a:rPr>
              <a:t>¿mo</a:t>
            </a:r>
            <a:r>
              <a:rPr b="1" lang="es-CL" sz="3000" spc="-1" strike="noStrike">
                <a:solidFill>
                  <a:srgbClr val="ffffff"/>
                </a:solidFill>
                <a:latin typeface="-윤고딕140"/>
              </a:rPr>
              <a:t>nocausalidad?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Desarrollo de la bacteriología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    </a:t>
            </a: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(un agente, una causa, un resultado)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Histología,       Bichat y Morgagni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Citología,          Virchow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Bacteriología,  Pasteu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isiopatología, Claude Bernard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5" name="Picture 4" descr=""/>
          <p:cNvPicPr/>
          <p:nvPr/>
        </p:nvPicPr>
        <p:blipFill>
          <a:blip r:embed="rId1"/>
          <a:stretch/>
        </p:blipFill>
        <p:spPr>
          <a:xfrm>
            <a:off x="428760" y="79200"/>
            <a:ext cx="83581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-윤고딕160"/>
              </a:rPr>
              <a:t>Médico/a   debe …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285480" y="1295280"/>
            <a:ext cx="8705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binar conocimiento médico y científico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Habilidades técnicas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uición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Buen criterio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alor humano, tacto, simpatía y comprensión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raje, humildad, sabiduría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Nada humano es extraño o repulsivo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-윤고딕160"/>
              </a:rPr>
              <a:t>Circunstancias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285480" y="1295280"/>
            <a:ext cx="8705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En el caso de ustedes y en el tiempo de la obsolescencia 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no sabemos …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¿Qué van a hacer?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¿De qué maneras lo van a tener que hacer?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¿Dónde lo van a hacer?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¿Con qué lo van a hacer?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1571760" y="213840"/>
            <a:ext cx="72151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-윤고딕160"/>
              </a:rPr>
              <a:t>¿Dónde estamos?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285840" y="1125000"/>
            <a:ext cx="85341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ndalus"/>
                <a:ea typeface="Andalus"/>
              </a:rPr>
              <a:t>Quinta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Normal                                                                                           Biblioteca de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Santiago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</a:t>
            </a:r>
            <a:r>
              <a:rPr b="1" lang="es-ES" sz="2000" spc="-1" strike="noStrike">
                <a:solidFill>
                  <a:srgbClr val="800000"/>
                </a:solidFill>
                <a:latin typeface="Andalus"/>
                <a:ea typeface="Andalus"/>
              </a:rPr>
              <a:t>Avenida</a:t>
            </a:r>
            <a:r>
              <a:rPr b="0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Planetario     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ndalus"/>
                <a:ea typeface="Andalus"/>
              </a:rPr>
              <a:t>             </a:t>
            </a:r>
            <a:r>
              <a:rPr b="1" lang="es-ES" sz="2000" spc="-1" strike="noStrike">
                <a:solidFill>
                  <a:srgbClr val="800000"/>
                </a:solidFill>
                <a:latin typeface="Andalus"/>
                <a:ea typeface="Andalus"/>
              </a:rPr>
              <a:t>Portales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ndalus"/>
                <a:ea typeface="Andalus"/>
              </a:rPr>
              <a:t>                                                  </a:t>
            </a:r>
            <a:r>
              <a:rPr b="1" lang="es-ES" sz="2000" spc="-1" strike="noStrike">
                <a:solidFill>
                  <a:srgbClr val="800000"/>
                </a:solidFill>
                <a:latin typeface="Andalus"/>
                <a:ea typeface="Andalus"/>
              </a:rPr>
              <a:t>Biblioteca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1" lang="es-ES" sz="2000" spc="-1" strike="noStrike">
                <a:solidFill>
                  <a:srgbClr val="336600"/>
                </a:solidFill>
                <a:latin typeface="Andalus"/>
                <a:ea typeface="Andalus"/>
              </a:rPr>
              <a:t>Artequin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Avenida  Matucana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Museo de la Memoria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Matucana  100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</p:txBody>
      </p:sp>
      <p:pic>
        <p:nvPicPr>
          <p:cNvPr id="3237" name="Picture 4" descr="QN 1"/>
          <p:cNvPicPr/>
          <p:nvPr/>
        </p:nvPicPr>
        <p:blipFill>
          <a:blip r:embed="rId1"/>
          <a:stretch/>
        </p:blipFill>
        <p:spPr>
          <a:xfrm>
            <a:off x="1763640" y="333360"/>
            <a:ext cx="2482920" cy="1857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3238" name="Picture 5" descr="D Portales"/>
          <p:cNvPicPr/>
          <p:nvPr/>
        </p:nvPicPr>
        <p:blipFill>
          <a:blip r:embed="rId2"/>
          <a:stretch/>
        </p:blipFill>
        <p:spPr>
          <a:xfrm>
            <a:off x="179280" y="2205000"/>
            <a:ext cx="723960" cy="1209600"/>
          </a:xfrm>
          <a:prstGeom prst="rect">
            <a:avLst/>
          </a:prstGeom>
          <a:ln w="0">
            <a:noFill/>
          </a:ln>
        </p:spPr>
      </p:pic>
      <p:pic>
        <p:nvPicPr>
          <p:cNvPr id="3239" name="Picture 6" descr="Artequin"/>
          <p:cNvPicPr/>
          <p:nvPr/>
        </p:nvPicPr>
        <p:blipFill>
          <a:blip r:embed="rId3"/>
          <a:stretch/>
        </p:blipFill>
        <p:spPr>
          <a:xfrm>
            <a:off x="2857680" y="3071880"/>
            <a:ext cx="2286000" cy="1719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3240" name="Picture 7" descr="Matucana 100"/>
          <p:cNvPicPr/>
          <p:nvPr/>
        </p:nvPicPr>
        <p:blipFill>
          <a:blip r:embed="rId4"/>
          <a:stretch/>
        </p:blipFill>
        <p:spPr>
          <a:xfrm>
            <a:off x="250920" y="4365720"/>
            <a:ext cx="2327040" cy="1800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3241" name="7 Imagen" descr="Planetario.jpg"/>
          <p:cNvPicPr/>
          <p:nvPr/>
        </p:nvPicPr>
        <p:blipFill>
          <a:blip r:embed="rId5"/>
          <a:stretch/>
        </p:blipFill>
        <p:spPr>
          <a:xfrm>
            <a:off x="5435640" y="1413000"/>
            <a:ext cx="1076400" cy="14284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242" name="8 Imagen" descr="Biblio Stgo.jpg"/>
          <p:cNvPicPr/>
          <p:nvPr/>
        </p:nvPicPr>
        <p:blipFill>
          <a:blip r:embed="rId6"/>
          <a:stretch/>
        </p:blipFill>
        <p:spPr>
          <a:xfrm>
            <a:off x="6732720" y="2349360"/>
            <a:ext cx="1709640" cy="1285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243" name="Picture 11" descr=""/>
          <p:cNvPicPr/>
          <p:nvPr/>
        </p:nvPicPr>
        <p:blipFill>
          <a:blip r:embed="rId7"/>
          <a:stretch/>
        </p:blipFill>
        <p:spPr>
          <a:xfrm>
            <a:off x="5724360" y="4508640"/>
            <a:ext cx="25909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285480" y="121428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-윤고딕160"/>
              </a:rPr>
              <a:t>¿Qué queremos para ustedes?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pic>
        <p:nvPicPr>
          <p:cNvPr id="3321" name="4 Imagen" descr="Escudo U color.jpg"/>
          <p:cNvPicPr/>
          <p:nvPr/>
        </p:nvPicPr>
        <p:blipFill>
          <a:blip r:embed="rId1"/>
          <a:stretch/>
        </p:blipFill>
        <p:spPr>
          <a:xfrm>
            <a:off x="714240" y="2214720"/>
            <a:ext cx="3353040" cy="30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/>
          </p:nvPr>
        </p:nvSpPr>
        <p:spPr>
          <a:xfrm>
            <a:off x="2142720" y="2071800"/>
            <a:ext cx="66438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El verdadero médico debe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poseer un inmenso interés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por el sabio y el tonto,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por el orgulloso y el humilde,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por el héroe estoico y el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pordiosero quejumbroso.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Se preocupa por la gente</a:t>
            </a:r>
            <a:r>
              <a:rPr b="1" i="1" lang="es-ES_tradnl" sz="2800" spc="-1" strike="noStrike">
                <a:solidFill>
                  <a:srgbClr val="000000"/>
                </a:solidFill>
                <a:latin typeface="-윤고딕120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</p:txBody>
      </p:sp>
      <p:pic>
        <p:nvPicPr>
          <p:cNvPr id="3323" name="Picture 7" descr="Sonetos+de+Shakespeare"/>
          <p:cNvPicPr/>
          <p:nvPr/>
        </p:nvPicPr>
        <p:blipFill>
          <a:blip r:embed="rId1"/>
          <a:stretch/>
        </p:blipFill>
        <p:spPr>
          <a:xfrm>
            <a:off x="428760" y="642960"/>
            <a:ext cx="1527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029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-윤고딕160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85480" y="1499760"/>
            <a:ext cx="8286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star atentos para prever, adaptarse e influir en los avances de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ciencias básicas y sociales y los cambios demográficos,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pidemiológicos y de los sistemas de Salud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star capacitados para promover cambios positivos en la cultura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e la salud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Continuar su perfeccionamiento permanente 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jercer distintos roles: tratante, educador, investigador,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tivo y político.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3857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-윤고딕160"/>
              </a:rPr>
              <a:t>Difícil,  no  imposible</a:t>
            </a:r>
            <a:endParaRPr b="0" lang="en-US" sz="28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428400" y="1499760"/>
            <a:ext cx="8358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ientífico, integridad y calidad profesional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Humano, benevolente y con altos ideales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iembro de la sociedad honesto y eficiente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Vivir para el cambio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Fuera de la habitación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eguir siendo persona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3857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-윤고딕160"/>
              </a:rPr>
              <a:t>Necesitamos</a:t>
            </a:r>
            <a:endParaRPr b="0" lang="en-US" sz="28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285840" y="1499760"/>
            <a:ext cx="8572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ergía,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ara cambiar lo que debe ser cambiado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Resignación,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ara aceptar lo que no puede ser cambiado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abiduría,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ara reconocer ambos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0" name="Picture 1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228920" cy="5977080"/>
          </a:xfrm>
          <a:prstGeom prst="rect">
            <a:avLst/>
          </a:prstGeom>
          <a:ln w="0">
            <a:noFill/>
          </a:ln>
        </p:spPr>
      </p:pic>
      <p:sp>
        <p:nvSpPr>
          <p:cNvPr id="3331" name="2 CuadroTexto"/>
          <p:cNvSpPr/>
          <p:nvPr/>
        </p:nvSpPr>
        <p:spPr>
          <a:xfrm>
            <a:off x="810000" y="1268280"/>
            <a:ext cx="294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>
                <a:solidFill>
                  <a:srgbClr val="c00000"/>
                </a:solidFill>
                <a:latin typeface="Bookman Old Style"/>
              </a:rPr>
              <a:t>Jur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>
                <a:solidFill>
                  <a:srgbClr val="c00000"/>
                </a:solidFill>
                <a:latin typeface="Bookman Old Style"/>
              </a:rPr>
              <a:t>Hipocrá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558ed5"/>
                </a:solidFill>
                <a:latin typeface="Calibri"/>
              </a:rPr>
              <a:t>Mi deseo personal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3" name=""/>
          <p:cNvSpPr txBox="1"/>
          <p:nvPr/>
        </p:nvSpPr>
        <p:spPr>
          <a:xfrm>
            <a:off x="2843280" y="1915920"/>
            <a:ext cx="59767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Que el corazón no se pase de mo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Que los otoños les doren la pi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Que cada noche sea noche de bo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Que cada luna sea luna de mi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00"/>
                </a:solidFill>
                <a:latin typeface="Calibri"/>
              </a:rPr>
              <a:t>Joaquin Sab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00"/>
                </a:solidFill>
                <a:latin typeface="Calibri"/>
              </a:rPr>
              <a:t>Noche de bo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4" name="Picture 5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335" name="4 Marcador de contenido" descr="Escudo U color.jpg"/>
          <p:cNvPicPr/>
          <p:nvPr/>
        </p:nvPicPr>
        <p:blipFill>
          <a:blip r:embed="rId2"/>
          <a:stretch/>
        </p:blipFill>
        <p:spPr>
          <a:xfrm>
            <a:off x="6443640" y="333360"/>
            <a:ext cx="15526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642600" y="1571400"/>
            <a:ext cx="742932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-윤고딕160"/>
              </a:rPr>
              <a:t>¡ Habrá valido la pena!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-윤고딕160"/>
              </a:rPr>
              <a:t>Y ahora… 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-윤고딕160"/>
              </a:rPr>
              <a:t>¡que entre el sol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-윤고딕160"/>
            </a:endParaRPr>
          </a:p>
        </p:txBody>
      </p:sp>
      <p:pic>
        <p:nvPicPr>
          <p:cNvPr id="3337" name="4 Marcador de contenido" descr="Escudo U color.jpg"/>
          <p:cNvPicPr/>
          <p:nvPr/>
        </p:nvPicPr>
        <p:blipFill>
          <a:blip r:embed="rId1"/>
          <a:stretch/>
        </p:blipFill>
        <p:spPr>
          <a:xfrm>
            <a:off x="5572080" y="2143080"/>
            <a:ext cx="28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Galeno de Pérgam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Siglo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9" name="Picture 2" descr=""/>
          <p:cNvPicPr/>
          <p:nvPr/>
        </p:nvPicPr>
        <p:blipFill>
          <a:blip r:embed="rId1"/>
          <a:stretch/>
        </p:blipFill>
        <p:spPr>
          <a:xfrm>
            <a:off x="500040" y="2143080"/>
            <a:ext cx="2928960" cy="380844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sp>
        <p:nvSpPr>
          <p:cNvPr id="3340" name="3 CuadroTexto"/>
          <p:cNvSpPr/>
          <p:nvPr/>
        </p:nvSpPr>
        <p:spPr>
          <a:xfrm>
            <a:off x="3643200" y="2714760"/>
            <a:ext cx="4786560" cy="1373760"/>
          </a:xfrm>
          <a:prstGeom prst="rect">
            <a:avLst/>
          </a:prstGeom>
          <a:noFill/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iglo 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intetiza las doctrinas mé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Humores y temper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Paracelso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 Celso; médico rom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2" name="Picture 2" descr=""/>
          <p:cNvPicPr/>
          <p:nvPr/>
        </p:nvPicPr>
        <p:blipFill>
          <a:blip r:embed="rId1"/>
          <a:stretch/>
        </p:blipFill>
        <p:spPr>
          <a:xfrm>
            <a:off x="928800" y="1714680"/>
            <a:ext cx="2857320" cy="386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343" name="4 Rectángulo"/>
          <p:cNvSpPr/>
          <p:nvPr/>
        </p:nvSpPr>
        <p:spPr>
          <a:xfrm>
            <a:off x="4286160" y="18572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Philippus Aureolus Bombast von Hohenhei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Teofrasto </a:t>
            </a:r>
            <a:r>
              <a:rPr b="1" i="1" lang="es-CL" sz="1800" spc="-1" strike="noStrike">
                <a:solidFill>
                  <a:srgbClr val="000000"/>
                </a:solidFill>
                <a:latin typeface="Calibri"/>
              </a:rPr>
              <a:t>Paracelso</a:t>
            </a: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(Zúrich, 10 de noviembre de 14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Arqu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-윤고딕160"/>
              </a:rPr>
              <a:t>Objetivos de la sesión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45" name=""/>
          <p:cNvSpPr txBox="1"/>
          <p:nvPr/>
        </p:nvSpPr>
        <p:spPr>
          <a:xfrm>
            <a:off x="324000" y="1413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Explicar, en general, el significado de la 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medicina como </a:t>
            </a: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arte,</a:t>
            </a: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 la contribución que 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hace al bienestar  del hombre y la sociedad,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las </a:t>
            </a: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habilidades y destrezas </a:t>
            </a: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que requiere 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médico para ejercer como  </a:t>
            </a: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promotor </a:t>
            </a: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 de  la 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salud,  </a:t>
            </a: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diagnosticador</a:t>
            </a: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, </a:t>
            </a: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terapeuta y 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rehabilitador.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-윤고딕160"/>
              </a:rPr>
              <a:t>Medicina: Ciencia de seres vivos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684360" y="129528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-윤고딕140"/>
              </a:rPr>
              <a:t>Humanos: seres complejos (bio psico social)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-윤고딕140"/>
              </a:rPr>
              <a:t>que interactúan entre sí y con el medio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-윤고딕140"/>
              </a:rPr>
              <a:t>Cumplen un ciclo ¿inmodificable?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-윤고딕140"/>
              </a:rPr>
              <a:t>Duda que han aportado las neurociencias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702612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Interpretar la re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Relig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Método cient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9" name="Picture 2" descr="Photograph:Magdalenian cave painting of a bison, Altamira, Spain"/>
          <p:cNvPicPr/>
          <p:nvPr/>
        </p:nvPicPr>
        <p:blipFill>
          <a:blip r:embed="rId1"/>
          <a:stretch/>
        </p:blipFill>
        <p:spPr>
          <a:xfrm>
            <a:off x="4427640" y="1916280"/>
            <a:ext cx="4074840" cy="2952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-윤고딕160"/>
              </a:rPr>
              <a:t>Medicina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 type="subTitle"/>
          </p:nvPr>
        </p:nvSpPr>
        <p:spPr>
          <a:xfrm>
            <a:off x="428400" y="2000160"/>
            <a:ext cx="8001000" cy="3500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CIENCIA Y ARTE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de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precaver y curar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las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enfermedades,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con el fin último de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mantener la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salud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y prevenir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la enfermedad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2d2db9"/>
                </a:solidFill>
                <a:latin typeface="-윤고딕160"/>
              </a:rPr>
              <a:t>Ciencia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 type="subTitle"/>
          </p:nvPr>
        </p:nvSpPr>
        <p:spPr>
          <a:xfrm>
            <a:off x="213840" y="2142720"/>
            <a:ext cx="8643960" cy="307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(Del lat. </a:t>
            </a:r>
            <a:r>
              <a:rPr b="0" i="1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scientĭa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-윤고딕160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f. Conjunto de conocimientos obtenidos mediante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la observación y el razonamiento, sistemáticamente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estructurados y de los que se deducen principios y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leyes generales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subTitle"/>
          </p:nvPr>
        </p:nvSpPr>
        <p:spPr>
          <a:xfrm>
            <a:off x="571320" y="1285560"/>
            <a:ext cx="7715160" cy="307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>
                <a:solidFill>
                  <a:srgbClr val="2d2db9"/>
                </a:solidFill>
                <a:latin typeface="Arial"/>
                <a:ea typeface="-윤고딕160"/>
              </a:rPr>
              <a:t>Arte </a:t>
            </a:r>
            <a:endParaRPr b="0" lang="en-US" sz="40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(Del lat. </a:t>
            </a:r>
            <a:r>
              <a:rPr b="0" i="1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ars, artis,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 y este calco del gr. τέχνη)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-윤고딕160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amb.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Virtud, disposición y habilidad para hacer algo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2228b"/>
                </a:solidFill>
                <a:latin typeface="-윤고딕160"/>
                <a:ea typeface="-윤고딕160"/>
              </a:rPr>
              <a:t>(</a:t>
            </a:r>
            <a:r>
              <a:rPr b="0" i="1" lang="es-CL" sz="2800" spc="-1" strike="noStrike">
                <a:solidFill>
                  <a:srgbClr val="22228b"/>
                </a:solidFill>
                <a:latin typeface="-윤고딕160"/>
                <a:ea typeface="-윤고딕160"/>
              </a:rPr>
              <a:t>arte es creación</a:t>
            </a:r>
            <a:r>
              <a:rPr b="0" lang="es-CL" sz="2800" spc="-1" strike="noStrike">
                <a:solidFill>
                  <a:srgbClr val="22228b"/>
                </a:solidFill>
                <a:latin typeface="-윤고딕160"/>
                <a:ea typeface="-윤고딕160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3255" name="4 CuadroTexto"/>
          <p:cNvSpPr/>
          <p:nvPr/>
        </p:nvSpPr>
        <p:spPr>
          <a:xfrm>
            <a:off x="625320" y="4572000"/>
            <a:ext cx="7715520" cy="642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No hay enfermedades, sino enfer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Situaciones parecidas y, sin embargo, enormemente cambiantes, disí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23:22:36Z</dcterms:created>
  <dc:creator>Nelson</dc:creator>
  <dc:description/>
  <dc:language>en-US</dc:language>
  <cp:lastModifiedBy>Nelson</cp:lastModifiedBy>
  <dcterms:modified xsi:type="dcterms:W3CDTF">2011-02-05T12:18:54Z</dcterms:modified>
  <cp:revision>262</cp:revision>
  <dc:subject/>
  <dc:title>Diapositiva 1</dc:title>
</cp:coreProperties>
</file>