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7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theme/theme61.xml" ContentType="application/vnd.openxmlformats-officedocument.theme+xml"/>
  <Override PartName="/ppt/theme/theme19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77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71.xml" ContentType="application/vnd.openxmlformats-officedocument.theme+xml"/>
  <Override PartName="/ppt/theme/theme29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6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notesSlides/_rels/notesSlide3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24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2.jpeg" ContentType="image/jpeg"/>
  <Override PartName="/ppt/media/image34.png" ContentType="image/png"/>
  <Override PartName="/ppt/media/image9.jpeg" ContentType="image/jpeg"/>
  <Override PartName="/ppt/media/image11.jpeg" ContentType="image/jpeg"/>
  <Override PartName="/ppt/media/image6.wmf" ContentType="image/x-wmf"/>
  <Override PartName="/ppt/media/image36.wmf" ContentType="image/x-wmf"/>
  <Override PartName="/ppt/media/image37.jpeg" ContentType="image/jpeg"/>
  <Override PartName="/ppt/media/image30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1.jpeg" ContentType="image/jpeg"/>
  <Override PartName="/ppt/media/image3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42.jpeg" ContentType="image/jpeg"/>
  <Override PartName="/ppt/media/image28.png" ContentType="image/png"/>
  <Override PartName="/ppt/media/image7.jpeg" ContentType="image/jpeg"/>
  <Override PartName="/ppt/media/image40.jpeg" ContentType="image/jpeg"/>
  <Override PartName="/ppt/media/image13.jpeg" ContentType="image/jpeg"/>
  <Override PartName="/ppt/media/image3.wmf" ContentType="image/x-wmf"/>
  <Override PartName="/ppt/media/image20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</p:sldMasterIdLst>
  <p:notesMasterIdLst>
    <p:notesMasterId r:id="rId78"/>
  </p:notesMasterIdLst>
  <p:sldIdLst>
    <p:sldId id="256" r:id="rId79"/>
    <p:sldId id="257" r:id="rId80"/>
    <p:sldId id="258" r:id="rId81"/>
    <p:sldId id="259" r:id="rId82"/>
    <p:sldId id="260" r:id="rId83"/>
    <p:sldId id="261" r:id="rId84"/>
    <p:sldId id="262" r:id="rId85"/>
    <p:sldId id="263" r:id="rId86"/>
    <p:sldId id="264" r:id="rId87"/>
    <p:sldId id="265" r:id="rId88"/>
    <p:sldId id="266" r:id="rId89"/>
    <p:sldId id="267" r:id="rId90"/>
    <p:sldId id="268" r:id="rId91"/>
    <p:sldId id="269" r:id="rId92"/>
    <p:sldId id="270" r:id="rId93"/>
    <p:sldId id="271" r:id="rId94"/>
    <p:sldId id="272" r:id="rId95"/>
    <p:sldId id="273" r:id="rId96"/>
    <p:sldId id="274" r:id="rId97"/>
    <p:sldId id="275" r:id="rId98"/>
    <p:sldId id="276" r:id="rId99"/>
    <p:sldId id="277" r:id="rId100"/>
    <p:sldId id="278" r:id="rId101"/>
    <p:sldId id="279" r:id="rId102"/>
    <p:sldId id="280" r:id="rId103"/>
    <p:sldId id="281" r:id="rId104"/>
    <p:sldId id="282" r:id="rId105"/>
    <p:sldId id="283" r:id="rId106"/>
    <p:sldId id="284" r:id="rId107"/>
    <p:sldId id="285" r:id="rId108"/>
    <p:sldId id="286" r:id="rId109"/>
    <p:sldId id="287" r:id="rId110"/>
    <p:sldId id="288" r:id="rId111"/>
    <p:sldId id="289" r:id="rId112"/>
    <p:sldId id="290" r:id="rId113"/>
    <p:sldId id="291" r:id="rId114"/>
    <p:sldId id="292" r:id="rId115"/>
    <p:sldId id="293" r:id="rId116"/>
    <p:sldId id="294" r:id="rId117"/>
    <p:sldId id="295" r:id="rId1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notesMaster" Target="notesMasters/notesMaster1.xml"/><Relationship Id="rId79" Type="http://schemas.openxmlformats.org/officeDocument/2006/relationships/slide" Target="slides/slide1.xml"/><Relationship Id="rId80" Type="http://schemas.openxmlformats.org/officeDocument/2006/relationships/slide" Target="slides/slide2.xml"/><Relationship Id="rId81" Type="http://schemas.openxmlformats.org/officeDocument/2006/relationships/slide" Target="slides/slide3.xml"/><Relationship Id="rId82" Type="http://schemas.openxmlformats.org/officeDocument/2006/relationships/slide" Target="slides/slide4.xml"/><Relationship Id="rId83" Type="http://schemas.openxmlformats.org/officeDocument/2006/relationships/slide" Target="slides/slide5.xml"/><Relationship Id="rId84" Type="http://schemas.openxmlformats.org/officeDocument/2006/relationships/slide" Target="slides/slide6.xml"/><Relationship Id="rId85" Type="http://schemas.openxmlformats.org/officeDocument/2006/relationships/slide" Target="slides/slide7.xml"/><Relationship Id="rId86" Type="http://schemas.openxmlformats.org/officeDocument/2006/relationships/slide" Target="slides/slide8.xml"/><Relationship Id="rId87" Type="http://schemas.openxmlformats.org/officeDocument/2006/relationships/slide" Target="slides/slide9.xml"/><Relationship Id="rId88" Type="http://schemas.openxmlformats.org/officeDocument/2006/relationships/slide" Target="slides/slide10.xml"/><Relationship Id="rId89" Type="http://schemas.openxmlformats.org/officeDocument/2006/relationships/slide" Target="slides/slide11.xml"/><Relationship Id="rId90" Type="http://schemas.openxmlformats.org/officeDocument/2006/relationships/slide" Target="slides/slide12.xml"/><Relationship Id="rId91" Type="http://schemas.openxmlformats.org/officeDocument/2006/relationships/slide" Target="slides/slide13.xml"/><Relationship Id="rId92" Type="http://schemas.openxmlformats.org/officeDocument/2006/relationships/slide" Target="slides/slide14.xml"/><Relationship Id="rId93" Type="http://schemas.openxmlformats.org/officeDocument/2006/relationships/slide" Target="slides/slide15.xml"/><Relationship Id="rId94" Type="http://schemas.openxmlformats.org/officeDocument/2006/relationships/slide" Target="slides/slide16.xml"/><Relationship Id="rId95" Type="http://schemas.openxmlformats.org/officeDocument/2006/relationships/slide" Target="slides/slide17.xml"/><Relationship Id="rId96" Type="http://schemas.openxmlformats.org/officeDocument/2006/relationships/slide" Target="slides/slide18.xml"/><Relationship Id="rId97" Type="http://schemas.openxmlformats.org/officeDocument/2006/relationships/slide" Target="slides/slide19.xml"/><Relationship Id="rId98" Type="http://schemas.openxmlformats.org/officeDocument/2006/relationships/slide" Target="slides/slide20.xml"/><Relationship Id="rId99" Type="http://schemas.openxmlformats.org/officeDocument/2006/relationships/slide" Target="slides/slide21.xml"/><Relationship Id="rId100" Type="http://schemas.openxmlformats.org/officeDocument/2006/relationships/slide" Target="slides/slide22.xml"/><Relationship Id="rId101" Type="http://schemas.openxmlformats.org/officeDocument/2006/relationships/slide" Target="slides/slide23.xml"/><Relationship Id="rId102" Type="http://schemas.openxmlformats.org/officeDocument/2006/relationships/slide" Target="slides/slide24.xml"/><Relationship Id="rId103" Type="http://schemas.openxmlformats.org/officeDocument/2006/relationships/slide" Target="slides/slide25.xml"/><Relationship Id="rId104" Type="http://schemas.openxmlformats.org/officeDocument/2006/relationships/slide" Target="slides/slide26.xml"/><Relationship Id="rId105" Type="http://schemas.openxmlformats.org/officeDocument/2006/relationships/slide" Target="slides/slide27.xml"/><Relationship Id="rId106" Type="http://schemas.openxmlformats.org/officeDocument/2006/relationships/slide" Target="slides/slide28.xml"/><Relationship Id="rId107" Type="http://schemas.openxmlformats.org/officeDocument/2006/relationships/slide" Target="slides/slide29.xml"/><Relationship Id="rId108" Type="http://schemas.openxmlformats.org/officeDocument/2006/relationships/slide" Target="slides/slide30.xml"/><Relationship Id="rId109" Type="http://schemas.openxmlformats.org/officeDocument/2006/relationships/slide" Target="slides/slide31.xml"/><Relationship Id="rId110" Type="http://schemas.openxmlformats.org/officeDocument/2006/relationships/slide" Target="slides/slide32.xml"/><Relationship Id="rId111" Type="http://schemas.openxmlformats.org/officeDocument/2006/relationships/slide" Target="slides/slide33.xml"/><Relationship Id="rId112" Type="http://schemas.openxmlformats.org/officeDocument/2006/relationships/slide" Target="slides/slide34.xml"/><Relationship Id="rId113" Type="http://schemas.openxmlformats.org/officeDocument/2006/relationships/slide" Target="slides/slide35.xml"/><Relationship Id="rId114" Type="http://schemas.openxmlformats.org/officeDocument/2006/relationships/slide" Target="slides/slide36.xml"/><Relationship Id="rId115" Type="http://schemas.openxmlformats.org/officeDocument/2006/relationships/slide" Target="slides/slide37.xml"/><Relationship Id="rId116" Type="http://schemas.openxmlformats.org/officeDocument/2006/relationships/slide" Target="slides/slide38.xml"/><Relationship Id="rId117" Type="http://schemas.openxmlformats.org/officeDocument/2006/relationships/slide" Target="slides/slide39.xml"/><Relationship Id="rId118" Type="http://schemas.openxmlformats.org/officeDocument/2006/relationships/slide" Target="slides/slide40.xml"/><Relationship Id="rId1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Medicina y concepto enferme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PlaceHolder 2"/>
          <p:cNvSpPr>
            <a:spLocks noGrp="1"/>
          </p:cNvSpPr>
          <p:nvPr>
            <p:ph type="dt" idx="2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7" name="PlaceHolder 5"/>
          <p:cNvSpPr>
            <a:spLocks noGrp="1"/>
          </p:cNvSpPr>
          <p:nvPr>
            <p:ph type="ftr" idx="2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 A Vargas MD 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PlaceHolder 6"/>
          <p:cNvSpPr>
            <a:spLocks noGrp="1"/>
          </p:cNvSpPr>
          <p:nvPr>
            <p:ph type="sldNum" idx="2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2813-4A14-4952-9D6D-658B7742E26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Historia Pediat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N A Vargas   MD MPH  U.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08EC-1603-4202-810D-79A77087EDBE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9" name="3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Medicina y concepto enferme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4 Marcador de pie de página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 A Vargas MD 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5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A082-B8F2-452A-8B36-5AB29DEE7DA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9" name="3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Medicina y concepto enferme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4 Marcador de pie de página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 A Vargas MD 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5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F302-9759-4907-94B6-97B4D21CA3F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4" name="3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Medicina y concepto enferme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4 Marcador de pie de página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 A Vargas MD 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5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927F-181F-48EF-A838-3F0B9C56E2C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9" name="3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Medicina y concepto enferme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4 Marcador de pie de página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 A Vargas MD 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5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F386-F690-4B5F-A590-6460340CAB3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7CBE-3E60-4986-9F14-77C063F77BC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4 Marcador de pie de página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 A Vargas MD M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5 Marcador de encabezado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Medicina y concepto enferme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0BE-0E90-49D9-A759-A90F5617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5165-1832-4A75-B0DA-283B5E3D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58B33-3976-45B4-B7E0-98A63DD4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220D3-B04C-4213-B8D5-D6B17232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0FFA0-AC0F-4884-984B-F287ED01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EEE9B-B3A8-4766-BA76-F35D2EA3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FC501-E9B0-4B06-B3DA-773F2F4B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02576-02E1-4D9F-85E4-2F8E3296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65FE4-2C98-476F-A0F1-F30B4C72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DDDAA-86E6-4F81-8A7D-65CBF835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C0CBC-2701-40E6-8B46-C21D118D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86413-D1D7-414F-9CDE-59875979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BA0B-A74E-4B06-8497-1A4F831E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4B29E-E6B1-468C-8D9D-595B5DEF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259B5-6202-464E-B6C4-064AF4EB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20527-FAA0-43DD-A260-0E0878BC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D9ECB-0006-4E76-9CEF-943168C0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984FE-E353-4B54-B6DE-B85E1ED5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9EBAE-A8E9-4B73-91B2-1B6D16D0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840F4-37F5-41D5-8A9D-DF3E31AE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104B2-290E-4F06-A266-6C8AD718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751B8-A987-4565-BD85-F00F67E6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5B8AE-4235-41D8-BDF7-AE5D200D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41D0-3BE3-498E-8526-5C39F9A9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86CD1-C4F7-4564-97B2-59726D43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9426B-51D8-4842-B20F-4F1CC481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138AA-1283-4173-883B-362193DA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C610E-A79A-4DE1-88DF-10FB4A1B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5ADF9-267C-4DA4-8ED5-AD9196C6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B1285-E598-4B4F-B581-EE56B53D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06085-C335-4278-8728-1BF9C4EA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5B903-DDB7-4DAE-8687-626FFE50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09908-0C3A-4B2A-A8B9-B5AFAD8E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EBEB3-BC1F-4983-A29C-3E5B0125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9048-FCB4-4535-AF9F-3E1365B96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3B32A-810F-40D3-8ED4-328AF972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DE25A-856C-4449-B6F4-1B122800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2E1B1-E9E9-4E7C-87B6-6EA2E127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ED64E-9E60-4517-B85B-B4069636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DD972-9E65-4E0E-ADE6-590C60F6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CB0CD-F637-4461-A6ED-EF73A29D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BE0F9-3C6C-4434-9AC7-5A12C40C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A39BC-0179-4B5C-B6C9-728C9918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7E594-13DB-4759-A71F-9B70DAD5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31CB4-0D5D-4AFC-ACEA-EDD24032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60B7-4B4F-4A63-B19E-FE5FA132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92CD5-B919-4F1B-BB79-7949FF94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25C9B-B529-40D3-88FB-40E8F408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65983-8C17-4893-A793-87109409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BFE9A-C835-4B71-ADE1-F25A57CC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A0229-9E3F-4ECC-8E7F-527BD87B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CE947F-B670-4DF4-96F6-AE4E36F6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D8E5E1-0296-4A84-B769-B69670E5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159591-E13D-4A23-AE6D-A25CFF9D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4D67B0-17F0-4DAB-8C9C-9979B5DB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59350A-4086-4019-91B4-1B1A578B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B00B-BF80-4BD3-8DBA-7C712A84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C12622-9C16-4DE7-A07E-19C5E22E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F3574C-2082-4446-8138-E85642B9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5BE3D4-F3CB-459E-B213-ED446071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78A3D2-8139-4C4E-AAE1-43C371E2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98DA02-ADAD-41A0-ACEF-A0FDFADF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C50158-E304-477A-89CF-FB484B19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1A4DE9-4423-4786-A8F3-CBCD486B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B580B3-5D6E-4390-AAF4-618DCC1F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A2571D-7351-4C48-8456-DFBE8805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1673BF-2DE8-4780-82C7-9DD1B2C5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6E5A-41F3-4109-BBD7-5D8B679F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13B1B1-CB3F-4C9A-BD61-1FDCC9B0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500D8B-E37B-4A3D-B1B5-2E542941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A81740-2476-401E-97D0-522E322E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E8BD24-1115-4AA6-80A4-31C71603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38579B-91F8-4844-AC98-0D07B26F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229F5C-BFD4-444C-8A7D-7B3FFEBE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513BAE-ED79-4E14-B96D-0077D9A1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ADBBF8-E9FA-4DA2-ADFE-2FB31631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6A32FF-D08E-47EE-8FA2-47D57DCC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B8B5C8-3181-44F7-846E-DD94821B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CFAA-B433-4AF4-842F-0C6D4F8E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5F9E78-2F07-4B09-A7D3-DDACC848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D4B705-E9BC-4DD0-8973-2C4A7C9E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872B1C-28BE-4F3E-A8FF-5BAD065E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9EDD7C-B27D-4428-8569-CDC2A185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558766-F641-4FA8-87C6-431C67C9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DC3EB1-F207-4A6E-9173-A7BDC13B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164559-4030-461D-852B-B33726AA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8D1282-771A-4A0E-8C83-7EB0C5C6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DF06E4-CBCF-4BFC-AFA3-DD1CE0E9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207B7A-3585-4695-BF74-932252C5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4CE6-A235-4F39-9124-45D0ACE5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1BC59B-0441-400D-9FBF-A98D2706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CCA09C-731B-4C14-ACAF-806E623B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B45FE7-0FBD-44D9-9509-06519E06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0BEE70-F091-4500-83BC-0B1ADCB8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0F8BE1-95F1-4B4C-A6AD-2B1A28A7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8976B3-ED62-413A-AA7E-5737ACF5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84FA59-3D69-412B-B0DA-DBACBC49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960BCB-8186-455F-98A0-5737C286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BE4F27-0AF8-46D8-851C-1BB9725F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927707-D0A3-4BCF-B5DB-FB859F9B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E725-1438-45BB-B2C2-4901E548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0025C4-B97F-49C6-98CA-5F1F93B9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ECC7D3-1F2A-41B1-A47F-BD097ABA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DA3EC3-247B-4879-9DA2-3C80E6AA6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E02338-393B-4348-9B7C-872FF64F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0A2C53-33F7-4184-93EE-FA515F57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EF1042-320E-4C45-9E04-DBD5C599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71124C-D903-42C9-9E23-A495AC5F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31521B-A7F2-458B-806B-F54B665C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3BB03E-BCF8-4522-98DB-8B00EBE6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2E3192-5674-4405-987E-C84D151A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DECF-BB11-41E8-8DA3-EE51DEED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6FBC-EFC6-4D84-A343-78B61642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174CC6-C520-4115-8614-CB57CFE8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B2BC70-CF78-415F-A46D-C971A159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F26E6B-1EC3-4580-83EB-1E256CBF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16B421-B5F6-447B-97F1-0ADAC6E8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94915D-6932-42BF-AB9B-FDB3B3F6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8631E7-2A38-42E0-B79E-054B7F8A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682766-355C-4E7C-AB17-942139F2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091BB8-45BE-41B4-8294-D232FC0E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388E97-227A-4006-AEBC-5D9CE844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8708CD-F6BB-4273-99FF-3BF62EAC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7D73-C382-4907-B671-2C3FDC34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135D5F-69CB-4E85-B1C9-37F4BC47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15CAD5-CF0D-49D8-BCFA-951F895A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D9ACEB-F8B4-459D-8F41-89C42D85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309795-902A-4D63-8B7B-E95FED7D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E2CAC0-E83E-4E67-B1B1-1BFBF71C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05AD99-55A9-4B33-8514-219E75E2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9AFCE5-E4C9-4EC0-A4BE-711C78F0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2C5108-E810-4059-9D77-08C3B17F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F2C05B-59D1-4299-9182-B9E47571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3F114F-607D-4781-8B0C-73AEB1F3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2BD8-DC10-4335-9E8E-1073E083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642B1D-42FC-41EA-84EB-0E1A14BD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C647E0-73F7-44F3-B71B-5AEF9F73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6E24F2-499B-456C-A83E-16F67FD0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02A4E2-2303-49DC-975A-99C08772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B3B433-B7C0-4585-8193-03E8AAB2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864D48-A0AC-442E-97A4-C7EF6E92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837798-AC9D-46E6-8228-D0094867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5B9BC5-C4EC-4A1B-811A-5304DD58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F0DB63-1D15-4D1B-A4EB-474B3C1C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A64145-5D30-4ABB-8A71-EA61CDA5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F9AC-34FC-4865-A3A0-CCD375E8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C52621-A55E-4BBB-A220-0783884C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859BF8-9515-4550-B177-03DE8224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6A99ED-D4AF-45DE-BF9D-2611FB92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8C390D-C078-40EA-92AA-10B279B6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DAE958-3FD1-46F9-9B0A-B06077E1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E5C48D-7C38-4C17-A609-99138590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4E8A1D-5235-496F-96C9-FDCA798D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A03A18-B8BE-4E46-A811-12354645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4C99A0-0A13-4979-9283-0CDEB6E2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EC5926-C6AF-49D3-A658-5A2FEB27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DD6B-F5D0-41B5-BFFE-442C7C90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7DDE58-F38B-42F2-BBDC-E05CAC1C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D0E5CC-4EDE-4BDC-8271-20804C73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E226E6-408A-4AA3-904B-D28F261C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78720D-0057-4020-8376-24C80D95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19E16E-95FB-4DA9-8E35-260E4429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9EC671-6CE9-48BF-993C-93A3D6D2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576F46-4E0D-4BB9-A7DC-805D5FE9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80EF46-1B06-4412-AE1A-28DEEB32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A6C63C-E2CC-4151-ACB3-07249EDA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6255CC-9CA4-4CD5-A34B-996D11AD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5BDEE-02DC-414D-819A-4D53C0B3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281CF4-6DAB-4931-9451-B9ECDC31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95C87B-5BD4-4230-A504-65C41E3F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2A0F44-D0F4-4C66-AF91-AB2ABBFF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3B8C4F-E111-4CF5-9B08-A45FE2FD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1081BF-57D3-4D11-9068-4E900910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E60D1D-8732-462C-99C7-24D85C1A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429462-0D8F-4AAB-8164-AFB888B1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12755C-AA02-40EB-95C1-7AC225B9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FE499B-94B4-4322-B54A-066CC228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96F72C-696C-4F02-B429-53AB4C56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2939A-320E-412C-8B43-2BF8B920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1FF458-95A5-49D3-8FEB-2AF9958F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A34EA5-120A-46B3-A27E-B458767E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22A2B6-43D1-4BDC-B730-B10E6A55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396B76-F7D2-497F-A265-8841F8DF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812866-6CEE-4B1B-ACE7-DB1F969B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EFF70D-25F9-46ED-9A2B-428EDFF8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9BEB66-712E-40B4-BC06-D552CE65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4BC9EF-6D48-48C3-9DD9-1E84B322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E8C34D-088E-40CE-B2B7-B7EEACE0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BA4996-5200-42E6-84A2-D8A94E8E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37772-9859-4ECF-8884-9FE7B80C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069D69-A702-46DD-872E-2845CAC6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437A01-84E6-435F-AA83-B358314E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82998A-5FDD-4572-B276-5F1398ED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1E071C-815A-4529-9F22-D3864D72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E00C82-68F3-4228-B858-0DD7D1B3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B85749-548C-486F-B3EB-3635A6D6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E5490A-A3F0-487E-BB9F-3523CCB6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B62A3B-750C-4EE0-9941-FE134A27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301ADA-E806-48E6-832C-B8686745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048364-3745-4478-A7D4-F00E1C1D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91083-3349-48C6-93C6-DCE4DFFF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26FEDB-DC2F-430A-8949-EECB8A72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E91C6E-A85C-47A9-B711-06B1B2CF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D4299F-9D4A-4701-8525-0AE57C4C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41D42B-240D-4EEF-BF72-BFAF521D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961B40-207D-44ED-BFDD-7AA2181C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CEBC02-CC58-4E0B-9C1B-DF8D6F8E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2904C1-48C1-454B-AAE5-DA3F341C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00D0AC-E033-452F-9619-A5ECD7FE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B9C7BE-D5CE-4164-8D0B-92DFAF72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30C346-27AB-41C0-BDE0-65F7D78D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AD186-CAAD-44A6-8E98-4C0AA4AF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4275E6-5E20-4658-8E67-F720BDEB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D22DE7-FD3B-4C11-BD7C-94374112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C7DA93-481C-479E-A1D9-CB932986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36AFCC-7DB1-4EE8-9A18-76DB29D6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F6A035-CC87-4B65-BD5D-9002AEFD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578F1A-907F-444A-8B94-9E67A5F2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FCEFE1-1A98-486E-8F52-7010A52B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1C2593-AB54-47CA-9426-598F2D02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A26036-B019-444A-A7EC-775CBBC6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62BDAF-F265-47E1-8D05-2F8F905D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2548-12C6-4F3B-B0D7-539804A4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9F161-9A52-4313-AE24-8067ED6C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F7EB51-6194-4377-A88F-537356CA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AD1693-0D2A-45A6-9998-D633A1A5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D1FFB7-6D35-440E-B70E-3E140474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172B1F-6776-41D4-BF2C-6B856C7D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F2615E-2B50-48EF-A9D4-90E22ED0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C266C9-7128-4B61-BA0A-02F296C5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8AE2A6-6E02-4E6F-90BA-C5DAEA69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B4F9A1-5594-4DB3-AEAC-2E2905AC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09D704-7A2C-4EB7-84AF-DBF3C862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03C475-9EDB-4AA0-954C-65A065CE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E962D-3765-4397-9CEE-D8AD8EA0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5B4218-76FF-4D4D-B3BE-E337CE0C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CEC1C8-FD47-4F7F-B437-E10D1F1E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8ECF84-92BF-498A-9D87-148267DA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2B85B9-0521-45D2-A72C-9AEA3E55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E8CFC2-A267-4118-81B0-53EF4BE9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3636D7-6F11-437D-945C-B1BCFA17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F4B1D6-8B04-433B-8E3F-CE677F77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2D4301-F947-40AD-9616-A4C4CAEB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DE2153-655D-46D1-A121-C17CB098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FEF066-0F80-4A94-990D-6B8D0A40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AC28A-E76E-4078-BAF9-24931FA5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734732-705E-4848-AFE9-B21B4755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5F052C-ABD4-4625-B17F-401943EE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D8D113-74B9-45C6-A4D9-0D23FD5C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43AC4F-DD29-40BB-B71D-B19DE68B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AA8EBB-9BDA-4746-9A52-1CEE2C9D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18A193-5699-4C66-9E4D-EA7E809F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E9F5BA-8808-412B-BF26-B52FF1D8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FBF7A1-B188-47B7-B113-1375E102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6879AF-F55E-4389-BE39-95DC541D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E0B2A7-F40A-41F0-BCB5-EC6E4840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DDC24-7D12-44DA-86CE-10249AD1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88B8A8-BA10-4B1C-9F3C-DD61B148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5A61A4-247A-4237-BF52-1DB68880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FD448E-D575-4632-AE21-E5AA52A2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1503FC-D032-4C37-B4B6-F999C41A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38933B-8284-40A7-8FDB-A823559A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B0A8D9-3E96-4391-B4F2-B0E8059F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32DE4F-8034-42D0-9881-DDA90108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FB366B3-6200-4945-96FD-8DE8ED19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C4F5A18-B49A-4B9C-9693-924F4528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C398160-0878-426A-B7E9-61A8A00A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5BAA8-F2C9-42FA-9E2E-8C220814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FD7B62C-7DF4-45AB-A919-1C4B7127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3B258C-ED60-4DAB-A351-A3CE2EAB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5680D4-FA5E-43E1-8806-29B19D13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F8641D-7860-4E22-8F95-A8B3F3CC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97BCCF-EE96-4FAB-870F-9A9367DC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CAC29D5-F506-44C1-8BB8-5C95CB99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FD5EC4-0A88-4D3B-8AD4-5BCCEEA1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AE8DB8-9083-4377-82CD-DD750208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7F376D-6585-4A0E-A3D1-6487D7AE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BC98F8-EA41-4B72-805F-7C38A5EB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D7781-AE4A-433F-A1B9-9214A014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B53B2D-AE08-4A52-BB92-06F286C8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8EE955-AB32-4646-9329-3EB77F59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98CD059-1029-44BF-A22F-5E172823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EA84FB-9CF2-4D60-948D-17121A13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DC68B18-D529-4E44-926B-422F52DF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82AF9D-99FD-4111-89E6-33E2D6C1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632DD5-F6D4-40D3-87C4-E943B8AD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1A9F68-DCE6-45B0-9B52-F2A36E05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97B8C5-AE8E-4FB6-A523-3CB3F9B1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23736B3-60C7-407D-9DCE-E8E7E26F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DBD8A-5E75-4FAF-BFD6-C532242C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E474F3-3899-49B9-8444-523B558A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4C6CF0-AB36-4D20-AFB1-88729274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2651941-9B8A-4C94-8355-D83CCC75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C297F1-4961-4E64-A265-D9C83488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D438D47-16A3-4767-98AB-33C9D1E2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EE06BB-B907-4E41-BBE1-35168792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3AFFEB-FDE2-4A8D-8647-FA301380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5427D3-42CB-46C8-A01E-63E0A671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00CC5F-A91A-4333-B70F-C44D9B40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2D2E18-0A46-4271-BDDD-C5C0D988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6DCCF-4C5F-4C0A-89C5-6DACA2A5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13C3D2-75C7-4404-81DB-9CAEFB7E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89394B-BE81-4990-AE5F-A9B11615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7B57F0-43DF-408A-9475-9F99B8B4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DB47C96-C1BC-4E8E-AD4E-37659306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72CB26E-DAC4-4A84-95E5-3B238398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2D2A255-07EE-4624-B1FF-7ED7099F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AD729E-AE0F-45A9-A3F6-50A4E784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B538A2C-6EAE-4BDB-B0BC-9BF1FFD7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72632C6-9135-4C77-AAB5-277EBC49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3F18DB5-7255-4239-9ACA-C530AC4F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EB183-32CE-4323-98C8-58834946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269B359-1ADE-4713-AECB-B943AEFD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B90E055-B5BB-4072-A7B6-9A105203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2C0DCDC-5F4E-4405-8868-BF1BF69A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2E9006-78DA-404A-9C4B-96D69A84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91E454-D309-4E54-9BD7-FEBD86854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1DF9BED-2456-4D93-8E9D-30BC0656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3B886F6-451A-4F36-8B24-20DA89C9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CF9490E-9D49-4CB4-A1A3-97661850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0C05B0F-18BC-4C7A-8908-DEF8D227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726F886-4B77-4F8C-9746-673879FA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9564B-D1F8-4583-A83D-CE4AC424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62A9BD5-8571-4283-99CF-C6C10339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30C11F7-CEFC-4089-BEBE-7B66D7C1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B6BBDF7-5CA9-43F0-AE4F-9191187F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5A81F3F-9166-4C99-A75C-7D427084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AF2B558-8E78-4AD8-8C7B-3B54315A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A24CF2B-E72D-48B7-A2AE-7C5690FA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5F90FB0-D44F-46F4-821C-D2CEA817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11230B5-9E72-4858-A75D-00324AB0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C2A1C89-4118-4FE2-A5BD-F6A733C3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2D4E3A-0FB2-4475-B5DD-EE937B26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E80A-1902-4259-B847-0FDC25CF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AA1CD-0728-4116-9E6F-33E6DDF2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20672D6-6192-40B6-B887-6C26C344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B26D75D-7705-40B2-A4FF-714E0D57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D61E70B-F0C5-4929-97FD-CAE1B9A2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7F23790-5F9A-4827-8353-18C1F49C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50D5784-D096-401C-914A-AF67853C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E8359CB-0733-459E-88EC-6FEFF035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CB18020-C5A3-4101-994C-56F03424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6F11AB6-5C22-4FDD-A7A4-2FC34C2B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90B9A73-C64A-42A5-A20F-97E0FD45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5966FA1-9730-4588-974B-A94D7972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8231B-9AC8-4020-99DE-D8EA9A0C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07F8F78-307E-496C-A148-313C369D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86CE5C4-2696-4413-9A99-42FFE022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8FA9FF7-EE06-4A89-8530-4933BCE4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D637B6E-0161-44E4-A273-EA409DA9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7C1AD1C-078F-40EC-97ED-1C683A8C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83CEE61-F5D6-4836-B043-6CFF0C6E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B475D18-A8F5-4AF6-AB7C-12D2DD53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129AFD4-D02A-4339-944E-1DF8FEB1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7010F82-A24C-4392-A945-C6657752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32EE168-E8BB-44D7-AC74-A2B89005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E267A-DE8E-442E-9BB6-96240EDA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06C7829-E432-4A2C-9463-DEA0C156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8EF3AAE-716B-44B5-8F3F-61A8D50A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6ED9165-7BE1-4BE7-B838-FB0FFE26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897975B-9CE4-4F7F-BA75-5A70C8E2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B9104E1-4DEA-4500-8CCB-67470E66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2FFDF2F-0E01-4335-B42D-F948D6E2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72755B4-742D-4969-BDEB-619B86C1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498BBF9-DBAB-4A68-AF62-2798D946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076AA4D-EBD6-45C5-959A-D4B861AA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F561C7A-949C-4B15-A7A5-FAFE850E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449AA-F582-40E4-9A7A-6311E03E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14C023C-8167-467A-A04B-74AFCF38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1FDA126-407E-4FB2-96E1-EA706D6B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7A92B29-D65D-4931-8B4D-6BE911BB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28AD387-7CB0-474D-8AEB-A9E938C5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7854FA9-CE72-46E0-8922-5C0DDE69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93C06C3-BAA6-46E4-8989-784B1B5C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8EB17F0-75C9-48CB-8531-C1F9BA9B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A1391FE-2415-47B7-AED0-6DA7756F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DE65FC1-D906-4C6B-9160-5363B7E0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54A0404-2AA2-4266-B40D-D139A435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6411D-1AB3-44CF-88BB-A66D8602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5E7E84A-6168-4681-A491-38A349E6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D43D812-CFE8-4D65-AF91-FAD7164C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2E0E0A1-E58F-4BC7-9928-EE8221D2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59C198E-0DBC-4184-B820-10C5FAA0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EE8EA1B-4AC4-435F-B67A-6F9A1F91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02DAC6A-AB82-4BF8-B4AF-D92F30D1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E2A4FD9-674E-4B71-A1C2-8E8CA9AA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BCE1851-5858-45CA-9790-75D62FCA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7909C07-E62B-4952-9EEB-2A45CA7C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FFA3F88-D376-4123-941F-0E8A1076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A9084-1288-48B2-92D7-319BEF54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F1D2A27-4E48-4448-AB85-721B3B97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4DFE5C9-B1E9-4C34-B515-12847B12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A3AF2B4-B615-4F72-8DB1-F4A399F6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7CCE2B3-785D-495B-A302-66B8FEF8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E613F03-5068-496F-BFC3-2B1686D2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325F692-D4BA-4E8D-8AE1-1F4E61F9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B004D21-6ED1-4194-9903-B33B75DA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430EF17-89BF-4C0D-B8F5-4D8391FB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DF469FC-E33B-48BD-8AA4-EE255A89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E95F750-EBD8-4B8D-B3DB-5E1EA82A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C593D-EE97-47A5-AC9B-49B9F4DB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7F559BE-D158-4228-87C0-43BC1F5A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9A4DD45-CD6A-4769-BDF9-D9774AFD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30292D2-6E40-4055-83E3-FF53C25C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4A8ABB8-1A09-44E8-A8E3-8C865713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721D924-22D8-4AA2-B30A-457A36D1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A701CAE-349E-4FA8-A34B-DA4B4007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260818F-4AE1-47AE-89F3-0049DD31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B485EBF-909A-44DF-8784-CCC2787B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31E3FCD-C136-4ED7-99EE-E4514082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03293A0-BAEF-447E-AC44-49186DE3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B0406-D9B5-41FB-AEAE-D70BEDEB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B679D3F-A1F9-40C9-B3A0-F75E7630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567C273-B895-4A76-8AAB-D0DD6684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9C08162-2F22-43A1-B7B1-490D3730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2E09A6E-2547-4949-B2A6-7F4765DE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FF2AD73-8940-429B-8698-F299FD03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60830D2-99D7-42CD-9955-6132D48F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0C66D65-C1C5-46A8-BA09-8CB3298B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D29F876-0FAD-4EAB-8C0D-688CEE3E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EA70D1A-95C0-40F9-8441-220D6B5B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D4E7D20-D490-4CC3-AC8D-5FDDD9B5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C1F3F-5B49-48BF-90E9-9A9E3C35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307F563-FE81-429E-A90F-E58CFC5E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BA62C86-25E5-40EC-8B95-E91C8428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F2823DC-3BEB-4790-9D72-9CED9227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AAFE6E1-7922-49AE-AE0E-ACD585F3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EA53932-81C1-4045-96AF-6EA736A1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E1C8AD0-1F48-40E3-9021-02E57606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E4E4061-8A21-4AC9-950A-5E7D2A37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A191B55-FD9D-41C5-B17E-1910070C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D8F3242-80E0-45E3-8DC0-64B49AF8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B346746-C755-40F8-AEE9-019FA77A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E0CEB-1D87-4A77-AE95-20B06F54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5689AF7-C9B8-429E-88C9-A1E97644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1A60C58-1864-4E82-B233-C4A4773F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DE28DAC-2DC6-4D01-9BA5-64A02A75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AD02CF5-A644-4386-857C-B8E95BDA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C6C3AD3-D1E7-49B0-88B8-A6448493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13C7B1B-F7F4-474D-B333-DCD29D09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6FE2AF7-21F4-40CD-90DD-BDED3005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0909C92-0D94-410E-B2E6-8B290A67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612C0D4-F9A6-4965-B9CC-0164EB64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84A6CC6-9367-4EC5-87F3-F32A056E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5E7-61F0-468D-972B-FC1918B6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47278-75D8-4F5C-B636-878A8D09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647A826-2CA6-461C-B7B6-C078FF37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F96FC6B-4402-4644-BF57-FC9CBEC6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D2E1F27-0560-4FA2-8CE7-6659C660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6D00358-5817-4AF8-B302-C43BAFD8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66B1524-C1BF-40C7-A95E-344417D9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B017193-B9F2-41A8-8C3F-0F0E23F8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7CEA595-165B-465C-A121-F3B6D55E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AB5051B-9D50-45B0-A0A8-98C34479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8AF2375-9858-4E64-8B06-5515F551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7ADC1F3-C901-4899-A7B8-2B35F9CD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38D23-C829-4730-91A8-EBC4F12A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6B34947-D194-44B2-B1D3-0CD0C5A8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A7C639E-990F-4CDD-B53C-C118BCF8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0F2A03C-0AAB-4D52-AFE1-F828D3C8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CDC0EBC-AAE5-4940-9B50-0AFC41DD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15C7D6B-8525-4927-B406-75F11D97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A1DEA7D-6A06-4953-BD71-C610238B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6CE1E0E-891E-410C-9D99-5C5EB2F6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1CA1250-628F-4FF6-AB63-6EDC03B2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21437B6-5DE0-44F5-A16D-0DF59D7D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1867D06-ADFE-4FC9-AAD7-D821E2FD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F82D6-F83F-42DC-BECA-0E2C81C0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06EFA76-F799-4804-871E-0D57D908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CDD580B-30F1-4FE6-A54E-AEDCC8F3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FCA41E8-8700-408F-9F0C-60A9462F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F8DB8E3-C88B-4075-A3C9-D985277B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0F6BB06-6898-4898-AD04-11BC488B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2D77A9F-EEC9-4FC7-A85A-8F25C0A8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88F56C3-40FF-4934-9C1A-562FCB0F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0370D6B-9F0D-4986-85E7-75ED12BA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72F5D8F-E557-4A5C-B6AE-14B24634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6023F4A-138E-4EC3-8ECB-AA0B5FF7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B2B02-049F-4A96-A340-E570A49A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27C5151-BC2F-4EB8-9DE9-EEB9AC84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C51BF29-EB52-4A98-A2FB-85061682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505DBA8-EAC9-4834-9790-29C238DB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0A2D6FE-D8AE-4946-AC64-862328A7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D0DEFCD-D50D-4F2F-87FB-D0B37A61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15EB5DC-4D89-41F1-850F-87B94C68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A0E0DEA-BC20-4E72-8736-FBE6775A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53EAC4B-4B18-43DF-8DFD-8E3B0550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4507995-6060-40CF-B697-7E6370BA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B13911E-31AA-4104-BA22-26C59515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0205E-B23D-4B14-81DE-B42C1727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0600291-2DCC-4A07-A06C-35D0A2FB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CECD020-30C7-4A34-8B3A-8B7B0746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001FD07-C5BD-4374-B884-ADE926F6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CA8332F-CB77-4E00-BA79-EDAEA8DA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BB759C0-A8EB-4C50-928A-71A0388C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1C91720-C998-4C02-BE4B-A8FF2290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02CB204-73C3-43D9-B919-E7B65791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CB9B80D-2F27-45FF-AA1D-A0CC4A36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2A2FAF3-1ECA-44BE-93A2-E4273069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59F7D48-70C8-4B2C-9008-3F78D68A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215BB-0573-4500-9279-5EFEEC20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5225E0D-398F-4350-B23A-416BA66E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B7B92EA-A1BA-4F64-BB6A-4C16CB1F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756A4AB-779F-4C3D-96A4-D8DCA5A2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60A767C-2B83-4765-ABD8-47598E8D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345C138-37A2-4AF8-8D54-F3BC3BE5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F1437E0-44C2-4193-924A-B73A6424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C6EBAC1-68DA-41FA-949A-12A4B920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DE0A47F-A1B7-4A61-AE42-D3FAF947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805AC77-6C34-41A7-870B-E74284D8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CEB201F-38BD-4110-B7DB-9942CA1C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921A5-8B20-4868-8B7E-C5DB5F54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9112353-538A-4979-BF58-907F25C1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09F179C-1C64-497B-95BB-0EAEF9D2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81991CB-0895-49A3-9ABD-54E361D9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D6D8608-B204-41B4-B7BC-A596EEBA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81C816F-CE41-4881-91F3-5F8C6474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86426D2-4F41-408B-B57D-E4005FBC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C86BDD9-4903-4F20-B99C-0DFB8833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08B9943-7E76-48B5-B72A-D42C5021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EB93602-2E9E-400B-9A3E-8C9D06D5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5B24DF0-9339-4E0F-A2D2-C654B559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70870-2F86-4EF6-9AC9-A06BADC7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DFE9C1C-05AE-4647-A273-DF16BD5B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E632842-D08D-456B-ACDE-0D6921F4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24BDCAB-B2ED-4211-B71C-733C83D3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974C8D8-6E87-4702-BBC0-D52FE80E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CA3668E-EC15-4D03-9018-A6B6BD33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B49214E-9E7F-4748-BA29-D917A3B2F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71E5EEF-32BF-46E2-85BA-E1D3C385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0AFF44A-CF0E-426B-9BB8-7497A113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1E31063-6F10-4720-B602-CEC26F20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A0E3328-7ED2-4419-8638-A48BA13F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C55D4-ACC0-4911-A4E6-A7A4E465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9B89700-00DC-4769-BA82-DECD5AF3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7AEB942-F55D-4885-BCD0-9F1B2294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D35769B-8606-46D6-8567-5D5D885C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2123E11-1F3F-4B24-9D59-486825F9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E209764-2E5D-4613-A5FA-0E3769BA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541810D-6771-4634-8F84-A5E9B4AF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71D635A-6D62-4178-860B-556C78FB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9D6B97B-CF18-4071-AB65-24C7427A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A5B8C74-EB35-4CFD-AB76-A79CD3D1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D3C28CD-7255-4BC4-85E3-5B6E7123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B7A2D-21D4-483C-8663-3BA223D4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B628E13-5689-4670-A6B8-B5B4F8BE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5006005-B7EE-4EE9-BA3C-F58782A3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D2B4659-C15A-45F0-A280-1384F882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CCD0726-0313-49D3-8D55-AE141160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69E8587-45A2-492A-8FEF-F3E0D27B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274333D-443E-4FAA-BFF0-882FE04C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213419F-646B-44FE-829A-B64A4440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C23938B-4AAB-41CF-89A1-F3F00B6D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0F5EFEF-4A21-4B55-A4C8-661131A6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64BE059-A24F-4858-8B02-E870BE70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B4F1-63E9-4758-8292-BE618EAD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CF08E-188B-461A-8DCD-F0B6C726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F1B7B11-EA90-4A4D-B869-2569CAD6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DDA60C5-30ED-4378-A755-9CE6335F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D5D0425-7863-4D74-B762-4E4BBE43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E0EA24C-193D-482A-A71A-DA19D640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EE297D9-8643-4086-A120-9230ED4E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AF17FD0-6269-4DF7-BD69-DC0DC5E4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C5F1235-BE3D-4A49-8D8E-565504B6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0237E70-C675-4784-A052-4C14A56D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0934FE9-604D-4F55-A25B-0210B3C7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C6185ED-DA3F-45B1-9900-0CB34E5F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87D77-1AD7-4ED5-97D9-CA4ECCBB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F7AB8CE-F35A-4ADE-A064-F06417FB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0EF9804-8523-4EBB-B39C-F08CCD93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D5FCA8D-5848-4A3B-9D8A-213D4BC0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2029525-13ED-4EDE-A9A5-EB89C69D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56C8D3F-F64D-4D8A-A1DF-600168D8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F0B0135-81F1-4DD7-BF84-2D7C8943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5D8F722-E50B-4FFF-86F7-9B5144B1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08C7754-30D6-4497-B925-4E2BF255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9749498-FD95-4C3D-9229-560DC9A9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3E581A2-04EA-4633-9ACD-3D9AF853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707E6-9B79-4AF0-BBD4-E5F777CC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3DCB5C0-0AC2-4B6D-87D5-BEF55E1F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AA98771-28CE-4F19-BD74-2E8DD926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D6C9F72-6190-4ADC-8F4B-1EB361E5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5343C8E-D6E8-40D8-B2FB-54327B53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D754CC4-995A-4219-814E-B5D137FF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EEE23B8-F50E-4204-942F-92DCDBEE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084B98B-36B2-4EC6-B7D0-2D9C223D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D8E6DAB-BC9F-462C-8BD1-FDFC554A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8489870-47AE-428D-A9A1-82C31BE0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412A8C7-4384-4279-AA41-4B6F43E5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DE451-B259-4954-9E05-6688F5C8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9745484-180C-4928-9C40-9AE64936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8353B4D-BC8D-4673-B92C-45488FA3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6A6BA0A-9817-47D3-9DA0-272A2BB3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2AE2317-7DC9-412E-B737-81CA32C9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AFB01BC-9485-4395-9044-527F5F89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6E2FB5B-30F9-4C71-AF03-8279630C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0D5AAAB-E2D4-4687-BD51-088851F4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18D19B7-87C2-4649-A67A-401FA99A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50A8B43-CA75-4CF6-80EA-98B49A45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D4DC2FA-87EF-40A6-AA4B-F8EDF7DB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74A2B-8199-4D8E-A9B7-7AB160BC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5862882-7F43-45CC-B937-2EA04476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F134537-B5AF-4E20-B6A1-4C5AFB42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8D58064-CBDB-433A-BE83-BA758931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474B47C-427F-4BE3-A606-F0E5882D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1CD59BE-98B1-4F85-A43A-25BAAC62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257C94A-6579-47FE-850D-5C49E42A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4A524DA-9E4F-466F-8848-6BD5340C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3287992-1EA8-4D72-8251-786F6408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01593A1-DF5A-4B9A-8AFB-42D80C90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FCC1CFF-88EF-41F3-9422-BF3C25E3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2248F-DA8E-4C61-8C4E-66B3411E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B0B792F-A08F-46CC-A86A-0C5FAE9D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4EDBF5C-A19C-4EBE-B33E-19846F99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253C4BE-3DFA-4EF6-B558-C4D45CCA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B2647ED-9EE7-4B96-ACAE-94744D3B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F353603-FBD6-4002-A360-18D62D39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C63B0D8-A614-4D19-B4F8-DF8D6CF8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CB63C70-5E16-4AF6-B3AC-0E0CDA8E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B2A8951-5372-4D0A-BFBA-39A59809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CAD2A49-004A-40F3-8827-87B3B56F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E33C538-CBE1-40AA-BB34-5FAAAE44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EB735-DBFE-4A92-899F-A257518E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04DB0F2-D3EF-48E9-B88B-E5F004BA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4AFA898-4DDE-47C5-A000-DB519B4D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AD8B309-5478-4F3D-82AD-3BD6E6A9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6679355-0434-464A-8736-27503DB0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0FE1133-4740-480B-B33F-AE08F425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B178FE1-A4F2-4C5D-B8A1-CCB94532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5C0F507-0101-4B80-B970-EAC6967A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02CE23D-5B76-4B41-B4DF-053DDB53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31DB8CB-450C-4A85-9548-323AE6D4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DD6D304-537F-436C-921A-C6A12077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72128-41E5-4002-9AE7-C28D7668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B4A77E0-ECDE-467F-827E-C31769BC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867BAEC-92F3-4DE5-AD91-8E13EA4B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A543706-6755-4372-901B-7FFDDAF7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F938515-A5E9-420D-85C6-5E9CBD95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B8EDC9B-887F-4226-8DB6-52FCC8F8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5AA9AA9-FCBD-4BD5-8478-F6D296F0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CEA1262-8C66-4AAF-BDAB-45D6BECE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15E2812-F4F5-442C-80C6-262966B7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0486E40-08E8-4FDD-872E-1ECFDECF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A0B4FCC-BA02-419C-801E-B5D1F076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D2CD9-CD2D-45E3-A024-7A0942B0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92A1A3F-70B3-4D12-A631-225C2ED9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9648CBC-DBC0-4B98-88C9-0AC891E5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48D470C-F5E6-4F26-8949-3C0899FB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188A2B7-7D0B-4AAA-8009-6B3DE672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F0078CB-39BF-43DF-92FA-677507B2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3E6360D-1CE0-4D02-8D36-DAAFC8F2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5915EA8-CDA4-41D7-B46E-6F768941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C09C88E-2239-4E52-897C-158ECB72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2E5790A-A673-47C9-A031-32D59821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36ED138-D813-411A-AF10-2BB9F35C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6ECB2-60AD-4C43-9154-93940732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2682B62-DAA9-4712-8556-D385FA40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4472B83-3732-42B0-BD90-C2EF4A58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1821F48-8957-482F-9BF3-0AF6AABF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48CA413-D34A-4A92-A213-553A565C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9B226DE-520D-4BD3-A6C6-599ECC09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8155FC3-1B76-47CF-ADE9-2B54B702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19F626D-CD06-432A-A79E-5F3B0797D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74D2BDB-E51C-4FD7-8D7B-E1E05230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978B719-AB39-4579-A916-A5100088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02FFE1C-90D5-4244-9FF9-462CAB3B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B5F-7BD7-4578-B54E-FB358B2E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13416-BFC5-4E85-AE2A-8B534AE9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E2C2973-9A8D-44E3-B3CC-68A193AF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391B520-F8F8-430C-BC15-64CFD22C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C38DDBD-DEBB-4334-8A27-C9C93DFF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73EB9C8-6FF3-44AC-B258-A289F7DF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AEFB9AE-CB02-4621-B435-73838A03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0C8EE12-CE7D-4F7E-A5FF-217EBB5C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869BA5C-DE54-45F3-A563-7E399890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2E96610-CD80-4031-BAE7-0C71EBE3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C011449-F0C7-4F96-BD5B-EFF0F461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F580C5A-CFFA-4E38-9B7F-A789041A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51148-3615-433A-900A-F6333F7A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757FD2C-3E8A-4F57-BC8C-77A46564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543E343-DBE8-40E8-9D82-FADEF373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F57EC4D-8D03-42F8-9AF3-44DBA91C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1F01DC0-C438-4FD1-A6F6-EC09990B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10F6AAD-FC7A-4CD9-B34C-845AD3E8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1BB14E0-9EC9-481D-AB9D-411E97F4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1CA7B19-0E98-41A6-BD43-E4B23C8D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E2BC695-6CB8-4EE8-AC02-2DA92CE9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A9C66B3-0025-4656-955E-A64252DF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39C189C-A588-45B7-B594-5C2B088F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9E1BB-C6DB-4AFE-A316-AB44893E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3064FA5-F23E-4A6D-AA9C-8704CC17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C9F2354-91BF-4552-85A7-D0FA70ED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270C50C-E793-49F2-92D5-6F2CD169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4A998C5-F360-4B16-AFFA-3E0773D4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40DF28E-815B-42E7-8370-25141F71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3BE9267-F975-493C-9E60-75996B99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33A788D-4A66-4058-8824-3474A3D9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F4867E5-E1F8-4CD9-88AB-D6A8588C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EFD4B68-B675-4B59-80F9-27DABBC2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4B94768-9C00-45D5-964D-CC22EF0A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8E37F-4A68-4D20-9170-D312AE4D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47E690D-0E27-478B-BF35-B69088FC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8FD0759-69B7-40CC-808D-F35A67D2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22173A9-2ADA-4FD8-AD9B-5AC55661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8CE75E6-FE7A-49CF-BE17-F26DB968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BB5A6CD-7F54-441F-A8DD-C3A4AE30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674DC81-3B81-489B-8B03-FA7A2A26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6C425EC-C3AA-4874-B34B-C433955F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6A5D2C6-DFAA-41F8-8961-7CC0BD49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948E2DC-B031-426F-B4B2-DF1CF538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36D0193-3A23-4F83-B2D3-29D0E328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A5C91-3950-4C81-8E29-97439F55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C14A7DE-263C-4E3F-99D9-6B691F1B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2836194-9F8D-4E5C-ADB8-282F6472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54A8251-ED07-46AB-8D60-B26A6613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C74EC4C-22AB-40A0-A7E5-95B6738C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1CBDA8F-2B96-481D-9F5E-17649BBB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6033286-F646-47CE-BB9F-5F78EE61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EEFDC6B-C65F-4AE4-B64F-6DCA47BA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7256186-48CE-404B-99CC-EB370D17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9E6F678-3CB9-4960-9164-78C83F44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B994F31A-50B7-4CED-BF49-A9AB61A2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534D1-0422-4A90-9B81-08E1BA1D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134D439-0B9C-48D9-AD54-585F90BA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84F9C51-A137-4581-93B2-32F5BB1E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39C3919-FFC6-4A36-96EB-E5B0EC25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B75AE13-D281-4FB6-B55E-5244EFE5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9D60DB1-BC3C-45F0-BD52-BEB4D7D1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5C6CE7F-2F38-491B-8B71-108D0E85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FC716EBD-7F71-4432-AA11-00092D10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2D0FEE1-58E8-49A3-B634-5EB73792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5D37FB9-4823-406C-8D22-4B7129D9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F23D6B4-82A2-45D2-9721-96CEDD78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F20BD-9F31-4757-B716-A35A1F1A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6925FE3-5B57-4CFE-844F-7B215B4E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206FB39-095E-4ED2-848E-58ACD0D9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36856D1-2774-4FC8-99D1-1AF473BD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2D7C55A-1374-4527-BF41-75E9B2B4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38782D4-30B0-4CF2-B0E5-D956F965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9595ED2-4413-4F05-BB0F-BF46546C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5E1B98F-72C5-4AB6-8BFD-3627C653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456F370-6B18-4CA0-BA04-5B107E6D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34C7DAA-40EA-409A-B133-ACBC5964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3CA6A46-5FFB-442B-B7C2-5A19C6ED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8263F-6347-4557-9358-98DECEE5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D46E48A-AAA3-4E92-8F15-ED572F21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D313F89-CBB4-42CB-B003-B5F1E503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7BEA91E-3B1F-4EAD-A216-D31AC72B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4FE86CF-5EB3-41BF-A362-B2F3349A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21B4642-B918-4C85-89FC-CE8F9B70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B39C984-D6FB-4E33-A208-96A1EFC2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D08A20C-1D4A-4E38-AD78-486CC27A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28097A9-0C96-4B63-9DF5-FC90C9F0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BC8A568-CA3C-45BF-804B-C94185A0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43357ED-7DA2-43C6-8166-2A85AD5A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6ECE2-C6DD-47B6-B442-78D87AFA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CCD6A1E-E1DC-469C-847C-D4ED8C65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4AE7E24-D501-4D4D-9EE3-647FD7B6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E881BAA-14F5-4FC1-BB8F-D0DFF851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589244F-496A-4158-A393-B8CC2A7B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931690D-E642-44C6-9CDF-34CA3494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83556769-27BE-4E40-A665-EB6AF412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9967084-14C8-4A2D-B4DA-F6CF8F50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B3FFBD6-1FE1-462F-A6AB-9F76E233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7BB2041-85EB-4CD1-94B2-6AFB2C03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62EBDAD-0531-47BA-A00B-4C4B987C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C829C-C8ED-4262-B77E-D2D660F3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6106BCC-2456-46C8-9CEE-3D5D13FB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2EB47E1-7C0E-4657-B4B8-1926AE86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8574CF6-F9BA-4BE4-BDF6-4E0F8A32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2D38E5A-9CB8-4128-BD9F-BDAAFD83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6007FEB-74F9-4069-AC68-8F8836E0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244FFDE-DED4-4626-8271-3616F41D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F02B44B-B4D5-43E1-911B-CC4E37F2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111FD54-FBA4-475D-95A2-39D82F61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E77A127-2FFF-4EDD-8973-DC0A9CD8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30D1FE5-4D45-4E77-A018-244D94A2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32B9-DAC8-41A5-976C-17B99D2E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2428C-6EF0-41EE-A8E6-6FA2592D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1C27235-3B3E-432D-B49F-03C644A4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2DFA8A8-178A-4902-B011-46DCFBFB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E1E926E-B072-4127-B500-0A53CB82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4E4516A-A213-4FBF-B301-59DE0A794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3E3559F-F3CC-4900-9149-E8BCF39E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518B30E-A203-4F89-A62B-1FF15F0A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5D126D8-E4BB-4C5C-8C2F-764C951F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2C8DD33-6321-49A5-954F-9C894AF1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E0170F4-47D1-49C4-AA17-F453BE19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891EC75-7BED-4C43-8CDA-386D4706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40B4A-CFD9-44CF-BB7C-09EB6F6A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93552DC-8BD3-43BF-AAAC-79467565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570627C-2760-4B3D-8929-66A69032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3B75918-9042-4E51-89D4-8E12B524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70FBA17-25D3-4EEC-9FFE-AC5998AE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C833632-E2B2-4B41-B1B6-18F39C26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4254933-D6CF-4CC7-A8C5-2C154049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4C0E5C5-4992-4A2C-8689-52507E0F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E0CB906-396E-4A4F-8FD3-C834E74E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71A329A-5C53-46A7-9B5C-B4E8648D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540591A-81D0-47E8-A979-62C15937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BC20E-D8C9-4D36-A23F-58234073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27003D9-9809-4427-A5A1-C1C7C008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813E411-7933-4B06-B3A7-B6DE53CC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2AC287C-F909-46D4-B592-868959C1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6C584E7-A474-4D5F-AE52-29A68522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956FB11-1DD3-4D29-91E8-799A1180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9331705-4E7A-4DA8-817F-DBA65EDC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6B56F56-C22B-4150-BB88-4CA30F0D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938A9F15-890C-47F7-BE3B-77AB76E9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3806E64-6AC6-45E2-88A6-C7A732D9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97BB81A-3B31-4293-A835-0D92E9AC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05DDE-B6D8-401A-AAEC-07B6746A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8F9A038-8C68-47F4-98E1-1C4D30BC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C807106-CF05-4C12-8C22-443053F8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6CA063E-CF87-4A54-8705-53D25544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6981E32-A88B-49D2-8B7B-77FCEBB3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9F591E1-6474-415C-B255-7341FB11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0E396B2-A2AE-4E47-9318-0A9E318D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EB8C969-BF39-4D29-B175-93C4F6F8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80E9C9F-176E-4273-8BE6-36C42202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E8AA3F3-7CEF-4A46-8AFC-9179B3DA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12A8ED6-3F33-4105-9026-FC9C26CCA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447EC-F71E-4AFF-A1C7-2DB82124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66DE888-0B67-4C2F-AACB-6E2E7A98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FF98338-4599-4215-B01F-49523A7D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079674A-F0AD-425A-B55E-0432A309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CC27678-C597-4E5F-81D1-C30BDB1E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B6BF01A-FD9F-49D2-8401-71F26948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71326A3-D839-44A8-9F2E-EEB567BB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16A3E34-0841-4ABF-A2AD-734ADA2F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2729DA0-7B99-4C4B-A07E-A8CD6B9B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3647CFA-AB59-439D-A190-DFCAEFA5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C3F0019-1F54-4F39-A1A7-3CA43A80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8219C-0221-4F39-AE40-6D621E76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BF484FB-A100-47DA-B26F-BA71038F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E5DB40A-C6E3-4B81-8F42-FC5F6CB8B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19DF201-AF15-466C-8698-B7959DEF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14CA2DB-3FF4-4D5D-AB8D-976661B3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522BC78-DD50-41DA-82F8-8DD45199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8A08489-77E4-45C3-A8FB-F8A47D1D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83FFD50-32DD-4A21-8EDF-98392DCA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654A96A-535E-472C-8725-F87C1B2E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E6F99B6-42CA-4289-91EE-C9744E92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666A326-10D0-470F-87AC-51F875E3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24707-5246-466A-9064-97FD2737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CD7A164-35E9-4CB2-BC70-94F4DD58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708C86D-B5B0-4F73-B27E-4B508402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4D305D4-E066-4DC9-AF0F-1E4C7C2F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42E1382-D4FC-4474-BC13-88FFD420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B9A1315-F101-409C-AA96-99F99E74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8CBAEFE-EAFC-47CB-81E7-0B53F863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C3FD797-572F-40E4-805C-D7F1E34C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CAB6176-B58A-4FD2-9B03-4B8EAFAB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22ADB25-D658-4604-AEED-E7D379E5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46C1402-550B-487B-81A0-5BE016F2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161AD-4531-4D51-84EA-8E4C5700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48C8CE5-294B-44E9-BFD5-BD1934E7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BA5E99E-93D6-4596-856E-16766123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6AD2B0E-282C-46D5-95D0-6002A897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3ED9229-78A9-4BC2-B0C7-340E1536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293491D-EDF3-4019-A33B-4B09D033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8AB5600-31E1-4DAB-8E3B-9EE3A611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F5826CD-4597-443D-9A85-91BB9903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AAFD601-38F5-4CE5-83D1-F23F5F95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C48B45C-3A53-4F76-8E60-19AF4F7F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54463E81-52BE-4FD0-A579-5BF95940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E204D-5BF1-4478-AFC3-634F078F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E9D8778C-F344-4218-97A7-83C4E23D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2C22250-B8F8-482D-A4B1-97EBD7EA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066E1A7-1230-4F97-9A31-92CDE813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270BAFC-002F-490E-A2C1-0EF40774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22DB9E5-DBF2-45BC-947E-3AF7DACD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31DD0C5-D6D5-4389-BFF9-8CA7B607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3B3B0F6-207F-4452-A241-0EBF0270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6805617-CFA2-4F5A-B74F-15C854B1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3EA738D-C71E-40D7-95F9-E96C0868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A656C44-A835-4BB3-8E6A-7DB110EA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A80E6-C9E1-4415-94C0-D867DC57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5709522-6036-4176-ABB8-4E0F22A8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F9E43051-639B-4BE0-986B-896D29A8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3DB6F45-C1CD-49B6-813A-71690DFD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E5FF9DE-0CDA-4800-BFDA-A9AC516E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3DCD50A-FD92-49EC-8187-E9D69AA4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C2880D7-865F-4333-B871-0FE39956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C7E26A6-6357-4438-B856-B28A9FE6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1DD3858-263B-4A44-8AA8-CA7B7082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AAE37FE-D8CD-4016-804E-5AC1EE61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2D2BF070-AFD8-493F-A8EA-5CE29068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7CEC-192C-43D3-ACC9-5D5D57C4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54231-7579-4AE0-98D1-D151A775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0BA0164-C745-482C-9350-6522F615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8F64B333-118C-4955-8931-074885E13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F3D7409-1F92-439D-9646-3116274E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2CB603B-69C5-4602-ACFC-20FE3244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EDF6FFC-0666-4ED7-BF49-60E1BBBC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C2A316A-244E-403C-A302-B276A13B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736DAC62-2311-46D2-87AB-505A4C46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A63C523-326F-4924-89A0-15675246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1797E92-9750-47E8-B45D-5A60E9ED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02B3963B-B39C-4421-80B1-A8C7DC96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7CCAE-887E-4DF3-B45E-DF0C5F64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7E00EC4-1FEB-43C7-B62C-E96B6CA0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B000CBA-6427-4596-A11D-9B8C3242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6673364-3922-462D-AD4A-D3FB5175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F9705-B772-47EA-BBEB-CFFB9BD9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B7C80-63ED-48ED-A278-DEAD9EF1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9700B-CA35-4FB8-B7DF-BB4DCD29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7CD03-5230-410B-8ADF-A095573E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8DE1B-7083-45CC-9E62-D5320916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9B570-0A1C-4CF3-9F38-CD052B44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6C87C-C1DD-4D64-BCEB-C796DEF8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0B086-C10D-4170-8DC4-A7D09F29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B010-CD1C-41D9-8462-702B4180E0D7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G:\파워프리젠테이션\ppt pro\배경서식작업\최종수\A_배경세트(13세트)\수정_미란(5세트)\12345\일반02-1.jpg"/>
          <p:cNvPicPr/>
          <p:nvPr/>
        </p:nvPicPr>
        <p:blipFill>
          <a:blip r:embed="rId2"/>
          <a:stretch/>
        </p:blipFill>
        <p:spPr>
          <a:xfrm>
            <a:off x="0" y="0"/>
            <a:ext cx="9140760" cy="687384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66"/>
                </a:solidFill>
                <a:latin typeface="-솔잎M"/>
              </a:rPr>
              <a:t>Click to edit the title text format</a:t>
            </a:r>
            <a:endParaRPr b="0" lang="en-US" sz="3800" spc="-1" strike="noStrike">
              <a:solidFill>
                <a:srgbClr val="ffff66"/>
              </a:solidFill>
              <a:latin typeface="-솔잎M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1DBE-C7B2-4E90-BC95-FC75845B2076}" type="slidenum">
              <a: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G:\파워프리젠테이션\ppt pro\배경서식작업\최종수\A_배경세트(13세트)\수정_미란(5세트)\12345\일반02-1.jpg"/>
          <p:cNvPicPr/>
          <p:nvPr/>
        </p:nvPicPr>
        <p:blipFill>
          <a:blip r:embed="rId2"/>
          <a:stretch/>
        </p:blipFill>
        <p:spPr>
          <a:xfrm>
            <a:off x="0" y="0"/>
            <a:ext cx="9140760" cy="68738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66"/>
                </a:solidFill>
                <a:latin typeface="-솔잎M"/>
              </a:rPr>
              <a:t>Click to edit the title text format</a:t>
            </a:r>
            <a:endParaRPr b="0" lang="en-US" sz="3800" spc="-1" strike="noStrike">
              <a:solidFill>
                <a:srgbClr val="ffff66"/>
              </a:solidFill>
              <a:latin typeface="-솔잎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4FA8-FEE8-486B-9015-3A43C806FF37}" type="slidenum">
              <a: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G:\파워프리젠테이션\ppt pro\배경서식작업\최종수\A_배경세트(13세트)\수정_미란(5세트)\12345\일반02-1.jpg"/>
          <p:cNvPicPr/>
          <p:nvPr/>
        </p:nvPicPr>
        <p:blipFill>
          <a:blip r:embed="rId2"/>
          <a:stretch/>
        </p:blipFill>
        <p:spPr>
          <a:xfrm>
            <a:off x="0" y="0"/>
            <a:ext cx="9140760" cy="687384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66"/>
                </a:solidFill>
                <a:latin typeface="-솔잎M"/>
              </a:rPr>
              <a:t>Click to edit the title text format</a:t>
            </a:r>
            <a:endParaRPr b="0" lang="en-US" sz="3800" spc="-1" strike="noStrike">
              <a:solidFill>
                <a:srgbClr val="ffff66"/>
              </a:solidFill>
              <a:latin typeface="-솔잎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2C69-20A0-46F8-BFCF-B30EA830BB01}" type="slidenum">
              <a: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G:\파워프리젠테이션\ppt pro\배경서식작업\최종수\A_배경세트(13세트)\수정_미란(5세트)\12345\일반02-1.jpg"/>
          <p:cNvPicPr/>
          <p:nvPr/>
        </p:nvPicPr>
        <p:blipFill>
          <a:blip r:embed="rId2"/>
          <a:stretch/>
        </p:blipFill>
        <p:spPr>
          <a:xfrm>
            <a:off x="0" y="0"/>
            <a:ext cx="9140760" cy="68738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66"/>
                </a:solidFill>
                <a:latin typeface="-솔잎M"/>
              </a:rPr>
              <a:t>Click to edit the title text format</a:t>
            </a:r>
            <a:endParaRPr b="0" lang="en-US" sz="3800" spc="-1" strike="noStrike">
              <a:solidFill>
                <a:srgbClr val="ffff66"/>
              </a:solidFill>
              <a:latin typeface="-솔잎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7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DD2D-BE47-4329-BDCA-43DDB9CEC6C5}" type="slidenum">
              <a: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G:\파워프리젠테이션\ppt pro\배경서식작업\최종수\A_배경세트(13세트)\수정_미란(5세트)\12345\일반02-1.jpg"/>
          <p:cNvPicPr/>
          <p:nvPr/>
        </p:nvPicPr>
        <p:blipFill>
          <a:blip r:embed="rId2"/>
          <a:stretch/>
        </p:blipFill>
        <p:spPr>
          <a:xfrm>
            <a:off x="0" y="0"/>
            <a:ext cx="9140760" cy="687384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66"/>
                </a:solidFill>
                <a:latin typeface="-솔잎M"/>
              </a:rPr>
              <a:t>Click to edit the title text format</a:t>
            </a:r>
            <a:endParaRPr b="0" lang="en-US" sz="3800" spc="-1" strike="noStrike">
              <a:solidFill>
                <a:srgbClr val="ffff66"/>
              </a:solidFill>
              <a:latin typeface="-솔잎M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ED33-0489-430D-AEFE-77794E2ECC44}" type="slidenum">
              <a: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G:\파워프리젠테이션\ppt pro\배경서식작업\최종수\A_배경세트(13세트)\수정_미란(5세트)\12345\일반02-1.jpg"/>
          <p:cNvPicPr/>
          <p:nvPr/>
        </p:nvPicPr>
        <p:blipFill>
          <a:blip r:embed="rId2"/>
          <a:stretch/>
        </p:blipFill>
        <p:spPr>
          <a:xfrm>
            <a:off x="0" y="0"/>
            <a:ext cx="9140760" cy="687384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66"/>
                </a:solidFill>
                <a:latin typeface="-솔잎M"/>
              </a:rPr>
              <a:t>Click to edit the title text format</a:t>
            </a:r>
            <a:endParaRPr b="0" lang="en-US" sz="3800" spc="-1" strike="noStrike">
              <a:solidFill>
                <a:srgbClr val="ffff66"/>
              </a:solidFill>
              <a:latin typeface="-솔잎M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43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4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8552-A85B-4CB6-9C0E-F8F2E6CE10DB}" type="slidenum">
              <a: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2" descr="G:\파워프리젠테이션\ppt pro\배경서식작업\최종수\A_배경세트(13세트)\수정_미란(5세트)\12345\일반02-1.jpg"/>
          <p:cNvPicPr/>
          <p:nvPr/>
        </p:nvPicPr>
        <p:blipFill>
          <a:blip r:embed="rId2"/>
          <a:stretch/>
        </p:blipFill>
        <p:spPr>
          <a:xfrm>
            <a:off x="0" y="0"/>
            <a:ext cx="9140760" cy="687384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66"/>
                </a:solidFill>
                <a:latin typeface="-솔잎M"/>
              </a:rPr>
              <a:t>Click to edit the title text format</a:t>
            </a:r>
            <a:endParaRPr b="0" lang="en-US" sz="3800" spc="-1" strike="noStrike">
              <a:solidFill>
                <a:srgbClr val="ffff66"/>
              </a:solidFill>
              <a:latin typeface="-솔잎M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dt" idx="46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sldNum" idx="4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3358-3453-4F2C-B74D-38721A16A986}" type="slidenum">
              <a: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G:\파워프리젠테이션\ppt pro\배경서식작업\최종수\A_배경세트(13세트)\수정_미란(5세트)\12345\일반02-1.jpg"/>
          <p:cNvPicPr/>
          <p:nvPr/>
        </p:nvPicPr>
        <p:blipFill>
          <a:blip r:embed="rId2"/>
          <a:stretch/>
        </p:blipFill>
        <p:spPr>
          <a:xfrm>
            <a:off x="0" y="0"/>
            <a:ext cx="9140760" cy="687384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66"/>
                </a:solidFill>
                <a:latin typeface="-솔잎M"/>
              </a:rPr>
              <a:t>Click to edit the title text format</a:t>
            </a:r>
            <a:endParaRPr b="0" lang="en-US" sz="3800" spc="-1" strike="noStrike">
              <a:solidFill>
                <a:srgbClr val="ffff66"/>
              </a:solidFill>
              <a:latin typeface="-솔잎M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9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5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5BF5-1958-4F59-9DF6-F0F568D5BF2A}" type="slidenum">
              <a: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2" descr="G:\파워프리젠테이션\ppt pro\배경서식작업\최종수\A_배경세트(13세트)\수정_미란(5세트)\12345\일반02-1.jpg"/>
          <p:cNvPicPr/>
          <p:nvPr/>
        </p:nvPicPr>
        <p:blipFill>
          <a:blip r:embed="rId2"/>
          <a:stretch/>
        </p:blipFill>
        <p:spPr>
          <a:xfrm>
            <a:off x="0" y="0"/>
            <a:ext cx="9140760" cy="6873840"/>
          </a:xfrm>
          <a:prstGeom prst="rect">
            <a:avLst/>
          </a:prstGeom>
          <a:ln w="0">
            <a:noFill/>
          </a:ln>
        </p:spPr>
      </p:pic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66"/>
                </a:solidFill>
                <a:latin typeface="-솔잎M"/>
              </a:rPr>
              <a:t>Click to edit the title text format</a:t>
            </a:r>
            <a:endParaRPr b="0" lang="en-US" sz="3800" spc="-1" strike="noStrike">
              <a:solidFill>
                <a:srgbClr val="ffff66"/>
              </a:solidFill>
              <a:latin typeface="-솔잎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52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5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C79B-9313-4539-8586-11F4EC82097F}" type="slidenum">
              <a: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Picture 2" descr="C:\pptwork\0723\서식용\BL02_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858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124080" y="59436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5530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C621-4F1B-43BE-AA1A-DD94942AEF7E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:\파워프리젠테이션\ppt pro\배경서식작업\최종수\A_배경세트(13세트)\수정_미란(5세트)\12345\일반02-1.jpg"/>
          <p:cNvPicPr/>
          <p:nvPr/>
        </p:nvPicPr>
        <p:blipFill>
          <a:blip r:embed="rId2"/>
          <a:stretch/>
        </p:blipFill>
        <p:spPr>
          <a:xfrm>
            <a:off x="0" y="0"/>
            <a:ext cx="9140760" cy="6873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66"/>
                </a:solidFill>
                <a:latin typeface="-솔잎M"/>
              </a:rPr>
              <a:t>Click to edit the title text format</a:t>
            </a:r>
            <a:endParaRPr b="0" lang="en-US" sz="3800" spc="-1" strike="noStrike">
              <a:solidFill>
                <a:srgbClr val="ffff66"/>
              </a:solidFill>
              <a:latin typeface="-솔잎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290D-767C-47F4-8461-8D6F33F25723}" type="slidenum">
              <a: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EC16-2AF9-4C41-92AE-B0A4AAE9FAE5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dt" idx="61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 type="ftr" idx="62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 type="sldNum" idx="63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EDFC-D854-4F54-9F15-6229AF3D04C6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dt" idx="64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 type="ftr" idx="65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 type="sldNum" idx="66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8A9F-EB50-4750-88EA-6B5833338017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7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8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9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9761-636D-46BA-BB84-329BB95EA812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 type="dt" idx="70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 type="ftr" idx="71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 type="sldNum" idx="72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C8C1-B1F3-4065-A9A0-38627F744B47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dt" idx="73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 type="ftr" idx="74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 type="sldNum" idx="75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D122-5248-4702-BD10-D5917BF8A0DE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 type="dt" idx="76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 type="ftr" idx="77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 type="sldNum" idx="78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D1BC-2361-4F27-8155-8E9053945774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 type="dt" idx="79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 type="ftr" idx="80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 type="sldNum" idx="81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D848-5430-4393-90F9-5EEAE221A0C0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6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82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83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84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0993-87A7-40D5-837C-2FA1ED19D088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 type="dt" idx="85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 type="ftr" idx="86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 type="sldNum" idx="87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BCF7-4607-4584-B6CA-1C118DE7C967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98C5-0BE4-4451-A59A-5FDD22F03001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2"/>
          <p:cNvSpPr/>
          <p:nvPr/>
        </p:nvSpPr>
        <p:spPr>
          <a:xfrm>
            <a:off x="0" y="0"/>
            <a:ext cx="9159840" cy="686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3"/>
          <p:cNvSpPr/>
          <p:nvPr/>
        </p:nvSpPr>
        <p:spPr>
          <a:xfrm>
            <a:off x="0" y="3433680"/>
            <a:ext cx="9159840" cy="3433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AutoShape 4"/>
          <p:cNvSpPr/>
          <p:nvPr/>
        </p:nvSpPr>
        <p:spPr>
          <a:xfrm>
            <a:off x="343080" y="2295360"/>
            <a:ext cx="8458200" cy="2286000"/>
          </a:xfrm>
          <a:prstGeom prst="roundRect">
            <a:avLst>
              <a:gd name="adj" fmla="val 9306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3" name="Picture 5" descr="C:\Slide1.6\ClipArt\일반심볼\CA0209_6.emf"/>
          <p:cNvPicPr/>
          <p:nvPr/>
        </p:nvPicPr>
        <p:blipFill>
          <a:blip r:embed="rId2"/>
          <a:stretch/>
        </p:blipFill>
        <p:spPr>
          <a:xfrm>
            <a:off x="4038480" y="1143000"/>
            <a:ext cx="777960" cy="914400"/>
          </a:xfrm>
          <a:prstGeom prst="rect">
            <a:avLst/>
          </a:prstGeom>
          <a:ln w="0">
            <a:noFill/>
          </a:ln>
        </p:spPr>
      </p:pic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1" marL="743040" indent="-28584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2" marL="11430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3" marL="16002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4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5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6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88"/>
          </p:nvPr>
        </p:nvSpPr>
        <p:spPr>
          <a:xfrm>
            <a:off x="6858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ftr" idx="89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sldNum" idx="90"/>
          </p:nvPr>
        </p:nvSpPr>
        <p:spPr>
          <a:xfrm>
            <a:off x="65530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5FEF-0FB7-4F41-AA34-D868198E40ED}" type="slidenum">
              <a: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2"/>
          <p:cNvSpPr/>
          <p:nvPr/>
        </p:nvSpPr>
        <p:spPr>
          <a:xfrm>
            <a:off x="0" y="0"/>
            <a:ext cx="9156600" cy="686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Rectangle 3"/>
          <p:cNvSpPr/>
          <p:nvPr/>
        </p:nvSpPr>
        <p:spPr>
          <a:xfrm>
            <a:off x="0" y="3432240"/>
            <a:ext cx="9156600" cy="3433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7" name="Picture 4" descr="C:\Slide1.6\ClipArt\일반심볼\CA0220_1.emf"/>
          <p:cNvPicPr/>
          <p:nvPr/>
        </p:nvPicPr>
        <p:blipFill>
          <a:blip r:embed="rId2"/>
          <a:stretch/>
        </p:blipFill>
        <p:spPr>
          <a:xfrm>
            <a:off x="8458200" y="122400"/>
            <a:ext cx="384120" cy="487080"/>
          </a:xfrm>
          <a:prstGeom prst="rect">
            <a:avLst/>
          </a:prstGeom>
          <a:ln w="0">
            <a:noFill/>
          </a:ln>
        </p:spPr>
      </p:pic>
      <p:grpSp>
        <p:nvGrpSpPr>
          <p:cNvPr id="1268" name="Group 5"/>
          <p:cNvGrpSpPr/>
          <p:nvPr/>
        </p:nvGrpSpPr>
        <p:grpSpPr>
          <a:xfrm>
            <a:off x="247680" y="257040"/>
            <a:ext cx="8648640" cy="6313320"/>
            <a:chOff x="247680" y="257040"/>
            <a:chExt cx="8648640" cy="6313320"/>
          </a:xfrm>
        </p:grpSpPr>
        <p:sp>
          <p:nvSpPr>
            <p:cNvPr id="1269" name="AutoShape 6"/>
            <p:cNvSpPr/>
            <p:nvPr/>
          </p:nvSpPr>
          <p:spPr>
            <a:xfrm>
              <a:off x="247680" y="688680"/>
              <a:ext cx="8648640" cy="5881680"/>
            </a:xfrm>
            <a:prstGeom prst="roundRect">
              <a:avLst>
                <a:gd name="adj" fmla="val 619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AutoShape 7"/>
            <p:cNvSpPr/>
            <p:nvPr/>
          </p:nvSpPr>
          <p:spPr>
            <a:xfrm>
              <a:off x="247680" y="257040"/>
              <a:ext cx="3952800" cy="1850760"/>
            </a:xfrm>
            <a:prstGeom prst="roundRect">
              <a:avLst>
                <a:gd name="adj" fmla="val 97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1" marL="743040" indent="-28584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2" marL="11430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3" marL="16002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4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5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6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3923-054F-4CAE-97DB-BDFA97235A27}" type="slidenum">
              <a: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2"/>
          <p:cNvSpPr/>
          <p:nvPr/>
        </p:nvSpPr>
        <p:spPr>
          <a:xfrm>
            <a:off x="0" y="0"/>
            <a:ext cx="9156600" cy="686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Rectangle 3"/>
          <p:cNvSpPr/>
          <p:nvPr/>
        </p:nvSpPr>
        <p:spPr>
          <a:xfrm>
            <a:off x="0" y="3432240"/>
            <a:ext cx="9156600" cy="3433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4" name="Picture 4" descr="C:\Slide1.6\ClipArt\일반심볼\CA0220_1.emf"/>
          <p:cNvPicPr/>
          <p:nvPr/>
        </p:nvPicPr>
        <p:blipFill>
          <a:blip r:embed="rId2"/>
          <a:stretch/>
        </p:blipFill>
        <p:spPr>
          <a:xfrm>
            <a:off x="8458200" y="122400"/>
            <a:ext cx="384120" cy="487080"/>
          </a:xfrm>
          <a:prstGeom prst="rect">
            <a:avLst/>
          </a:prstGeom>
          <a:ln w="0">
            <a:noFill/>
          </a:ln>
        </p:spPr>
      </p:pic>
      <p:grpSp>
        <p:nvGrpSpPr>
          <p:cNvPr id="1315" name="Group 5"/>
          <p:cNvGrpSpPr/>
          <p:nvPr/>
        </p:nvGrpSpPr>
        <p:grpSpPr>
          <a:xfrm>
            <a:off x="247680" y="257040"/>
            <a:ext cx="8648640" cy="6313320"/>
            <a:chOff x="247680" y="257040"/>
            <a:chExt cx="8648640" cy="6313320"/>
          </a:xfrm>
        </p:grpSpPr>
        <p:sp>
          <p:nvSpPr>
            <p:cNvPr id="1316" name="AutoShape 6"/>
            <p:cNvSpPr/>
            <p:nvPr/>
          </p:nvSpPr>
          <p:spPr>
            <a:xfrm>
              <a:off x="247680" y="688680"/>
              <a:ext cx="8648640" cy="5881680"/>
            </a:xfrm>
            <a:prstGeom prst="roundRect">
              <a:avLst>
                <a:gd name="adj" fmla="val 619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AutoShape 7"/>
            <p:cNvSpPr/>
            <p:nvPr/>
          </p:nvSpPr>
          <p:spPr>
            <a:xfrm>
              <a:off x="247680" y="257040"/>
              <a:ext cx="3952800" cy="1850760"/>
            </a:xfrm>
            <a:prstGeom prst="roundRect">
              <a:avLst>
                <a:gd name="adj" fmla="val 97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1" marL="743040" indent="-28584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2" marL="11430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3" marL="16002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4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5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6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FE5D-2F7B-4CBC-BDE6-3DBB0D87D52D}" type="slidenum">
              <a: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2"/>
          <p:cNvSpPr/>
          <p:nvPr/>
        </p:nvSpPr>
        <p:spPr>
          <a:xfrm>
            <a:off x="0" y="0"/>
            <a:ext cx="9156600" cy="686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Rectangle 3"/>
          <p:cNvSpPr/>
          <p:nvPr/>
        </p:nvSpPr>
        <p:spPr>
          <a:xfrm>
            <a:off x="0" y="3432240"/>
            <a:ext cx="9156600" cy="3433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1" name="Picture 4" descr="C:\Slide1.6\ClipArt\일반심볼\CA0220_1.emf"/>
          <p:cNvPicPr/>
          <p:nvPr/>
        </p:nvPicPr>
        <p:blipFill>
          <a:blip r:embed="rId2"/>
          <a:stretch/>
        </p:blipFill>
        <p:spPr>
          <a:xfrm>
            <a:off x="8458200" y="122400"/>
            <a:ext cx="384120" cy="487080"/>
          </a:xfrm>
          <a:prstGeom prst="rect">
            <a:avLst/>
          </a:prstGeom>
          <a:ln w="0">
            <a:noFill/>
          </a:ln>
        </p:spPr>
      </p:pic>
      <p:grpSp>
        <p:nvGrpSpPr>
          <p:cNvPr id="1362" name="Group 5"/>
          <p:cNvGrpSpPr/>
          <p:nvPr/>
        </p:nvGrpSpPr>
        <p:grpSpPr>
          <a:xfrm>
            <a:off x="247680" y="257040"/>
            <a:ext cx="8648640" cy="6313320"/>
            <a:chOff x="247680" y="257040"/>
            <a:chExt cx="8648640" cy="6313320"/>
          </a:xfrm>
        </p:grpSpPr>
        <p:sp>
          <p:nvSpPr>
            <p:cNvPr id="1363" name="AutoShape 6"/>
            <p:cNvSpPr/>
            <p:nvPr/>
          </p:nvSpPr>
          <p:spPr>
            <a:xfrm>
              <a:off x="247680" y="688680"/>
              <a:ext cx="8648640" cy="5881680"/>
            </a:xfrm>
            <a:prstGeom prst="roundRect">
              <a:avLst>
                <a:gd name="adj" fmla="val 619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AutoShape 7"/>
            <p:cNvSpPr/>
            <p:nvPr/>
          </p:nvSpPr>
          <p:spPr>
            <a:xfrm>
              <a:off x="247680" y="257040"/>
              <a:ext cx="3952800" cy="1850760"/>
            </a:xfrm>
            <a:prstGeom prst="roundRect">
              <a:avLst>
                <a:gd name="adj" fmla="val 97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1" marL="743040" indent="-28584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2" marL="11430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3" marL="16002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4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5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6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F6A7-6B67-4660-A41E-E9C12410E41E}" type="slidenum">
              <a: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Rectangle 2"/>
          <p:cNvSpPr/>
          <p:nvPr/>
        </p:nvSpPr>
        <p:spPr>
          <a:xfrm>
            <a:off x="0" y="0"/>
            <a:ext cx="9156600" cy="686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Rectangle 3"/>
          <p:cNvSpPr/>
          <p:nvPr/>
        </p:nvSpPr>
        <p:spPr>
          <a:xfrm>
            <a:off x="0" y="3432240"/>
            <a:ext cx="9156600" cy="3433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8" name="Picture 4" descr="C:\Slide1.6\ClipArt\일반심볼\CA0220_1.emf"/>
          <p:cNvPicPr/>
          <p:nvPr/>
        </p:nvPicPr>
        <p:blipFill>
          <a:blip r:embed="rId2"/>
          <a:stretch/>
        </p:blipFill>
        <p:spPr>
          <a:xfrm>
            <a:off x="8458200" y="122400"/>
            <a:ext cx="384120" cy="487080"/>
          </a:xfrm>
          <a:prstGeom prst="rect">
            <a:avLst/>
          </a:prstGeom>
          <a:ln w="0">
            <a:noFill/>
          </a:ln>
        </p:spPr>
      </p:pic>
      <p:grpSp>
        <p:nvGrpSpPr>
          <p:cNvPr id="1409" name="Group 5"/>
          <p:cNvGrpSpPr/>
          <p:nvPr/>
        </p:nvGrpSpPr>
        <p:grpSpPr>
          <a:xfrm>
            <a:off x="247680" y="257040"/>
            <a:ext cx="8648640" cy="6313320"/>
            <a:chOff x="247680" y="257040"/>
            <a:chExt cx="8648640" cy="6313320"/>
          </a:xfrm>
        </p:grpSpPr>
        <p:sp>
          <p:nvSpPr>
            <p:cNvPr id="1410" name="AutoShape 6"/>
            <p:cNvSpPr/>
            <p:nvPr/>
          </p:nvSpPr>
          <p:spPr>
            <a:xfrm>
              <a:off x="247680" y="688680"/>
              <a:ext cx="8648640" cy="5881680"/>
            </a:xfrm>
            <a:prstGeom prst="roundRect">
              <a:avLst>
                <a:gd name="adj" fmla="val 619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AutoShape 7"/>
            <p:cNvSpPr/>
            <p:nvPr/>
          </p:nvSpPr>
          <p:spPr>
            <a:xfrm>
              <a:off x="247680" y="257040"/>
              <a:ext cx="3952800" cy="1850760"/>
            </a:xfrm>
            <a:prstGeom prst="roundRect">
              <a:avLst>
                <a:gd name="adj" fmla="val 97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1" marL="743040" indent="-28584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2" marL="11430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3" marL="16002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4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5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6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1591-A97B-4DFD-A7AF-5D8C1C7BC13E}" type="slidenum">
              <a: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Rectangle 2"/>
          <p:cNvSpPr/>
          <p:nvPr/>
        </p:nvSpPr>
        <p:spPr>
          <a:xfrm>
            <a:off x="0" y="0"/>
            <a:ext cx="9156600" cy="686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Rectangle 3"/>
          <p:cNvSpPr/>
          <p:nvPr/>
        </p:nvSpPr>
        <p:spPr>
          <a:xfrm>
            <a:off x="0" y="3432240"/>
            <a:ext cx="9156600" cy="3433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5" name="Picture 4" descr="C:\Slide1.6\ClipArt\일반심볼\CA0220_1.emf"/>
          <p:cNvPicPr/>
          <p:nvPr/>
        </p:nvPicPr>
        <p:blipFill>
          <a:blip r:embed="rId2"/>
          <a:stretch/>
        </p:blipFill>
        <p:spPr>
          <a:xfrm>
            <a:off x="8458200" y="122400"/>
            <a:ext cx="384120" cy="487080"/>
          </a:xfrm>
          <a:prstGeom prst="rect">
            <a:avLst/>
          </a:prstGeom>
          <a:ln w="0">
            <a:noFill/>
          </a:ln>
        </p:spPr>
      </p:pic>
      <p:grpSp>
        <p:nvGrpSpPr>
          <p:cNvPr id="1456" name="Group 5"/>
          <p:cNvGrpSpPr/>
          <p:nvPr/>
        </p:nvGrpSpPr>
        <p:grpSpPr>
          <a:xfrm>
            <a:off x="247680" y="257040"/>
            <a:ext cx="8648640" cy="6313320"/>
            <a:chOff x="247680" y="257040"/>
            <a:chExt cx="8648640" cy="6313320"/>
          </a:xfrm>
        </p:grpSpPr>
        <p:sp>
          <p:nvSpPr>
            <p:cNvPr id="1457" name="AutoShape 6"/>
            <p:cNvSpPr/>
            <p:nvPr/>
          </p:nvSpPr>
          <p:spPr>
            <a:xfrm>
              <a:off x="247680" y="688680"/>
              <a:ext cx="8648640" cy="5881680"/>
            </a:xfrm>
            <a:prstGeom prst="roundRect">
              <a:avLst>
                <a:gd name="adj" fmla="val 619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AutoShape 7"/>
            <p:cNvSpPr/>
            <p:nvPr/>
          </p:nvSpPr>
          <p:spPr>
            <a:xfrm>
              <a:off x="247680" y="257040"/>
              <a:ext cx="3952800" cy="1850760"/>
            </a:xfrm>
            <a:prstGeom prst="roundRect">
              <a:avLst>
                <a:gd name="adj" fmla="val 97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1" marL="743040" indent="-28584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2" marL="11430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3" marL="16002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4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5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6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B1E6-2FBD-4FD9-9F94-5562C06C9AA9}" type="slidenum">
              <a: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2"/>
          <p:cNvSpPr/>
          <p:nvPr/>
        </p:nvSpPr>
        <p:spPr>
          <a:xfrm>
            <a:off x="0" y="0"/>
            <a:ext cx="9156600" cy="686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Rectangle 3"/>
          <p:cNvSpPr/>
          <p:nvPr/>
        </p:nvSpPr>
        <p:spPr>
          <a:xfrm>
            <a:off x="0" y="3432240"/>
            <a:ext cx="9156600" cy="3433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2" name="Picture 4" descr="C:\Slide1.6\ClipArt\일반심볼\CA0220_1.emf"/>
          <p:cNvPicPr/>
          <p:nvPr/>
        </p:nvPicPr>
        <p:blipFill>
          <a:blip r:embed="rId2"/>
          <a:stretch/>
        </p:blipFill>
        <p:spPr>
          <a:xfrm>
            <a:off x="8458200" y="122400"/>
            <a:ext cx="384120" cy="487080"/>
          </a:xfrm>
          <a:prstGeom prst="rect">
            <a:avLst/>
          </a:prstGeom>
          <a:ln w="0">
            <a:noFill/>
          </a:ln>
        </p:spPr>
      </p:pic>
      <p:grpSp>
        <p:nvGrpSpPr>
          <p:cNvPr id="1503" name="Group 5"/>
          <p:cNvGrpSpPr/>
          <p:nvPr/>
        </p:nvGrpSpPr>
        <p:grpSpPr>
          <a:xfrm>
            <a:off x="247680" y="257040"/>
            <a:ext cx="8648640" cy="6313320"/>
            <a:chOff x="247680" y="257040"/>
            <a:chExt cx="8648640" cy="6313320"/>
          </a:xfrm>
        </p:grpSpPr>
        <p:sp>
          <p:nvSpPr>
            <p:cNvPr id="1504" name="AutoShape 6"/>
            <p:cNvSpPr/>
            <p:nvPr/>
          </p:nvSpPr>
          <p:spPr>
            <a:xfrm>
              <a:off x="247680" y="688680"/>
              <a:ext cx="8648640" cy="5881680"/>
            </a:xfrm>
            <a:prstGeom prst="roundRect">
              <a:avLst>
                <a:gd name="adj" fmla="val 619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AutoShape 7"/>
            <p:cNvSpPr/>
            <p:nvPr/>
          </p:nvSpPr>
          <p:spPr>
            <a:xfrm>
              <a:off x="247680" y="257040"/>
              <a:ext cx="3952800" cy="1850760"/>
            </a:xfrm>
            <a:prstGeom prst="roundRect">
              <a:avLst>
                <a:gd name="adj" fmla="val 97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1" marL="743040" indent="-28584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2" marL="11430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3" marL="16002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4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5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6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A068-D9EC-4688-BEE4-64B5510FBE01}" type="slidenum">
              <a: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Rectangle 2"/>
          <p:cNvSpPr/>
          <p:nvPr/>
        </p:nvSpPr>
        <p:spPr>
          <a:xfrm>
            <a:off x="0" y="0"/>
            <a:ext cx="9156600" cy="686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Rectangle 3"/>
          <p:cNvSpPr/>
          <p:nvPr/>
        </p:nvSpPr>
        <p:spPr>
          <a:xfrm>
            <a:off x="0" y="3432240"/>
            <a:ext cx="9156600" cy="3433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9" name="Picture 4" descr="C:\Slide1.6\ClipArt\일반심볼\CA0220_1.emf"/>
          <p:cNvPicPr/>
          <p:nvPr/>
        </p:nvPicPr>
        <p:blipFill>
          <a:blip r:embed="rId2"/>
          <a:stretch/>
        </p:blipFill>
        <p:spPr>
          <a:xfrm>
            <a:off x="8458200" y="122400"/>
            <a:ext cx="384120" cy="487080"/>
          </a:xfrm>
          <a:prstGeom prst="rect">
            <a:avLst/>
          </a:prstGeom>
          <a:ln w="0">
            <a:noFill/>
          </a:ln>
        </p:spPr>
      </p:pic>
      <p:grpSp>
        <p:nvGrpSpPr>
          <p:cNvPr id="1550" name="Group 5"/>
          <p:cNvGrpSpPr/>
          <p:nvPr/>
        </p:nvGrpSpPr>
        <p:grpSpPr>
          <a:xfrm>
            <a:off x="247680" y="257040"/>
            <a:ext cx="8648640" cy="6313320"/>
            <a:chOff x="247680" y="257040"/>
            <a:chExt cx="8648640" cy="6313320"/>
          </a:xfrm>
        </p:grpSpPr>
        <p:sp>
          <p:nvSpPr>
            <p:cNvPr id="1551" name="AutoShape 6"/>
            <p:cNvSpPr/>
            <p:nvPr/>
          </p:nvSpPr>
          <p:spPr>
            <a:xfrm>
              <a:off x="247680" y="688680"/>
              <a:ext cx="8648640" cy="5881680"/>
            </a:xfrm>
            <a:prstGeom prst="roundRect">
              <a:avLst>
                <a:gd name="adj" fmla="val 619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AutoShape 7"/>
            <p:cNvSpPr/>
            <p:nvPr/>
          </p:nvSpPr>
          <p:spPr>
            <a:xfrm>
              <a:off x="247680" y="257040"/>
              <a:ext cx="3952800" cy="1850760"/>
            </a:xfrm>
            <a:prstGeom prst="roundRect">
              <a:avLst>
                <a:gd name="adj" fmla="val 97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1" marL="743040" indent="-28584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2" marL="11430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3" marL="16002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4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5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6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98B5-98E8-4ED8-AF36-A924E8ED7590}" type="slidenum">
              <a: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Rectangle 2"/>
          <p:cNvSpPr/>
          <p:nvPr/>
        </p:nvSpPr>
        <p:spPr>
          <a:xfrm>
            <a:off x="0" y="0"/>
            <a:ext cx="9156600" cy="686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Rectangle 3"/>
          <p:cNvSpPr/>
          <p:nvPr/>
        </p:nvSpPr>
        <p:spPr>
          <a:xfrm>
            <a:off x="0" y="3432240"/>
            <a:ext cx="9156600" cy="3433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6" name="Picture 4" descr="C:\Slide1.6\ClipArt\일반심볼\CA0220_1.emf"/>
          <p:cNvPicPr/>
          <p:nvPr/>
        </p:nvPicPr>
        <p:blipFill>
          <a:blip r:embed="rId2"/>
          <a:stretch/>
        </p:blipFill>
        <p:spPr>
          <a:xfrm>
            <a:off x="8458200" y="122400"/>
            <a:ext cx="384120" cy="487080"/>
          </a:xfrm>
          <a:prstGeom prst="rect">
            <a:avLst/>
          </a:prstGeom>
          <a:ln w="0">
            <a:noFill/>
          </a:ln>
        </p:spPr>
      </p:pic>
      <p:grpSp>
        <p:nvGrpSpPr>
          <p:cNvPr id="1597" name="Group 5"/>
          <p:cNvGrpSpPr/>
          <p:nvPr/>
        </p:nvGrpSpPr>
        <p:grpSpPr>
          <a:xfrm>
            <a:off x="247680" y="257040"/>
            <a:ext cx="8648640" cy="6313320"/>
            <a:chOff x="247680" y="257040"/>
            <a:chExt cx="8648640" cy="6313320"/>
          </a:xfrm>
        </p:grpSpPr>
        <p:sp>
          <p:nvSpPr>
            <p:cNvPr id="1598" name="AutoShape 6"/>
            <p:cNvSpPr/>
            <p:nvPr/>
          </p:nvSpPr>
          <p:spPr>
            <a:xfrm>
              <a:off x="247680" y="688680"/>
              <a:ext cx="8648640" cy="5881680"/>
            </a:xfrm>
            <a:prstGeom prst="roundRect">
              <a:avLst>
                <a:gd name="adj" fmla="val 619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AutoShape 7"/>
            <p:cNvSpPr/>
            <p:nvPr/>
          </p:nvSpPr>
          <p:spPr>
            <a:xfrm>
              <a:off x="247680" y="257040"/>
              <a:ext cx="3952800" cy="1850760"/>
            </a:xfrm>
            <a:prstGeom prst="roundRect">
              <a:avLst>
                <a:gd name="adj" fmla="val 97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1" marL="743040" indent="-28584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2" marL="11430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3" marL="16002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4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5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6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dt" idx="112"/>
          </p:nvPr>
        </p:nvSpPr>
        <p:spPr>
          <a:xfrm>
            <a:off x="68580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4833-011B-4342-94DE-F7EE9BD4A7A5}" type="slidenum">
              <a: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2"/>
          <p:cNvSpPr/>
          <p:nvPr/>
        </p:nvSpPr>
        <p:spPr>
          <a:xfrm>
            <a:off x="0" y="0"/>
            <a:ext cx="9156600" cy="686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0" y="3432240"/>
            <a:ext cx="9156600" cy="3433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3" name="Picture 4" descr="C:\Slide1.6\ClipArt\일반심볼\CA0220_1.emf"/>
          <p:cNvPicPr/>
          <p:nvPr/>
        </p:nvPicPr>
        <p:blipFill>
          <a:blip r:embed="rId2"/>
          <a:stretch/>
        </p:blipFill>
        <p:spPr>
          <a:xfrm>
            <a:off x="8458200" y="122400"/>
            <a:ext cx="384120" cy="487080"/>
          </a:xfrm>
          <a:prstGeom prst="rect">
            <a:avLst/>
          </a:prstGeom>
          <a:ln w="0">
            <a:noFill/>
          </a:ln>
        </p:spPr>
      </p:pic>
      <p:grpSp>
        <p:nvGrpSpPr>
          <p:cNvPr id="1644" name="Group 5"/>
          <p:cNvGrpSpPr/>
          <p:nvPr/>
        </p:nvGrpSpPr>
        <p:grpSpPr>
          <a:xfrm>
            <a:off x="247680" y="257040"/>
            <a:ext cx="8648640" cy="6313320"/>
            <a:chOff x="247680" y="257040"/>
            <a:chExt cx="8648640" cy="6313320"/>
          </a:xfrm>
        </p:grpSpPr>
        <p:sp>
          <p:nvSpPr>
            <p:cNvPr id="1645" name="AutoShape 6"/>
            <p:cNvSpPr/>
            <p:nvPr/>
          </p:nvSpPr>
          <p:spPr>
            <a:xfrm>
              <a:off x="247680" y="688680"/>
              <a:ext cx="8648640" cy="5881680"/>
            </a:xfrm>
            <a:prstGeom prst="roundRect">
              <a:avLst>
                <a:gd name="adj" fmla="val 619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AutoShape 7"/>
            <p:cNvSpPr/>
            <p:nvPr/>
          </p:nvSpPr>
          <p:spPr>
            <a:xfrm>
              <a:off x="247680" y="257040"/>
              <a:ext cx="3952800" cy="1850760"/>
            </a:xfrm>
            <a:prstGeom prst="roundRect">
              <a:avLst>
                <a:gd name="adj" fmla="val 97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1" marL="743040" indent="-28584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2" marL="11430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3" marL="16002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4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5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6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 type="dt" idx="115"/>
          </p:nvPr>
        </p:nvSpPr>
        <p:spPr>
          <a:xfrm>
            <a:off x="68580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5"/>
          <p:cNvSpPr>
            <a:spLocks noGrp="1"/>
          </p:cNvSpPr>
          <p:nvPr>
            <p:ph type="sldNum" idx="117"/>
          </p:nvPr>
        </p:nvSpPr>
        <p:spPr>
          <a:xfrm>
            <a:off x="655308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4356-D552-43FF-BA5A-FE2558FED006}" type="slidenum">
              <a: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56600" cy="686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3432240"/>
            <a:ext cx="9156600" cy="3433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C:\Slide1.6\ClipArt\일반심볼\CA0220_1.emf"/>
          <p:cNvPicPr/>
          <p:nvPr/>
        </p:nvPicPr>
        <p:blipFill>
          <a:blip r:embed="rId2"/>
          <a:stretch/>
        </p:blipFill>
        <p:spPr>
          <a:xfrm>
            <a:off x="8458200" y="122400"/>
            <a:ext cx="384120" cy="48708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5"/>
          <p:cNvGrpSpPr/>
          <p:nvPr/>
        </p:nvGrpSpPr>
        <p:grpSpPr>
          <a:xfrm>
            <a:off x="247680" y="257040"/>
            <a:ext cx="8648640" cy="6313320"/>
            <a:chOff x="247680" y="257040"/>
            <a:chExt cx="8648640" cy="6313320"/>
          </a:xfrm>
        </p:grpSpPr>
        <p:sp>
          <p:nvSpPr>
            <p:cNvPr id="129" name="AutoShape 6"/>
            <p:cNvSpPr/>
            <p:nvPr/>
          </p:nvSpPr>
          <p:spPr>
            <a:xfrm>
              <a:off x="247680" y="688680"/>
              <a:ext cx="8648640" cy="5881680"/>
            </a:xfrm>
            <a:prstGeom prst="roundRect">
              <a:avLst>
                <a:gd name="adj" fmla="val 619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7"/>
            <p:cNvSpPr/>
            <p:nvPr/>
          </p:nvSpPr>
          <p:spPr>
            <a:xfrm>
              <a:off x="247680" y="257040"/>
              <a:ext cx="3952800" cy="1850760"/>
            </a:xfrm>
            <a:prstGeom prst="roundRect">
              <a:avLst>
                <a:gd name="adj" fmla="val 97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1" marL="743040" indent="-28584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2" marL="11430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3" marL="16002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4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5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6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C73D-0ED8-408D-92E6-5E6B8BD4D3AB}" type="slidenum">
              <a: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Rectangle 2"/>
          <p:cNvSpPr/>
          <p:nvPr/>
        </p:nvSpPr>
        <p:spPr>
          <a:xfrm>
            <a:off x="0" y="0"/>
            <a:ext cx="9156600" cy="686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Rectangle 3"/>
          <p:cNvSpPr/>
          <p:nvPr/>
        </p:nvSpPr>
        <p:spPr>
          <a:xfrm>
            <a:off x="0" y="3432240"/>
            <a:ext cx="9156600" cy="3433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0" name="Picture 4" descr="C:\Slide1.6\ClipArt\일반심볼\CA0220_1.emf"/>
          <p:cNvPicPr/>
          <p:nvPr/>
        </p:nvPicPr>
        <p:blipFill>
          <a:blip r:embed="rId2"/>
          <a:stretch/>
        </p:blipFill>
        <p:spPr>
          <a:xfrm>
            <a:off x="8458200" y="122400"/>
            <a:ext cx="384120" cy="487080"/>
          </a:xfrm>
          <a:prstGeom prst="rect">
            <a:avLst/>
          </a:prstGeom>
          <a:ln w="0">
            <a:noFill/>
          </a:ln>
        </p:spPr>
      </p:pic>
      <p:grpSp>
        <p:nvGrpSpPr>
          <p:cNvPr id="1691" name="Group 5"/>
          <p:cNvGrpSpPr/>
          <p:nvPr/>
        </p:nvGrpSpPr>
        <p:grpSpPr>
          <a:xfrm>
            <a:off x="247680" y="257040"/>
            <a:ext cx="8648640" cy="6313320"/>
            <a:chOff x="247680" y="257040"/>
            <a:chExt cx="8648640" cy="6313320"/>
          </a:xfrm>
        </p:grpSpPr>
        <p:sp>
          <p:nvSpPr>
            <p:cNvPr id="1692" name="AutoShape 6"/>
            <p:cNvSpPr/>
            <p:nvPr/>
          </p:nvSpPr>
          <p:spPr>
            <a:xfrm>
              <a:off x="247680" y="688680"/>
              <a:ext cx="8648640" cy="5881680"/>
            </a:xfrm>
            <a:prstGeom prst="roundRect">
              <a:avLst>
                <a:gd name="adj" fmla="val 619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AutoShape 7"/>
            <p:cNvSpPr/>
            <p:nvPr/>
          </p:nvSpPr>
          <p:spPr>
            <a:xfrm>
              <a:off x="247680" y="257040"/>
              <a:ext cx="3952800" cy="1850760"/>
            </a:xfrm>
            <a:prstGeom prst="roundRect">
              <a:avLst>
                <a:gd name="adj" fmla="val 97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1" marL="743040" indent="-28584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2" marL="11430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3" marL="16002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4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5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  <a:p>
            <a:pPr lvl="6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2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2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 type="dt" idx="118"/>
          </p:nvPr>
        </p:nvSpPr>
        <p:spPr>
          <a:xfrm>
            <a:off x="68580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5"/>
          <p:cNvSpPr>
            <a:spLocks noGrp="1"/>
          </p:cNvSpPr>
          <p:nvPr>
            <p:ph type="sldNum" idx="120"/>
          </p:nvPr>
        </p:nvSpPr>
        <p:spPr>
          <a:xfrm>
            <a:off x="655308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EC6B-8D49-47DE-8EA8-77CC190B973B}" type="slidenum">
              <a:rPr b="0" lang="en-US" sz="1400" spc="-1" strike="noStrike">
                <a:solidFill>
                  <a:srgbClr val="000000"/>
                </a:solidFill>
                <a:latin typeface="-윤고딕120"/>
                <a:ea typeface="-윤고딕12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5" name="Picture 2" descr="C:\pptwork\0723\서식용\BL02_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dt" idx="121"/>
          </p:nvPr>
        </p:nvSpPr>
        <p:spPr>
          <a:xfrm>
            <a:off x="6858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ftr" idx="122"/>
          </p:nvPr>
        </p:nvSpPr>
        <p:spPr>
          <a:xfrm>
            <a:off x="3124080" y="59436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5"/>
          <p:cNvSpPr>
            <a:spLocks noGrp="1"/>
          </p:cNvSpPr>
          <p:nvPr>
            <p:ph type="sldNum" idx="123"/>
          </p:nvPr>
        </p:nvSpPr>
        <p:spPr>
          <a:xfrm>
            <a:off x="65530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4512-0C3B-4F2A-94B2-3F90CA55FC6E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7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 type="dt" idx="124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 type="ftr" idx="125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5"/>
          <p:cNvSpPr>
            <a:spLocks noGrp="1"/>
          </p:cNvSpPr>
          <p:nvPr>
            <p:ph type="sldNum" idx="126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1180-037D-4AE4-86A1-3A78D4A5E034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9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 type="dt" idx="127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 type="ftr" idx="128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 type="sldNum" idx="129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BBEF-C2FA-4E6F-AF77-64A8C525ED3D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1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 type="dt" idx="130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 type="ftr" idx="131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 type="sldNum" idx="132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30F0-D071-4095-9FC9-31CC200F74F2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3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 type="dt" idx="133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 type="ftr" idx="134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5"/>
          <p:cNvSpPr>
            <a:spLocks noGrp="1"/>
          </p:cNvSpPr>
          <p:nvPr>
            <p:ph type="sldNum" idx="135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DBDD-8DC5-463C-BE98-D74E5C7C909D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5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 type="dt" idx="136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 type="ftr" idx="137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5"/>
          <p:cNvSpPr>
            <a:spLocks noGrp="1"/>
          </p:cNvSpPr>
          <p:nvPr>
            <p:ph type="sldNum" idx="138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A4C0-F700-4568-BA11-4D2F7A96A244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7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 type="dt" idx="139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 type="ftr" idx="140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5"/>
          <p:cNvSpPr>
            <a:spLocks noGrp="1"/>
          </p:cNvSpPr>
          <p:nvPr>
            <p:ph type="sldNum" idx="141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C679-51A5-4F12-8EC9-FB85DF9BC0D0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9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 type="dt" idx="142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 type="ftr" idx="143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5"/>
          <p:cNvSpPr>
            <a:spLocks noGrp="1"/>
          </p:cNvSpPr>
          <p:nvPr>
            <p:ph type="sldNum" idx="144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EF39-12E4-4E2C-BB1E-FDD4A3AFFC4C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1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 type="dt" idx="145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 type="ftr" idx="146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5"/>
          <p:cNvSpPr>
            <a:spLocks noGrp="1"/>
          </p:cNvSpPr>
          <p:nvPr>
            <p:ph type="sldNum" idx="147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484E-9574-4CFC-A138-D73145EE1291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531A-43FE-4B08-A7BF-469A326E9766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3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 type="dt" idx="148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 type="ftr" idx="149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5"/>
          <p:cNvSpPr>
            <a:spLocks noGrp="1"/>
          </p:cNvSpPr>
          <p:nvPr>
            <p:ph type="sldNum" idx="150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38A0-DE2E-40A8-A105-B7EB9F4FB434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5" name="Picture 2" descr="C:\pptwork\0723\서식용\BL02_2_1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-윤고딕160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 type="body"/>
          </p:nvPr>
        </p:nvSpPr>
        <p:spPr>
          <a:xfrm>
            <a:off x="12193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 type="dt" idx="151"/>
          </p:nvPr>
        </p:nvSpPr>
        <p:spPr>
          <a:xfrm>
            <a:off x="67464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 type="ftr" idx="152"/>
          </p:nvPr>
        </p:nvSpPr>
        <p:spPr>
          <a:xfrm>
            <a:off x="3112920" y="5991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5"/>
          <p:cNvSpPr>
            <a:spLocks noGrp="1"/>
          </p:cNvSpPr>
          <p:nvPr>
            <p:ph type="sldNum" idx="153"/>
          </p:nvPr>
        </p:nvSpPr>
        <p:spPr>
          <a:xfrm>
            <a:off x="6472080" y="5991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385F-9C85-4769-81BD-49BC61627D37}" type="slidenum">
              <a:rPr b="0" lang="en-US" sz="1400" spc="-1" strike="noStrike">
                <a:solidFill>
                  <a:srgbClr val="000000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 type="dt" idx="1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5"/>
          <p:cNvSpPr>
            <a:spLocks noGrp="1"/>
          </p:cNvSpPr>
          <p:nvPr>
            <p:ph type="sldNum" idx="1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2901-C656-40DC-8625-1FC5037FCBB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 type="dt" idx="1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5"/>
          <p:cNvSpPr>
            <a:spLocks noGrp="1"/>
          </p:cNvSpPr>
          <p:nvPr>
            <p:ph type="sldNum" idx="1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5D17-7E94-4B41-8F27-7624686AD39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 type="dt" idx="16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5"/>
          <p:cNvSpPr>
            <a:spLocks noGrp="1"/>
          </p:cNvSpPr>
          <p:nvPr>
            <p:ph type="sldNum" idx="16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84D0-FE6F-4FE4-8CE9-4A522ED8785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 type="dt" idx="16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 type="sldNum" idx="16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F86A-5DA2-4E1F-8548-7C90E7D3A01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 type="dt" idx="16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PlaceHolder 4"/>
          <p:cNvSpPr>
            <a:spLocks noGrp="1"/>
          </p:cNvSpPr>
          <p:nvPr>
            <p:ph type="ftr" idx="1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5"/>
          <p:cNvSpPr>
            <a:spLocks noGrp="1"/>
          </p:cNvSpPr>
          <p:nvPr>
            <p:ph type="sldNum" idx="16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F8ED-4763-412A-9E3A-D8C07F3B26D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 type="dt" idx="16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 type="sldNum" idx="17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F88A-7A5E-4C59-A527-7B839D6AF34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 type="dt" idx="17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4"/>
          <p:cNvSpPr>
            <a:spLocks noGrp="1"/>
          </p:cNvSpPr>
          <p:nvPr>
            <p:ph type="ftr" idx="17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5"/>
          <p:cNvSpPr>
            <a:spLocks noGrp="1"/>
          </p:cNvSpPr>
          <p:nvPr>
            <p:ph type="sldNum" idx="17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4C3B-DF35-40C5-A3F5-DD89065D3F5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 type="dt" idx="17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4"/>
          <p:cNvSpPr>
            <a:spLocks noGrp="1"/>
          </p:cNvSpPr>
          <p:nvPr>
            <p:ph type="ftr" idx="17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PlaceHolder 5"/>
          <p:cNvSpPr>
            <a:spLocks noGrp="1"/>
          </p:cNvSpPr>
          <p:nvPr>
            <p:ph type="sldNum" idx="17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C121-FC0A-49A8-A223-6933FCF0E63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8D04-F058-44B1-A87C-7B8210B08A1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 type="dt" idx="17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PlaceHolder 4"/>
          <p:cNvSpPr>
            <a:spLocks noGrp="1"/>
          </p:cNvSpPr>
          <p:nvPr>
            <p:ph type="ftr" idx="17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PlaceHolder 5"/>
          <p:cNvSpPr>
            <a:spLocks noGrp="1"/>
          </p:cNvSpPr>
          <p:nvPr>
            <p:ph type="sldNum" idx="18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80DD-D28F-46B2-AA3E-EBFB709D6B4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 type="dt" idx="18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PlaceHolder 4"/>
          <p:cNvSpPr>
            <a:spLocks noGrp="1"/>
          </p:cNvSpPr>
          <p:nvPr>
            <p:ph type="ftr" idx="18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5"/>
          <p:cNvSpPr>
            <a:spLocks noGrp="1"/>
          </p:cNvSpPr>
          <p:nvPr>
            <p:ph type="sldNum" idx="18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AE0C-E882-4F03-A3CD-82EAC6BF7E8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 type="dt" idx="18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 type="ftr" idx="1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5"/>
          <p:cNvSpPr>
            <a:spLocks noGrp="1"/>
          </p:cNvSpPr>
          <p:nvPr>
            <p:ph type="sldNum" idx="18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7E82-3F59-4394-8570-BD82FCCFDA1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 type="dt" idx="18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 type="ftr" idx="18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5"/>
          <p:cNvSpPr>
            <a:spLocks noGrp="1"/>
          </p:cNvSpPr>
          <p:nvPr>
            <p:ph type="sldNum" idx="18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4C6E-B2F0-49E9-B2BC-7D5B3CC887C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PlaceHolder 3"/>
          <p:cNvSpPr>
            <a:spLocks noGrp="1"/>
          </p:cNvSpPr>
          <p:nvPr>
            <p:ph type="dt" idx="19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PlaceHolder 4"/>
          <p:cNvSpPr>
            <a:spLocks noGrp="1"/>
          </p:cNvSpPr>
          <p:nvPr>
            <p:ph type="ftr" idx="19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PlaceHolder 5"/>
          <p:cNvSpPr>
            <a:spLocks noGrp="1"/>
          </p:cNvSpPr>
          <p:nvPr>
            <p:ph type="sldNum" idx="19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18AB-8804-4C70-8FE8-7B07394A956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PlaceHolder 3"/>
          <p:cNvSpPr>
            <a:spLocks noGrp="1"/>
          </p:cNvSpPr>
          <p:nvPr>
            <p:ph type="dt" idx="19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PlaceHolder 4"/>
          <p:cNvSpPr>
            <a:spLocks noGrp="1"/>
          </p:cNvSpPr>
          <p:nvPr>
            <p:ph type="ftr" idx="19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PlaceHolder 5"/>
          <p:cNvSpPr>
            <a:spLocks noGrp="1"/>
          </p:cNvSpPr>
          <p:nvPr>
            <p:ph type="sldNum" idx="19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27EF-C32D-434F-AF96-E44A20D8658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 type="dt" idx="19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PlaceHolder 4"/>
          <p:cNvSpPr>
            <a:spLocks noGrp="1"/>
          </p:cNvSpPr>
          <p:nvPr>
            <p:ph type="ftr" idx="19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PlaceHolder 5"/>
          <p:cNvSpPr>
            <a:spLocks noGrp="1"/>
          </p:cNvSpPr>
          <p:nvPr>
            <p:ph type="sldNum" idx="19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5924-8FE6-4D1D-8161-602448A64DE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 type="dt" idx="19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4"/>
          <p:cNvSpPr>
            <a:spLocks noGrp="1"/>
          </p:cNvSpPr>
          <p:nvPr>
            <p:ph type="ftr" idx="20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PlaceHolder 5"/>
          <p:cNvSpPr>
            <a:spLocks noGrp="1"/>
          </p:cNvSpPr>
          <p:nvPr>
            <p:ph type="sldNum" idx="20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693D-44A0-4AED-8FB6-E202B28DC07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PlaceHolder 3"/>
          <p:cNvSpPr>
            <a:spLocks noGrp="1"/>
          </p:cNvSpPr>
          <p:nvPr>
            <p:ph type="dt" idx="20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PlaceHolder 4"/>
          <p:cNvSpPr>
            <a:spLocks noGrp="1"/>
          </p:cNvSpPr>
          <p:nvPr>
            <p:ph type="ftr" idx="20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PlaceHolder 5"/>
          <p:cNvSpPr>
            <a:spLocks noGrp="1"/>
          </p:cNvSpPr>
          <p:nvPr>
            <p:ph type="sldNum" idx="20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78AC-F777-4D18-B8D1-53B344D3BCA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 type="dt" idx="20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 type="ftr" idx="20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PlaceHolder 5"/>
          <p:cNvSpPr>
            <a:spLocks noGrp="1"/>
          </p:cNvSpPr>
          <p:nvPr>
            <p:ph type="sldNum" idx="20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F327-88AF-4BF3-8C8F-54EC6EAE536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EBD9-08EE-42A9-BAD3-5E5D0B43882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PlaceHolder 3"/>
          <p:cNvSpPr>
            <a:spLocks noGrp="1"/>
          </p:cNvSpPr>
          <p:nvPr>
            <p:ph type="dt" idx="20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PlaceHolder 4"/>
          <p:cNvSpPr>
            <a:spLocks noGrp="1"/>
          </p:cNvSpPr>
          <p:nvPr>
            <p:ph type="ftr" idx="20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PlaceHolder 5"/>
          <p:cNvSpPr>
            <a:spLocks noGrp="1"/>
          </p:cNvSpPr>
          <p:nvPr>
            <p:ph type="sldNum" idx="2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354E-F7BA-433F-91B1-317663402D2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 type="dt" idx="2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 type="ftr" idx="2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 type="sldNum" idx="2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698B-F46D-4CBF-BB4B-72F1FB591B7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PlaceHolder 3"/>
          <p:cNvSpPr>
            <a:spLocks noGrp="1"/>
          </p:cNvSpPr>
          <p:nvPr>
            <p:ph type="dt" idx="2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PlaceHolder 4"/>
          <p:cNvSpPr>
            <a:spLocks noGrp="1"/>
          </p:cNvSpPr>
          <p:nvPr>
            <p:ph type="ftr" idx="2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PlaceHolder 5"/>
          <p:cNvSpPr>
            <a:spLocks noGrp="1"/>
          </p:cNvSpPr>
          <p:nvPr>
            <p:ph type="sldNum" idx="2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560C-D693-4846-AD10-0FD984FBCB6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PlaceHolder 3"/>
          <p:cNvSpPr>
            <a:spLocks noGrp="1"/>
          </p:cNvSpPr>
          <p:nvPr>
            <p:ph type="dt" idx="2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PlaceHolder 4"/>
          <p:cNvSpPr>
            <a:spLocks noGrp="1"/>
          </p:cNvSpPr>
          <p:nvPr>
            <p:ph type="ftr" idx="2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PlaceHolder 5"/>
          <p:cNvSpPr>
            <a:spLocks noGrp="1"/>
          </p:cNvSpPr>
          <p:nvPr>
            <p:ph type="sldNum" idx="2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05F4-CAC2-44EF-BFF3-299EECFEF10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PlaceHolder 3"/>
          <p:cNvSpPr>
            <a:spLocks noGrp="1"/>
          </p:cNvSpPr>
          <p:nvPr>
            <p:ph type="dt" idx="2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PlaceHolder 4"/>
          <p:cNvSpPr>
            <a:spLocks noGrp="1"/>
          </p:cNvSpPr>
          <p:nvPr>
            <p:ph type="ftr" idx="2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PlaceHolder 5"/>
          <p:cNvSpPr>
            <a:spLocks noGrp="1"/>
          </p:cNvSpPr>
          <p:nvPr>
            <p:ph type="sldNum" idx="2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4E06-153F-4ECD-82AF-6D55B2DC390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 type="dt" idx="2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 type="ftr" idx="2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PlaceHolder 5"/>
          <p:cNvSpPr>
            <a:spLocks noGrp="1"/>
          </p:cNvSpPr>
          <p:nvPr>
            <p:ph type="sldNum" idx="2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2023-A5D1-4311-96E0-2E9FA3DF599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 type="dt" idx="2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PlaceHolder 4"/>
          <p:cNvSpPr>
            <a:spLocks noGrp="1"/>
          </p:cNvSpPr>
          <p:nvPr>
            <p:ph type="ftr" idx="2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PlaceHolder 5"/>
          <p:cNvSpPr>
            <a:spLocks noGrp="1"/>
          </p:cNvSpPr>
          <p:nvPr>
            <p:ph type="sldNum" idx="2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4017-7CE8-4C0D-AE76-13CC5B3DDD5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G:\파워프리젠테이션\ppt pro\배경서식작업\최종수\A_배경세트(13세트)\수정_미란(5세트)\12345\일반02.jpg"/>
          <p:cNvPicPr/>
          <p:nvPr/>
        </p:nvPicPr>
        <p:blipFill>
          <a:blip r:embed="rId2"/>
          <a:stretch/>
        </p:blipFill>
        <p:spPr>
          <a:xfrm>
            <a:off x="0" y="0"/>
            <a:ext cx="9140760" cy="687384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66"/>
                </a:solidFill>
                <a:latin typeface="-솔잎M"/>
              </a:rPr>
              <a:t>Click to edit the title text format</a:t>
            </a:r>
            <a:endParaRPr b="0" lang="en-US" sz="3800" spc="-1" strike="noStrike">
              <a:solidFill>
                <a:srgbClr val="ffff66"/>
              </a:solidFill>
              <a:latin typeface="-솔잎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3EFB-684D-404E-BD2D-60125D7A1C47}" type="slidenum">
              <a: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G:\파워프리젠테이션\ppt pro\배경서식작업\최종수\A_배경세트(13세트)\수정_미란(5세트)\12345\일반02-1.jpg"/>
          <p:cNvPicPr/>
          <p:nvPr/>
        </p:nvPicPr>
        <p:blipFill>
          <a:blip r:embed="rId2"/>
          <a:stretch/>
        </p:blipFill>
        <p:spPr>
          <a:xfrm>
            <a:off x="0" y="0"/>
            <a:ext cx="9140760" cy="687384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66"/>
                </a:solidFill>
                <a:latin typeface="-솔잎M"/>
              </a:rPr>
              <a:t>Click to edit the title text format</a:t>
            </a:r>
            <a:endParaRPr b="0" lang="en-US" sz="3800" spc="-1" strike="noStrike">
              <a:solidFill>
                <a:srgbClr val="ffff66"/>
              </a:solidFill>
              <a:latin typeface="-솔잎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-윤고딕140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5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FC7A-061C-4931-A111-B93406701A17}" type="slidenum">
              <a:rPr b="0" lang="en-US" sz="1400" spc="-1" strike="noStrike">
                <a:solidFill>
                  <a:srgbClr val="000000"/>
                </a:solidFill>
                <a:latin typeface="-윤고딕130"/>
                <a:ea typeface="-윤고딕13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4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hyperlink" Target="http://es.wikipedia.org/wiki/Archivo:Boccaccio01.jp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Medicine_aryballos_Louvre_CA1989-2183.jpg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493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8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4321440" cy="3365640"/>
          </a:xfrm>
          <a:prstGeom prst="rect">
            <a:avLst/>
          </a:prstGeom>
          <a:solidFill>
            <a:srgbClr val="f7e7a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s-MX" sz="3600" spc="-1" strike="noStrike">
                <a:solidFill>
                  <a:srgbClr val="000000"/>
                </a:solidFill>
                <a:latin typeface="Calibri"/>
              </a:rPr>
              <a:t>Concepto </a:t>
            </a:r>
            <a:br>
              <a:rPr sz="3600"/>
            </a:br>
            <a:r>
              <a:rPr b="1" lang="es-MX" sz="3600" spc="-1" strike="noStrike">
                <a:solidFill>
                  <a:srgbClr val="000000"/>
                </a:solidFill>
                <a:latin typeface="Calibri"/>
              </a:rPr>
              <a:t>de Medicina</a:t>
            </a:r>
            <a:br>
              <a:rPr sz="3600"/>
            </a:br>
            <a:r>
              <a:rPr b="1" lang="es-MX" sz="3600" spc="-1" strike="noStrike">
                <a:solidFill>
                  <a:srgbClr val="000000"/>
                </a:solidFill>
                <a:latin typeface="Calibri"/>
              </a:rPr>
              <a:t>          y </a:t>
            </a:r>
            <a:br>
              <a:rPr sz="3600"/>
            </a:br>
            <a:r>
              <a:rPr b="1" lang="es-MX" sz="3600" spc="-1" strike="noStrike">
                <a:solidFill>
                  <a:srgbClr val="000000"/>
                </a:solidFill>
                <a:latin typeface="Calibri"/>
              </a:rPr>
              <a:t>        sus </a:t>
            </a:r>
            <a:br>
              <a:rPr sz="3600"/>
            </a:br>
            <a:r>
              <a:rPr b="1" lang="es-MX" sz="3600" spc="-1" strike="noStrike">
                <a:solidFill>
                  <a:srgbClr val="000000"/>
                </a:solidFill>
                <a:latin typeface="Calibri"/>
              </a:rPr>
              <a:t>fundamen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0" name="3 Marcador de contenido" descr="lirapedroElni%F1oenfermo.jpg"/>
          <p:cNvPicPr/>
          <p:nvPr/>
        </p:nvPicPr>
        <p:blipFill>
          <a:blip r:embed="rId1"/>
          <a:stretch/>
        </p:blipFill>
        <p:spPr>
          <a:xfrm>
            <a:off x="3059280" y="620640"/>
            <a:ext cx="5698800" cy="424836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  <p:sp>
        <p:nvSpPr>
          <p:cNvPr id="3231" name="4 Rectángulo"/>
          <p:cNvSpPr/>
          <p:nvPr/>
        </p:nvSpPr>
        <p:spPr>
          <a:xfrm>
            <a:off x="4074840" y="5157720"/>
            <a:ext cx="30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604a7b"/>
                </a:solidFill>
                <a:latin typeface="Calibri"/>
              </a:rPr>
              <a:t>El niño enfermo. Pedro L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6" name="PlaceHolder 1"/>
          <p:cNvSpPr>
            <a:spLocks noGrp="1"/>
          </p:cNvSpPr>
          <p:nvPr>
            <p:ph type="subTitle"/>
          </p:nvPr>
        </p:nvSpPr>
        <p:spPr>
          <a:xfrm>
            <a:off x="428400" y="1357200"/>
            <a:ext cx="84294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2d2db9"/>
                </a:solidFill>
                <a:latin typeface="Arial"/>
                <a:ea typeface="-윤고딕160"/>
              </a:rPr>
              <a:t>P</a:t>
            </a:r>
            <a:r>
              <a:rPr b="1" lang="es-CL" sz="2800" spc="-1" strike="noStrike">
                <a:solidFill>
                  <a:srgbClr val="2d2db9"/>
                </a:solidFill>
                <a:latin typeface="Arial"/>
                <a:ea typeface="-윤고딕160"/>
              </a:rPr>
              <a:t>recaver</a:t>
            </a:r>
            <a:r>
              <a:rPr b="1" i="1" lang="es-CL" sz="2800" spc="-1" strike="noStrike">
                <a:solidFill>
                  <a:srgbClr val="ff0000"/>
                </a:solidFill>
                <a:latin typeface="Arial"/>
                <a:ea typeface="-윤고딕160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(Del lat. </a:t>
            </a:r>
            <a:r>
              <a:rPr b="0" i="1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praecavēre</a:t>
            </a: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-윤고딕160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tr. Prevenir un riesgo, daño o peligro, para 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          </a:t>
            </a: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guardarse de él y evitarlo. U. t. c. prnl.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2d2db9"/>
                </a:solidFill>
                <a:latin typeface="Arial"/>
                <a:ea typeface="-윤고딕160"/>
              </a:rPr>
              <a:t>Curar </a:t>
            </a: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(Del lat. </a:t>
            </a:r>
            <a:r>
              <a:rPr b="0" i="1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curāre</a:t>
            </a: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, cuidar).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-윤고딕160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tr. Aplicar con éxito a un paciente los remedios 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          </a:t>
            </a: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correspondientes a la remisión de una lesión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          </a:t>
            </a: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o dolencia. U. t. c. prnl.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-윤고딕16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500040" y="1214280"/>
            <a:ext cx="25718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-윤고딕160"/>
              </a:rPr>
              <a:t>Salud</a:t>
            </a:r>
            <a:endParaRPr b="0" lang="en-US" sz="44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 type="subTitle"/>
          </p:nvPr>
        </p:nvSpPr>
        <p:spPr>
          <a:xfrm>
            <a:off x="428760" y="2143080"/>
            <a:ext cx="7858080" cy="3286080"/>
          </a:xfrm>
          <a:prstGeom prst="rect">
            <a:avLst/>
          </a:prstGeom>
          <a:noFill/>
          <a:ln w="28440">
            <a:solidFill>
              <a:srgbClr val="22228b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윤고딕140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Bookman Old Style"/>
                <a:ea typeface="-윤고딕160"/>
              </a:rPr>
              <a:t>Estado de </a:t>
            </a:r>
            <a:endParaRPr b="0" lang="en-US" sz="2400" spc="-1" strike="noStrike">
              <a:solidFill>
                <a:srgbClr val="000000"/>
              </a:solidFill>
              <a:latin typeface="-윤고딕140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Bookman Old Style"/>
                <a:ea typeface="-윤고딕160"/>
              </a:rPr>
              <a:t>completo bienestar físico, mental y social; </a:t>
            </a:r>
            <a:endParaRPr b="0" lang="en-US" sz="2400" spc="-1" strike="noStrike">
              <a:solidFill>
                <a:srgbClr val="000000"/>
              </a:solidFill>
              <a:latin typeface="-윤고딕140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Bookman Old Style"/>
                <a:ea typeface="-윤고딕160"/>
              </a:rPr>
              <a:t>y no solamente la ausencia de enfermedad</a:t>
            </a:r>
            <a:r>
              <a:rPr b="0" lang="es-CL" sz="24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title"/>
          </p:nvPr>
        </p:nvSpPr>
        <p:spPr>
          <a:xfrm>
            <a:off x="500040" y="1214280"/>
            <a:ext cx="3929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-윤고딕160"/>
              </a:rPr>
              <a:t>Medicina</a:t>
            </a:r>
            <a:endParaRPr b="0" lang="en-US" sz="44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3260" name="PlaceHolder 2"/>
          <p:cNvSpPr>
            <a:spLocks noGrp="1"/>
          </p:cNvSpPr>
          <p:nvPr>
            <p:ph type="subTitle"/>
          </p:nvPr>
        </p:nvSpPr>
        <p:spPr>
          <a:xfrm>
            <a:off x="428400" y="2000160"/>
            <a:ext cx="8001000" cy="3500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0000"/>
                </a:solidFill>
                <a:latin typeface="Arial"/>
                <a:ea typeface="-윤고딕160"/>
              </a:rPr>
              <a:t>CIENCIA Y ARTE 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de </a:t>
            </a:r>
            <a:r>
              <a:rPr b="1" i="1" lang="es-CL" sz="2800" spc="-1" strike="noStrike">
                <a:solidFill>
                  <a:srgbClr val="ff0000"/>
                </a:solidFill>
                <a:latin typeface="Arial"/>
                <a:ea typeface="-윤고딕160"/>
              </a:rPr>
              <a:t>precaver y curar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las </a:t>
            </a:r>
            <a:r>
              <a:rPr b="1" i="1" lang="es-CL" sz="2800" spc="-1" strike="noStrike">
                <a:solidFill>
                  <a:srgbClr val="ff0000"/>
                </a:solidFill>
                <a:latin typeface="Arial"/>
                <a:ea typeface="-윤고딕160"/>
              </a:rPr>
              <a:t>enfermedades,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con el fin último de 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mantener la </a:t>
            </a:r>
            <a:r>
              <a:rPr b="1" i="1" lang="es-CL" sz="2800" spc="-1" strike="noStrike">
                <a:solidFill>
                  <a:srgbClr val="ff0000"/>
                </a:solidFill>
                <a:latin typeface="Arial"/>
                <a:ea typeface="-윤고딕160"/>
              </a:rPr>
              <a:t>salud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y prevenir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la enfermedad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-윤고딕160"/>
              </a:rPr>
              <a:t>Medicina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713880" y="1214280"/>
            <a:ext cx="80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23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Arial"/>
              </a:rPr>
              <a:t>OMS: Arte y ciencia </a:t>
            </a:r>
            <a:endParaRPr b="0" lang="en-US" sz="36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Arial"/>
              </a:rPr>
              <a:t>Cuatro objetivos:</a:t>
            </a:r>
            <a:endParaRPr b="0" lang="en-US" sz="36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바탕"/>
              </a:rPr>
              <a:t>Recuperar la salud</a:t>
            </a:r>
            <a:endParaRPr b="0" lang="en-US" sz="36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바탕"/>
              </a:rPr>
              <a:t>   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바탕"/>
              </a:rPr>
              <a:t>Rehabilitar el paciente</a:t>
            </a:r>
            <a:endParaRPr b="0" lang="en-US" sz="36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바탕"/>
              </a:rPr>
              <a:t>   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바탕"/>
              </a:rPr>
              <a:t>Prevenir la enfermedad</a:t>
            </a:r>
            <a:endParaRPr b="0" lang="en-US" sz="36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바탕"/>
              </a:rPr>
              <a:t>   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바탕"/>
              </a:rPr>
              <a:t>Promover la salud</a:t>
            </a:r>
            <a:endParaRPr b="0" lang="en-US" sz="36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-윤고딕12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7072560" cy="11430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cc0000"/>
                </a:solidFill>
                <a:latin typeface="Calibri"/>
              </a:rPr>
              <a:t>Conciencia de daño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4" name=""/>
          <p:cNvSpPr txBox="1"/>
          <p:nvPr/>
        </p:nvSpPr>
        <p:spPr>
          <a:xfrm>
            <a:off x="928440" y="2000160"/>
            <a:ext cx="3214440" cy="3114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000"/>
                </a:solidFill>
                <a:latin typeface="Calibri"/>
              </a:rPr>
              <a:t>Comb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000"/>
                </a:solidFill>
                <a:latin typeface="Calibri"/>
              </a:rPr>
              <a:t>Traumatis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000"/>
                </a:solidFill>
                <a:latin typeface="Calibri"/>
              </a:rPr>
              <a:t>Catástrof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000"/>
                </a:solidFill>
                <a:latin typeface="Calibri"/>
              </a:rPr>
              <a:t>Enferme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5" name="4 CuadroTexto"/>
          <p:cNvSpPr/>
          <p:nvPr/>
        </p:nvSpPr>
        <p:spPr>
          <a:xfrm>
            <a:off x="4286160" y="2643120"/>
            <a:ext cx="392904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Calibri"/>
              </a:rPr>
              <a:t>¿Porqué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Explicaciones vari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664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Ley de la constante intelectual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de la humanidad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7" name=""/>
          <p:cNvSpPr txBox="1"/>
          <p:nvPr/>
        </p:nvSpPr>
        <p:spPr>
          <a:xfrm>
            <a:off x="571320" y="2143080"/>
            <a:ext cx="5214600" cy="398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Frente a una dificultad, igua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tap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Proble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8" name="4 Marcador de contenido" descr="Adultos distintas razas.jpg"/>
          <p:cNvPicPr/>
          <p:nvPr/>
        </p:nvPicPr>
        <p:blipFill>
          <a:blip r:embed="rId1"/>
          <a:stretch/>
        </p:blipFill>
        <p:spPr>
          <a:xfrm>
            <a:off x="6715080" y="1714680"/>
            <a:ext cx="1800360" cy="165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269" name="5 Imagen" descr="Evolución humana.jpg"/>
          <p:cNvPicPr/>
          <p:nvPr/>
        </p:nvPicPr>
        <p:blipFill>
          <a:blip r:embed="rId2"/>
          <a:stretch/>
        </p:blipFill>
        <p:spPr>
          <a:xfrm>
            <a:off x="2286000" y="4357800"/>
            <a:ext cx="5929200" cy="203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0" name="PlaceHolder 1"/>
          <p:cNvSpPr>
            <a:spLocks noGrp="1"/>
          </p:cNvSpPr>
          <p:nvPr>
            <p:ph type="title"/>
          </p:nvPr>
        </p:nvSpPr>
        <p:spPr>
          <a:xfrm>
            <a:off x="713880" y="642960"/>
            <a:ext cx="82155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s-ES" sz="4400" spc="-1" strike="noStrike">
                <a:solidFill>
                  <a:srgbClr val="ffffff"/>
                </a:solidFill>
                <a:latin typeface="Times New Roman"/>
              </a:rPr>
              <a:t>Seres inanimados</a:t>
            </a:r>
            <a:br>
              <a:rPr sz="4400"/>
            </a:br>
            <a:r>
              <a:rPr b="1" i="1" lang="es-ES" sz="4400" spc="-1" strike="noStrike">
                <a:solidFill>
                  <a:srgbClr val="ffffff"/>
                </a:solidFill>
                <a:latin typeface="Times New Roman"/>
              </a:rPr>
              <a:t>Huecuvú</a:t>
            </a:r>
            <a:br>
              <a:rPr sz="4400"/>
            </a:br>
            <a:r>
              <a:rPr b="1" i="1" lang="es-ES" sz="4400" spc="-1" strike="noStrike">
                <a:solidFill>
                  <a:srgbClr val="ffffff"/>
                </a:solidFill>
                <a:latin typeface="Times New Roman"/>
              </a:rPr>
              <a:t>Brujo o chamá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/>
          </p:nvPr>
        </p:nvSpPr>
        <p:spPr>
          <a:xfrm>
            <a:off x="2214360" y="3357360"/>
            <a:ext cx="635796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e00bb"/>
                </a:solidFill>
                <a:latin typeface="Times New Roman"/>
              </a:rPr>
              <a:t>Era más que eso: Yerbas en infusiones y pa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Avellano: astring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Hinojo y mileu: diuré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Calagüala: vermífugo y febrífu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aqui: diar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2" name="Picture 4" descr="franjaMapuche"/>
          <p:cNvPicPr/>
          <p:nvPr/>
        </p:nvPicPr>
        <p:blipFill>
          <a:blip r:embed="rId1"/>
          <a:stretch/>
        </p:blipFill>
        <p:spPr>
          <a:xfrm>
            <a:off x="457200" y="228600"/>
            <a:ext cx="8344080" cy="411120"/>
          </a:xfrm>
          <a:prstGeom prst="rect">
            <a:avLst/>
          </a:prstGeom>
          <a:ln w="0">
            <a:noFill/>
          </a:ln>
        </p:spPr>
      </p:pic>
      <p:pic>
        <p:nvPicPr>
          <p:cNvPr id="3273" name="Picture 5" descr="mapuche1"/>
          <p:cNvPicPr/>
          <p:nvPr/>
        </p:nvPicPr>
        <p:blipFill>
          <a:blip r:embed="rId2"/>
          <a:stretch/>
        </p:blipFill>
        <p:spPr>
          <a:xfrm>
            <a:off x="5500800" y="785880"/>
            <a:ext cx="3154320" cy="2079720"/>
          </a:xfrm>
          <a:prstGeom prst="rect">
            <a:avLst/>
          </a:prstGeom>
          <a:ln w="0">
            <a:noFill/>
          </a:ln>
        </p:spPr>
      </p:pic>
      <p:pic>
        <p:nvPicPr>
          <p:cNvPr id="3274" name="Picture 6" descr="franjaMapuche"/>
          <p:cNvPicPr/>
          <p:nvPr/>
        </p:nvPicPr>
        <p:blipFill>
          <a:blip r:embed="rId3"/>
          <a:stretch/>
        </p:blipFill>
        <p:spPr>
          <a:xfrm>
            <a:off x="457200" y="5791320"/>
            <a:ext cx="834408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57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Calibri"/>
              </a:rPr>
              <a:t>Dios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6" name=""/>
          <p:cNvSpPr txBox="1"/>
          <p:nvPr/>
        </p:nvSpPr>
        <p:spPr>
          <a:xfrm>
            <a:off x="428400" y="1928880"/>
            <a:ext cx="7257960" cy="4186080"/>
          </a:xfrm>
          <a:prstGeom prst="rect">
            <a:avLst/>
          </a:prstGeom>
          <a:noFill/>
          <a:ln w="19080">
            <a:solidFill>
              <a:srgbClr val="604a7b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262626"/>
                </a:solidFill>
                <a:latin typeface="Calibri"/>
              </a:rPr>
              <a:t>Teoría teúrgi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Castigo div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Imhot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7" name="6 Marcador de contenido" descr="Imhotep.jpg"/>
          <p:cNvPicPr/>
          <p:nvPr/>
        </p:nvPicPr>
        <p:blipFill>
          <a:blip r:embed="rId1"/>
          <a:stretch/>
        </p:blipFill>
        <p:spPr>
          <a:xfrm>
            <a:off x="5072040" y="428760"/>
            <a:ext cx="1857240" cy="2860560"/>
          </a:xfrm>
          <a:prstGeom prst="rect">
            <a:avLst/>
          </a:prstGeom>
          <a:ln w="57240">
            <a:solidFill>
              <a:srgbClr val="17375e"/>
            </a:solidFill>
            <a:miter/>
          </a:ln>
        </p:spPr>
      </p:pic>
      <p:pic>
        <p:nvPicPr>
          <p:cNvPr id="3278" name="7 Imagen" descr="Siva.jpg"/>
          <p:cNvPicPr/>
          <p:nvPr/>
        </p:nvPicPr>
        <p:blipFill>
          <a:blip r:embed="rId2"/>
          <a:stretch/>
        </p:blipFill>
        <p:spPr>
          <a:xfrm>
            <a:off x="571680" y="3857760"/>
            <a:ext cx="2214360" cy="2527200"/>
          </a:xfrm>
          <a:prstGeom prst="rect">
            <a:avLst/>
          </a:prstGeom>
          <a:ln w="76320">
            <a:solidFill>
              <a:srgbClr val="604a7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7500960" cy="1143000"/>
          </a:xfrm>
          <a:prstGeom prst="rect">
            <a:avLst/>
          </a:prstGeom>
          <a:noFill/>
          <a:ln w="9360">
            <a:solidFill>
              <a:srgbClr val="180c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Calibri"/>
              </a:rPr>
              <a:t>Giovanni  Bocacc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0" name="4 Marcador de contenido" descr="Decameron 1.jpg"/>
          <p:cNvPicPr/>
          <p:nvPr/>
        </p:nvPicPr>
        <p:blipFill>
          <a:blip r:embed="rId1"/>
          <a:stretch/>
        </p:blipFill>
        <p:spPr>
          <a:xfrm>
            <a:off x="571680" y="1857240"/>
            <a:ext cx="3000240" cy="1892520"/>
          </a:xfrm>
          <a:prstGeom prst="rect">
            <a:avLst/>
          </a:prstGeom>
          <a:ln w="57240">
            <a:solidFill>
              <a:srgbClr val="4f6228"/>
            </a:solidFill>
            <a:miter/>
          </a:ln>
        </p:spPr>
      </p:pic>
      <p:pic>
        <p:nvPicPr>
          <p:cNvPr id="3281" name="5 Marcador de contenido" descr="Decameron 2.jpg"/>
          <p:cNvPicPr/>
          <p:nvPr/>
        </p:nvPicPr>
        <p:blipFill>
          <a:blip r:embed="rId2"/>
          <a:stretch/>
        </p:blipFill>
        <p:spPr>
          <a:xfrm>
            <a:off x="6948360" y="260280"/>
            <a:ext cx="1258920" cy="21369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282" name="Picture 2" descr="http://upload.wikimedia.org/wikipedia/commons/thumb/2/25/Boccaccio01.jpg/250px-Boccaccio0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1844640"/>
            <a:ext cx="2663640" cy="4497480"/>
          </a:xfrm>
          <a:prstGeom prst="rect">
            <a:avLst/>
          </a:prstGeom>
          <a:ln w="57240">
            <a:solidFill>
              <a:srgbClr val="7f7f7f"/>
            </a:solidFill>
            <a:miter/>
          </a:ln>
        </p:spPr>
      </p:pic>
      <p:sp>
        <p:nvSpPr>
          <p:cNvPr id="3283" name="6 CuadroTexto"/>
          <p:cNvSpPr/>
          <p:nvPr/>
        </p:nvSpPr>
        <p:spPr>
          <a:xfrm>
            <a:off x="1000080" y="414324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Comienzos del siglo XI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6 CuadroTexto"/>
          <p:cNvSpPr/>
          <p:nvPr/>
        </p:nvSpPr>
        <p:spPr>
          <a:xfrm>
            <a:off x="743040" y="4581360"/>
            <a:ext cx="281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8000"/>
                </a:solidFill>
                <a:latin typeface="Bookman Old Style"/>
              </a:rPr>
              <a:t>Y digo pue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180c00"/>
                </a:solidFill>
                <a:latin typeface="Calibri"/>
              </a:rPr>
              <a:t>Tales de Mileto: Siglo V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6" name=""/>
          <p:cNvSpPr txBox="1"/>
          <p:nvPr/>
        </p:nvSpPr>
        <p:spPr>
          <a:xfrm>
            <a:off x="3499920" y="1643040"/>
            <a:ext cx="5186520" cy="4525920"/>
          </a:xfrm>
          <a:prstGeom prst="rect">
            <a:avLst/>
          </a:prstGeom>
          <a:solidFill>
            <a:srgbClr val="f7e7a3"/>
          </a:solidFill>
          <a:ln w="9360">
            <a:solidFill>
              <a:srgbClr val="1e1c11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Escuela Jón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Sustancia origen. Physis: agu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7" name="4 CuadroTexto"/>
          <p:cNvSpPr/>
          <p:nvPr/>
        </p:nvSpPr>
        <p:spPr>
          <a:xfrm>
            <a:off x="4929120" y="3286080"/>
            <a:ext cx="3357720" cy="1923480"/>
          </a:xfrm>
          <a:prstGeom prst="rect">
            <a:avLst/>
          </a:prstGeom>
          <a:solidFill>
            <a:srgbClr val="371b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Aesclepio o Escula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Sus hi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Higeia : Diosa de la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(espo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Panacea : Todo lo c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8" name="Picture 7" descr="Physician treating a patient. Louvre Museum, Paris, Franc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1571760"/>
            <a:ext cx="1901880" cy="178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289" name="Picture 1028" descr="019_vestales_002.jpg image by lillyanna"/>
          <p:cNvPicPr/>
          <p:nvPr/>
        </p:nvPicPr>
        <p:blipFill>
          <a:blip r:embed="rId3"/>
          <a:stretch/>
        </p:blipFill>
        <p:spPr>
          <a:xfrm>
            <a:off x="785880" y="3571920"/>
            <a:ext cx="1612800" cy="2714760"/>
          </a:xfrm>
          <a:prstGeom prst="rect">
            <a:avLst/>
          </a:prstGeom>
          <a:ln w="381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785520" y="857160"/>
            <a:ext cx="6715080" cy="147024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s-MX" sz="4400" spc="-1" strike="noStrike">
                <a:solidFill>
                  <a:srgbClr val="00b050"/>
                </a:solidFill>
                <a:latin typeface="Calibri"/>
              </a:rPr>
              <a:t>2  Tareas previ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 type="subTitle"/>
          </p:nvPr>
        </p:nvSpPr>
        <p:spPr>
          <a:xfrm>
            <a:off x="1371600" y="2999880"/>
            <a:ext cx="6400800" cy="263844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0000"/>
                </a:solidFill>
                <a:latin typeface="Calibri"/>
              </a:rPr>
              <a:t>¡¡ GRACIAS 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Esta es l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70c0"/>
                </a:solidFill>
                <a:latin typeface="Calibri"/>
              </a:rPr>
              <a:t>Universidad del Nombre Bon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4" name="3 Imagen" descr="Escudo U color.jpg"/>
          <p:cNvPicPr/>
          <p:nvPr/>
        </p:nvPicPr>
        <p:blipFill>
          <a:blip r:embed="rId1"/>
          <a:stretch/>
        </p:blipFill>
        <p:spPr>
          <a:xfrm>
            <a:off x="6143760" y="500040"/>
            <a:ext cx="23320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Hipócrates de C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1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2842920" cy="3232080"/>
          </a:xfrm>
          <a:prstGeom prst="rect">
            <a:avLst/>
          </a:prstGeom>
          <a:ln w="0">
            <a:noFill/>
          </a:ln>
        </p:spPr>
      </p:pic>
      <p:sp>
        <p:nvSpPr>
          <p:cNvPr id="3292" name="3 Rectángulo"/>
          <p:cNvSpPr/>
          <p:nvPr/>
        </p:nvSpPr>
        <p:spPr>
          <a:xfrm>
            <a:off x="3714840" y="1428840"/>
            <a:ext cx="50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(460-375 AC)  </a:t>
            </a:r>
            <a:r>
              <a:rPr b="1" i="1" lang="es-CL" sz="1800" spc="-1" strike="noStrike">
                <a:solidFill>
                  <a:srgbClr val="000000"/>
                </a:solidFill>
                <a:latin typeface="Calibri"/>
              </a:rPr>
              <a:t>Aires, aguas y lugares: </a:t>
            </a: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importancia del ambiente como causa de enferme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4 CuadroTexto"/>
          <p:cNvSpPr/>
          <p:nvPr/>
        </p:nvSpPr>
        <p:spPr>
          <a:xfrm>
            <a:off x="4572000" y="2214720"/>
            <a:ext cx="3000240" cy="642600"/>
          </a:xfrm>
          <a:prstGeom prst="rect">
            <a:avLst/>
          </a:prstGeom>
          <a:noFill/>
          <a:ln w="93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Corpus hippocrati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Agua, aire, tierra y fu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5 CuadroTexto"/>
          <p:cNvSpPr/>
          <p:nvPr/>
        </p:nvSpPr>
        <p:spPr>
          <a:xfrm>
            <a:off x="4000680" y="4714920"/>
            <a:ext cx="4214520" cy="642600"/>
          </a:xfrm>
          <a:prstGeom prst="rect">
            <a:avLst/>
          </a:prstGeom>
          <a:noFill/>
          <a:ln w="93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Humores de la vi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Sangre, flema, bilis negra y bilis amar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6 CuadroTexto"/>
          <p:cNvSpPr/>
          <p:nvPr/>
        </p:nvSpPr>
        <p:spPr>
          <a:xfrm rot="20310600">
            <a:off x="4502520" y="3456000"/>
            <a:ext cx="2992680" cy="581400"/>
          </a:xfrm>
          <a:prstGeom prst="rect">
            <a:avLst/>
          </a:prstGeom>
          <a:solidFill>
            <a:srgbClr val="984807"/>
          </a:solidFill>
          <a:ln w="93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Desequilib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7 CuadroTexto"/>
          <p:cNvSpPr/>
          <p:nvPr/>
        </p:nvSpPr>
        <p:spPr>
          <a:xfrm>
            <a:off x="857160" y="5643720"/>
            <a:ext cx="4357800" cy="459720"/>
          </a:xfrm>
          <a:prstGeom prst="rect">
            <a:avLst/>
          </a:prstGeom>
          <a:solidFill>
            <a:srgbClr val="660033"/>
          </a:solidFill>
          <a:ln w="93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Ruptura del equilibro: Discr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785520" y="928440"/>
            <a:ext cx="70722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Calibri"/>
              </a:rPr>
              <a:t>Alejandría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Calibri"/>
              </a:rPr>
              <a:t>(disección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8" name="Picture 2" descr=""/>
          <p:cNvPicPr/>
          <p:nvPr/>
        </p:nvPicPr>
        <p:blipFill>
          <a:blip r:embed="rId1"/>
          <a:stretch/>
        </p:blipFill>
        <p:spPr>
          <a:xfrm>
            <a:off x="928800" y="1071720"/>
            <a:ext cx="2328840" cy="2916000"/>
          </a:xfrm>
          <a:prstGeom prst="rect">
            <a:avLst/>
          </a:prstGeom>
          <a:ln w="0">
            <a:noFill/>
          </a:ln>
        </p:spPr>
      </p:pic>
      <p:pic>
        <p:nvPicPr>
          <p:cNvPr id="3299" name="Picture 3" descr=""/>
          <p:cNvPicPr/>
          <p:nvPr/>
        </p:nvPicPr>
        <p:blipFill>
          <a:blip r:embed="rId2"/>
          <a:stretch/>
        </p:blipFill>
        <p:spPr>
          <a:xfrm>
            <a:off x="4500720" y="3214800"/>
            <a:ext cx="2828880" cy="2714400"/>
          </a:xfrm>
          <a:prstGeom prst="rect">
            <a:avLst/>
          </a:prstGeom>
          <a:ln w="57240">
            <a:solidFill>
              <a:srgbClr val="10253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0" name="PlaceHolder 1"/>
          <p:cNvSpPr>
            <a:spLocks noGrp="1"/>
          </p:cNvSpPr>
          <p:nvPr>
            <p:ph type="title"/>
          </p:nvPr>
        </p:nvSpPr>
        <p:spPr>
          <a:xfrm>
            <a:off x="4214880" y="5285880"/>
            <a:ext cx="45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Ali ibn-sinab  </a:t>
            </a:r>
            <a:br>
              <a:rPr sz="3600"/>
            </a:b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 Avice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1" name="Picture 2" descr=""/>
          <p:cNvPicPr/>
          <p:nvPr/>
        </p:nvPicPr>
        <p:blipFill>
          <a:blip r:embed="rId1"/>
          <a:stretch/>
        </p:blipFill>
        <p:spPr>
          <a:xfrm>
            <a:off x="642960" y="2428920"/>
            <a:ext cx="2365200" cy="3429000"/>
          </a:xfrm>
          <a:prstGeom prst="rect">
            <a:avLst/>
          </a:prstGeom>
          <a:ln w="0">
            <a:noFill/>
          </a:ln>
        </p:spPr>
      </p:pic>
      <p:sp>
        <p:nvSpPr>
          <p:cNvPr id="3302" name="1 Título"/>
          <p:cNvSpPr/>
          <p:nvPr/>
        </p:nvSpPr>
        <p:spPr>
          <a:xfrm>
            <a:off x="428760" y="714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Kitab al-qanun fi al-ti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anon de medi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3" name="Picture 3" descr=""/>
          <p:cNvPicPr/>
          <p:nvPr/>
        </p:nvPicPr>
        <p:blipFill>
          <a:blip r:embed="rId2"/>
          <a:stretch/>
        </p:blipFill>
        <p:spPr>
          <a:xfrm>
            <a:off x="4643280" y="2143080"/>
            <a:ext cx="3533760" cy="264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Averro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5" name=""/>
          <p:cNvSpPr txBox="1"/>
          <p:nvPr/>
        </p:nvSpPr>
        <p:spPr>
          <a:xfrm>
            <a:off x="456840" y="1600200"/>
            <a:ext cx="304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lcan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6" name="Picture 3" descr=""/>
          <p:cNvPicPr/>
          <p:nvPr/>
        </p:nvPicPr>
        <p:blipFill>
          <a:blip r:embed="rId1"/>
          <a:stretch/>
        </p:blipFill>
        <p:spPr>
          <a:xfrm>
            <a:off x="5857920" y="428760"/>
            <a:ext cx="2278080" cy="1785960"/>
          </a:xfrm>
          <a:prstGeom prst="rect">
            <a:avLst/>
          </a:prstGeom>
          <a:ln w="38160">
            <a:solidFill>
              <a:srgbClr val="953735"/>
            </a:solidFill>
            <a:miter/>
          </a:ln>
        </p:spPr>
      </p:pic>
      <p:pic>
        <p:nvPicPr>
          <p:cNvPr id="3307" name="Picture 4" descr=""/>
          <p:cNvPicPr/>
          <p:nvPr/>
        </p:nvPicPr>
        <p:blipFill>
          <a:blip r:embed="rId2"/>
          <a:stretch/>
        </p:blipFill>
        <p:spPr>
          <a:xfrm>
            <a:off x="3714840" y="2714760"/>
            <a:ext cx="1709640" cy="237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08" name="1 Título"/>
          <p:cNvSpPr/>
          <p:nvPr/>
        </p:nvSpPr>
        <p:spPr>
          <a:xfrm>
            <a:off x="5857920" y="3357720"/>
            <a:ext cx="29289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alibri"/>
              </a:rPr>
              <a:t>Moshé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alibri"/>
              </a:rPr>
              <a:t>be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alibri"/>
              </a:rPr>
              <a:t>Maim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alibri"/>
              </a:rPr>
              <a:t>Médico, rabino y teólo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alibri"/>
              </a:rPr>
              <a:t>de Al Andal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499680" y="642960"/>
            <a:ext cx="8358120" cy="52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Thomas Sydenham 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(1624-89)  y 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alibri"/>
              </a:rPr>
              <a:t>Giovanni María Lancisi 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(1654-1720)</a:t>
            </a:r>
            <a:br>
              <a:rPr sz="2400"/>
            </a:br>
            <a:br>
              <a:rPr sz="2800"/>
            </a:br>
            <a:br>
              <a:rPr sz="2800"/>
            </a:br>
            <a:r>
              <a:rPr b="1" lang="es-CL" sz="3600" spc="-1" strike="noStrike">
                <a:solidFill>
                  <a:srgbClr val="000000"/>
                </a:solidFill>
                <a:latin typeface="Calibri"/>
              </a:rPr>
              <a:t>Teoría de los miasmas: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onjunto de emanaciones fétidas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de suelos y aguas impuras,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ausa de enfermedad.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                                              Atuendo médico: peste negra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0" name="4 Marcador de contenido" descr="Medico_peste.jpg"/>
          <p:cNvPicPr/>
          <p:nvPr/>
        </p:nvPicPr>
        <p:blipFill>
          <a:blip r:embed="rId1"/>
          <a:stretch/>
        </p:blipFill>
        <p:spPr>
          <a:xfrm>
            <a:off x="5572080" y="571680"/>
            <a:ext cx="2857680" cy="42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66"/>
                </a:solidFill>
                <a:latin typeface="-솔잎M"/>
              </a:rPr>
              <a:t>¿Culpables humanos?</a:t>
            </a:r>
            <a:endParaRPr b="0" lang="en-US" sz="3800" spc="-1" strike="noStrike">
              <a:solidFill>
                <a:srgbClr val="ffff66"/>
              </a:solidFill>
              <a:latin typeface="-솔잎M"/>
            </a:endParaRPr>
          </a:p>
        </p:txBody>
      </p:sp>
      <p:sp>
        <p:nvSpPr>
          <p:cNvPr id="33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38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00"/>
                </a:solidFill>
                <a:latin typeface="-윤고딕140"/>
              </a:rPr>
              <a:t>Gitanos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00"/>
                </a:solidFill>
                <a:latin typeface="-윤고딕140"/>
              </a:rPr>
              <a:t>Judíos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00"/>
                </a:solidFill>
                <a:latin typeface="-윤고딕140"/>
              </a:rPr>
              <a:t>Minorías étnicas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-윤고딕140"/>
              </a:rPr>
              <a:t>                                         </a:t>
            </a:r>
            <a:r>
              <a:rPr b="1" lang="es-MX" sz="3000" spc="-1" strike="noStrike">
                <a:solidFill>
                  <a:srgbClr val="ffffff"/>
                </a:solidFill>
                <a:latin typeface="-윤고딕140"/>
              </a:rPr>
              <a:t>¿Pretexto?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66"/>
                </a:solidFill>
                <a:latin typeface="-솔잎M"/>
              </a:rPr>
              <a:t>Visión siglo XIX</a:t>
            </a:r>
            <a:endParaRPr b="0" lang="en-US" sz="3800" spc="-1" strike="noStrike">
              <a:solidFill>
                <a:srgbClr val="ffff66"/>
              </a:solidFill>
              <a:latin typeface="-솔잎M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32464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-윤고딕140"/>
              </a:rPr>
              <a:t>¿mo</a:t>
            </a:r>
            <a:r>
              <a:rPr b="1" lang="es-CL" sz="3000" spc="-1" strike="noStrike">
                <a:solidFill>
                  <a:srgbClr val="ffffff"/>
                </a:solidFill>
                <a:latin typeface="-윤고딕140"/>
              </a:rPr>
              <a:t>nocausalidad?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00"/>
                </a:solidFill>
                <a:latin typeface="-윤고딕140"/>
              </a:rPr>
              <a:t>Desarrollo de la bacteriología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00"/>
                </a:solidFill>
                <a:latin typeface="-윤고딕140"/>
              </a:rPr>
              <a:t>    </a:t>
            </a:r>
            <a:r>
              <a:rPr b="1" lang="es-MX" sz="3000" spc="-1" strike="noStrike">
                <a:solidFill>
                  <a:srgbClr val="ffff00"/>
                </a:solidFill>
                <a:latin typeface="-윤고딕140"/>
              </a:rPr>
              <a:t>(un agente, una causa, un resultado)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Histología,       Bichat y Morgagni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Citología,          Virchow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Bacteriología,  Pasteur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Fisiopatología, Claude Bernard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5" name="Picture 4" descr=""/>
          <p:cNvPicPr/>
          <p:nvPr/>
        </p:nvPicPr>
        <p:blipFill>
          <a:blip r:embed="rId1"/>
          <a:stretch/>
        </p:blipFill>
        <p:spPr>
          <a:xfrm>
            <a:off x="428760" y="79200"/>
            <a:ext cx="835812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-윤고딕160"/>
              </a:rPr>
              <a:t>Médico/a   debe …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3317" name="PlaceHolder 2"/>
          <p:cNvSpPr>
            <a:spLocks noGrp="1"/>
          </p:cNvSpPr>
          <p:nvPr>
            <p:ph/>
          </p:nvPr>
        </p:nvSpPr>
        <p:spPr>
          <a:xfrm>
            <a:off x="285480" y="1295280"/>
            <a:ext cx="8705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ombinar conocimiento médico y científico</a:t>
            </a:r>
            <a:endParaRPr b="0" lang="en-US" sz="24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Habilidades técnicas</a:t>
            </a:r>
            <a:endParaRPr b="0" lang="en-US" sz="24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Intuición</a:t>
            </a:r>
            <a:endParaRPr b="0" lang="en-US" sz="24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Buen criterio</a:t>
            </a:r>
            <a:endParaRPr b="0" lang="en-US" sz="24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alor humano, tacto, simpatía y comprensión</a:t>
            </a:r>
            <a:endParaRPr b="0" lang="en-US" sz="24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oraje, humildad, sabiduría</a:t>
            </a:r>
            <a:endParaRPr b="0" lang="en-US" sz="24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Nada humano es extraño o repulsivo</a:t>
            </a:r>
            <a:endParaRPr b="0" lang="en-US" sz="24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-윤고딕160"/>
              </a:rPr>
              <a:t>Circunstancias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285480" y="1295280"/>
            <a:ext cx="8705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-윤고딕140"/>
              </a:rPr>
              <a:t>En el caso de ustedes y en el tiempo de la obsolescencia 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-윤고딕140"/>
              </a:rPr>
              <a:t>no sabemos …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-윤고딕140"/>
              </a:rPr>
              <a:t>¿Qué van a hacer?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-윤고딕140"/>
              </a:rPr>
              <a:t>¿De qué maneras lo van a tener que hacer?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-윤고딕140"/>
              </a:rPr>
              <a:t>¿Dónde lo van a hacer?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-윤고딕140"/>
              </a:rPr>
              <a:t>¿Con qué lo van a hacer?</a:t>
            </a: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PlaceHolder 1"/>
          <p:cNvSpPr>
            <a:spLocks noGrp="1"/>
          </p:cNvSpPr>
          <p:nvPr>
            <p:ph type="title"/>
          </p:nvPr>
        </p:nvSpPr>
        <p:spPr>
          <a:xfrm>
            <a:off x="1571760" y="213840"/>
            <a:ext cx="721512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-윤고딕160"/>
              </a:rPr>
              <a:t>¿Dónde estamos?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3236" name=""/>
          <p:cNvSpPr txBox="1"/>
          <p:nvPr/>
        </p:nvSpPr>
        <p:spPr>
          <a:xfrm>
            <a:off x="285840" y="1125000"/>
            <a:ext cx="85341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ndalus"/>
                <a:ea typeface="Andalus"/>
              </a:rPr>
              <a:t>Quinta</a:t>
            </a:r>
            <a:endParaRPr b="0" lang="en-US" sz="2400" spc="-1" strike="noStrike">
              <a:solidFill>
                <a:srgbClr val="000000"/>
              </a:solidFill>
              <a:latin typeface="-윤고딕140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ndalus"/>
                <a:ea typeface="Andalus"/>
              </a:rPr>
              <a:t>Normal                                                                                           Biblioteca de</a:t>
            </a:r>
            <a:endParaRPr b="0" lang="en-US" sz="2000" spc="-1" strike="noStrike">
              <a:solidFill>
                <a:srgbClr val="000000"/>
              </a:solidFill>
              <a:latin typeface="-윤고딕140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ndalus"/>
                <a:ea typeface="Andalus"/>
              </a:rPr>
              <a:t>                                   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ndalus"/>
                <a:ea typeface="Andalus"/>
              </a:rPr>
              <a:t>Santiago</a:t>
            </a:r>
            <a:endParaRPr b="0" lang="en-US" sz="2000" spc="-1" strike="noStrike">
              <a:solidFill>
                <a:srgbClr val="000000"/>
              </a:solidFill>
              <a:latin typeface="-윤고딕140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ndalus"/>
                <a:ea typeface="Andalus"/>
              </a:rPr>
              <a:t>            </a:t>
            </a:r>
            <a:r>
              <a:rPr b="1" lang="es-ES" sz="2000" spc="-1" strike="noStrike">
                <a:solidFill>
                  <a:srgbClr val="800000"/>
                </a:solidFill>
                <a:latin typeface="Andalus"/>
                <a:ea typeface="Andalus"/>
              </a:rPr>
              <a:t>Avenida</a:t>
            </a:r>
            <a:r>
              <a:rPr b="0" lang="es-ES" sz="2000" spc="-1" strike="noStrike">
                <a:solidFill>
                  <a:srgbClr val="000000"/>
                </a:solidFill>
                <a:latin typeface="Andalus"/>
                <a:ea typeface="Andalus"/>
              </a:rPr>
              <a:t>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ndalus"/>
                <a:ea typeface="Andalus"/>
              </a:rPr>
              <a:t>Planetario     </a:t>
            </a:r>
            <a:endParaRPr b="0" lang="en-US" sz="2000" spc="-1" strike="noStrike">
              <a:solidFill>
                <a:srgbClr val="000000"/>
              </a:solidFill>
              <a:latin typeface="-윤고딕140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Andalus"/>
                <a:ea typeface="Andalus"/>
              </a:rPr>
              <a:t>             </a:t>
            </a:r>
            <a:r>
              <a:rPr b="1" lang="es-ES" sz="2000" spc="-1" strike="noStrike">
                <a:solidFill>
                  <a:srgbClr val="800000"/>
                </a:solidFill>
                <a:latin typeface="Andalus"/>
                <a:ea typeface="Andalus"/>
              </a:rPr>
              <a:t>Portales</a:t>
            </a:r>
            <a:endParaRPr b="0" lang="en-US" sz="2000" spc="-1" strike="noStrike">
              <a:solidFill>
                <a:srgbClr val="000000"/>
              </a:solidFill>
              <a:latin typeface="-윤고딕140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Andalus"/>
                <a:ea typeface="Andalus"/>
              </a:rPr>
              <a:t>                                                  </a:t>
            </a:r>
            <a:r>
              <a:rPr b="1" lang="es-ES" sz="2000" spc="-1" strike="noStrike">
                <a:solidFill>
                  <a:srgbClr val="800000"/>
                </a:solidFill>
                <a:latin typeface="Andalus"/>
                <a:ea typeface="Andalus"/>
              </a:rPr>
              <a:t>Biblioteca</a:t>
            </a:r>
            <a:endParaRPr b="0" lang="en-US" sz="2000" spc="-1" strike="noStrike">
              <a:solidFill>
                <a:srgbClr val="000000"/>
              </a:solidFill>
              <a:latin typeface="-윤고딕140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ndalus"/>
                <a:ea typeface="Andalus"/>
              </a:rPr>
              <a:t>           </a:t>
            </a:r>
            <a:r>
              <a:rPr b="1" lang="es-ES" sz="2000" spc="-1" strike="noStrike">
                <a:solidFill>
                  <a:srgbClr val="336600"/>
                </a:solidFill>
                <a:latin typeface="Andalus"/>
                <a:ea typeface="Andalus"/>
              </a:rPr>
              <a:t>Artequin</a:t>
            </a:r>
            <a:endParaRPr b="0" lang="en-US" sz="2000" spc="-1" strike="noStrike">
              <a:solidFill>
                <a:srgbClr val="000000"/>
              </a:solidFill>
              <a:latin typeface="-윤고딕140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ndalus"/>
                <a:ea typeface="Andalus"/>
              </a:rPr>
              <a:t>Avenida  Matucana</a:t>
            </a:r>
            <a:endParaRPr b="0" lang="en-US" sz="2000" spc="-1" strike="noStrike">
              <a:solidFill>
                <a:srgbClr val="000000"/>
              </a:solidFill>
              <a:latin typeface="-윤고딕140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ndalus"/>
                <a:ea typeface="Andalus"/>
              </a:rPr>
              <a:t>                    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ndalus"/>
                <a:ea typeface="Andalus"/>
              </a:rPr>
              <a:t>Museo de la Memoria</a:t>
            </a:r>
            <a:endParaRPr b="0" lang="en-US" sz="2000" spc="-1" strike="noStrike">
              <a:solidFill>
                <a:srgbClr val="000000"/>
              </a:solidFill>
              <a:latin typeface="-윤고딕140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고딕140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고딕140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ndalus"/>
                <a:ea typeface="Andalus"/>
              </a:rPr>
              <a:t>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ndalus"/>
                <a:ea typeface="Andalus"/>
              </a:rPr>
              <a:t>Matucana  100</a:t>
            </a:r>
            <a:endParaRPr b="0" lang="en-US" sz="2000" spc="-1" strike="noStrike">
              <a:solidFill>
                <a:srgbClr val="000000"/>
              </a:solidFill>
              <a:latin typeface="-윤고딕140"/>
            </a:endParaRPr>
          </a:p>
        </p:txBody>
      </p:sp>
      <p:pic>
        <p:nvPicPr>
          <p:cNvPr id="3237" name="Picture 4" descr="QN 1"/>
          <p:cNvPicPr/>
          <p:nvPr/>
        </p:nvPicPr>
        <p:blipFill>
          <a:blip r:embed="rId1"/>
          <a:stretch/>
        </p:blipFill>
        <p:spPr>
          <a:xfrm>
            <a:off x="1763640" y="333360"/>
            <a:ext cx="2482920" cy="18572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3238" name="Picture 5" descr="D Portales"/>
          <p:cNvPicPr/>
          <p:nvPr/>
        </p:nvPicPr>
        <p:blipFill>
          <a:blip r:embed="rId2"/>
          <a:stretch/>
        </p:blipFill>
        <p:spPr>
          <a:xfrm>
            <a:off x="179280" y="2205000"/>
            <a:ext cx="723960" cy="1209600"/>
          </a:xfrm>
          <a:prstGeom prst="rect">
            <a:avLst/>
          </a:prstGeom>
          <a:ln w="0">
            <a:noFill/>
          </a:ln>
        </p:spPr>
      </p:pic>
      <p:pic>
        <p:nvPicPr>
          <p:cNvPr id="3239" name="Picture 6" descr="Artequin"/>
          <p:cNvPicPr/>
          <p:nvPr/>
        </p:nvPicPr>
        <p:blipFill>
          <a:blip r:embed="rId3"/>
          <a:stretch/>
        </p:blipFill>
        <p:spPr>
          <a:xfrm>
            <a:off x="2857680" y="3071880"/>
            <a:ext cx="2286000" cy="17193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3240" name="Picture 7" descr="Matucana 100"/>
          <p:cNvPicPr/>
          <p:nvPr/>
        </p:nvPicPr>
        <p:blipFill>
          <a:blip r:embed="rId4"/>
          <a:stretch/>
        </p:blipFill>
        <p:spPr>
          <a:xfrm>
            <a:off x="250920" y="4365720"/>
            <a:ext cx="2327040" cy="18000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3241" name="7 Imagen" descr="Planetario.jpg"/>
          <p:cNvPicPr/>
          <p:nvPr/>
        </p:nvPicPr>
        <p:blipFill>
          <a:blip r:embed="rId5"/>
          <a:stretch/>
        </p:blipFill>
        <p:spPr>
          <a:xfrm>
            <a:off x="5435640" y="1413000"/>
            <a:ext cx="1076400" cy="14284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3242" name="8 Imagen" descr="Biblio Stgo.jpg"/>
          <p:cNvPicPr/>
          <p:nvPr/>
        </p:nvPicPr>
        <p:blipFill>
          <a:blip r:embed="rId6"/>
          <a:stretch/>
        </p:blipFill>
        <p:spPr>
          <a:xfrm>
            <a:off x="6732720" y="2349360"/>
            <a:ext cx="1709640" cy="1285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3243" name="Picture 11" descr=""/>
          <p:cNvPicPr/>
          <p:nvPr/>
        </p:nvPicPr>
        <p:blipFill>
          <a:blip r:embed="rId7"/>
          <a:stretch/>
        </p:blipFill>
        <p:spPr>
          <a:xfrm>
            <a:off x="5724360" y="4508640"/>
            <a:ext cx="25909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PlaceHolder 1"/>
          <p:cNvSpPr>
            <a:spLocks noGrp="1"/>
          </p:cNvSpPr>
          <p:nvPr>
            <p:ph type="title"/>
          </p:nvPr>
        </p:nvSpPr>
        <p:spPr>
          <a:xfrm>
            <a:off x="285480" y="1214280"/>
            <a:ext cx="8429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-윤고딕160"/>
              </a:rPr>
              <a:t>¿Qué queremos para ustedes?</a:t>
            </a:r>
            <a:endParaRPr b="0" lang="en-US" sz="4400" spc="-1" strike="noStrike">
              <a:solidFill>
                <a:srgbClr val="000000"/>
              </a:solidFill>
              <a:latin typeface="-윤고딕160"/>
            </a:endParaRPr>
          </a:p>
        </p:txBody>
      </p:sp>
      <p:pic>
        <p:nvPicPr>
          <p:cNvPr id="3321" name="4 Imagen" descr="Escudo U color.jpg"/>
          <p:cNvPicPr/>
          <p:nvPr/>
        </p:nvPicPr>
        <p:blipFill>
          <a:blip r:embed="rId1"/>
          <a:stretch/>
        </p:blipFill>
        <p:spPr>
          <a:xfrm>
            <a:off x="714240" y="2214720"/>
            <a:ext cx="3353040" cy="30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2" name="PlaceHolder 1"/>
          <p:cNvSpPr>
            <a:spLocks noGrp="1"/>
          </p:cNvSpPr>
          <p:nvPr>
            <p:ph/>
          </p:nvPr>
        </p:nvSpPr>
        <p:spPr>
          <a:xfrm>
            <a:off x="2142720" y="2071800"/>
            <a:ext cx="664380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23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i="1" lang="es-ES_tradnl" sz="2800" spc="-1" strike="noStrike">
                <a:solidFill>
                  <a:srgbClr val="000000"/>
                </a:solidFill>
                <a:latin typeface="Courier New"/>
              </a:rPr>
              <a:t>El verdadero médico debe</a:t>
            </a:r>
            <a:endParaRPr b="0" lang="en-US" sz="28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Courier New"/>
              </a:rPr>
              <a:t>poseer un inmenso interés </a:t>
            </a:r>
            <a:endParaRPr b="0" lang="en-US" sz="28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Courier New"/>
              </a:rPr>
              <a:t>por el sabio y el tonto, </a:t>
            </a:r>
            <a:endParaRPr b="0" lang="en-US" sz="28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Courier New"/>
              </a:rPr>
              <a:t>por el orgulloso y el humilde,</a:t>
            </a:r>
            <a:endParaRPr b="0" lang="en-US" sz="28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Courier New"/>
              </a:rPr>
              <a:t>por el héroe estoico y el </a:t>
            </a:r>
            <a:endParaRPr b="0" lang="en-US" sz="28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Courier New"/>
              </a:rPr>
              <a:t>pordiosero quejumbroso. </a:t>
            </a:r>
            <a:endParaRPr b="0" lang="en-US" sz="28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Courier New"/>
              </a:rPr>
              <a:t>Se preocupa por la gente</a:t>
            </a:r>
            <a:r>
              <a:rPr b="1" i="1" lang="es-ES_tradnl" sz="2800" spc="-1" strike="noStrike">
                <a:solidFill>
                  <a:srgbClr val="000000"/>
                </a:solidFill>
                <a:latin typeface="-윤고딕120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윤고딕120"/>
            </a:endParaRPr>
          </a:p>
        </p:txBody>
      </p:sp>
      <p:pic>
        <p:nvPicPr>
          <p:cNvPr id="3323" name="Picture 7" descr="Sonetos+de+Shakespeare"/>
          <p:cNvPicPr/>
          <p:nvPr/>
        </p:nvPicPr>
        <p:blipFill>
          <a:blip r:embed="rId1"/>
          <a:stretch/>
        </p:blipFill>
        <p:spPr>
          <a:xfrm>
            <a:off x="428760" y="642960"/>
            <a:ext cx="15271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356760" y="356760"/>
            <a:ext cx="8029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-윤고딕160"/>
              </a:rPr>
              <a:t>Tareas</a:t>
            </a:r>
            <a:endParaRPr b="0" lang="en-US" sz="44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285480" y="1499760"/>
            <a:ext cx="82868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Estar atentos para prever, adaptarse e influir en los avances de </a:t>
            </a: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ciencias básicas y sociales y los cambios demográficos, </a:t>
            </a: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epidemiológicos y de los sistemas de Salud</a:t>
            </a: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Estar capacitados para promover cambios positivos en la cultura </a:t>
            </a: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de la salud</a:t>
            </a: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Continuar su perfeccionamiento permanente  </a:t>
            </a: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Ejercer distintos roles: tratante, educador, investigador, </a:t>
            </a: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administrativo y político. </a:t>
            </a: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285480" y="428760"/>
            <a:ext cx="3857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-윤고딕160"/>
              </a:rPr>
              <a:t>Difícil,  no  imposible</a:t>
            </a:r>
            <a:endParaRPr b="0" lang="en-US" sz="28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/>
          </p:nvPr>
        </p:nvSpPr>
        <p:spPr>
          <a:xfrm>
            <a:off x="428400" y="1499760"/>
            <a:ext cx="8358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ientífico, integridad y calidad profesional</a:t>
            </a:r>
            <a:endParaRPr b="0" lang="en-US" sz="2400" spc="-1" strike="noStrike">
              <a:solidFill>
                <a:srgbClr val="000000"/>
              </a:solidFill>
              <a:latin typeface="-윤고딕120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윤고딕120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Humano, benevolente y con altos ideales</a:t>
            </a:r>
            <a:endParaRPr b="0" lang="en-US" sz="2400" spc="-1" strike="noStrike">
              <a:solidFill>
                <a:srgbClr val="000000"/>
              </a:solidFill>
              <a:latin typeface="-윤고딕120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윤고딕120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iembro de la sociedad honesto y eficiente</a:t>
            </a:r>
            <a:endParaRPr b="0" lang="en-US" sz="2400" spc="-1" strike="noStrike">
              <a:solidFill>
                <a:srgbClr val="000000"/>
              </a:solidFill>
              <a:latin typeface="-윤고딕120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윤고딕120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Vivir para el cambio</a:t>
            </a:r>
            <a:endParaRPr b="0" lang="en-US" sz="2400" spc="-1" strike="noStrike">
              <a:solidFill>
                <a:srgbClr val="000000"/>
              </a:solidFill>
              <a:latin typeface="-윤고딕120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윤고딕120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Fuera de la habitación</a:t>
            </a:r>
            <a:endParaRPr b="0" lang="en-US" sz="2400" spc="-1" strike="noStrike">
              <a:solidFill>
                <a:srgbClr val="000000"/>
              </a:solidFill>
              <a:latin typeface="-윤고딕120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-윤고딕120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Seguir siendo persona</a:t>
            </a:r>
            <a:endParaRPr b="0" lang="en-US" sz="2400" spc="-1" strike="noStrike">
              <a:solidFill>
                <a:srgbClr val="000000"/>
              </a:solidFill>
              <a:latin typeface="-윤고딕120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32640"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285480" y="428760"/>
            <a:ext cx="3857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-윤고딕160"/>
              </a:rPr>
              <a:t>Necesitamos</a:t>
            </a:r>
            <a:endParaRPr b="0" lang="en-US" sz="28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285840" y="1499760"/>
            <a:ext cx="85723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Energía, </a:t>
            </a:r>
            <a:endParaRPr b="0" lang="en-US" sz="28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para cambiar lo que debe ser cambiado</a:t>
            </a: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Resignación, </a:t>
            </a:r>
            <a:endParaRPr b="0" lang="en-US" sz="28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para aceptar lo que no puede ser cambiado</a:t>
            </a: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Sabiduría, </a:t>
            </a:r>
            <a:endParaRPr b="0" lang="en-US" sz="28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para reconocer ambos</a:t>
            </a: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윤고딕120"/>
            </a:endParaRPr>
          </a:p>
          <a:p>
            <a:pPr marL="343080"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윤고딕12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0" name="Picture 1" descr=""/>
          <p:cNvPicPr/>
          <p:nvPr/>
        </p:nvPicPr>
        <p:blipFill>
          <a:blip r:embed="rId1"/>
          <a:stretch/>
        </p:blipFill>
        <p:spPr>
          <a:xfrm>
            <a:off x="4427640" y="476280"/>
            <a:ext cx="4228920" cy="5977080"/>
          </a:xfrm>
          <a:prstGeom prst="rect">
            <a:avLst/>
          </a:prstGeom>
          <a:ln w="0">
            <a:noFill/>
          </a:ln>
        </p:spPr>
      </p:pic>
      <p:sp>
        <p:nvSpPr>
          <p:cNvPr id="3331" name="2 CuadroTexto"/>
          <p:cNvSpPr/>
          <p:nvPr/>
        </p:nvSpPr>
        <p:spPr>
          <a:xfrm>
            <a:off x="810000" y="1268280"/>
            <a:ext cx="2948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000" spc="-1" strike="noStrike">
                <a:solidFill>
                  <a:srgbClr val="c00000"/>
                </a:solidFill>
                <a:latin typeface="Bookman Old Style"/>
              </a:rPr>
              <a:t>Jura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000" spc="-1" strike="noStrike">
                <a:solidFill>
                  <a:srgbClr val="c00000"/>
                </a:solidFill>
                <a:latin typeface="Bookman Old Style"/>
              </a:rPr>
              <a:t>Hipocrá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558ed5"/>
                </a:solidFill>
                <a:latin typeface="Calibri"/>
              </a:rPr>
              <a:t>Mi deseo personal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3" name=""/>
          <p:cNvSpPr txBox="1"/>
          <p:nvPr/>
        </p:nvSpPr>
        <p:spPr>
          <a:xfrm>
            <a:off x="2843280" y="1915920"/>
            <a:ext cx="5976720" cy="24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Calibri"/>
              </a:rPr>
              <a:t>Que el corazón no se pase de mo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Calibri"/>
              </a:rPr>
              <a:t>Que los otoños les doren la pi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Calibri"/>
              </a:rPr>
              <a:t>Que cada noche sea noche de bo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Calibri"/>
              </a:rPr>
              <a:t>Que cada luna sea luna de mi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0000"/>
                </a:solidFill>
                <a:latin typeface="Calibri"/>
              </a:rPr>
              <a:t>Joaquin Sab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0000"/>
                </a:solidFill>
                <a:latin typeface="Calibri"/>
              </a:rPr>
              <a:t>Noche de bo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4" name="Picture 5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335" name="4 Marcador de contenido" descr="Escudo U color.jpg"/>
          <p:cNvPicPr/>
          <p:nvPr/>
        </p:nvPicPr>
        <p:blipFill>
          <a:blip r:embed="rId2"/>
          <a:stretch/>
        </p:blipFill>
        <p:spPr>
          <a:xfrm>
            <a:off x="6443640" y="333360"/>
            <a:ext cx="15526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642600" y="1571400"/>
            <a:ext cx="742932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-윤고딕160"/>
              </a:rPr>
              <a:t>¡ Habrá valido la pena!</a:t>
            </a:r>
            <a:br>
              <a:rPr sz="3600"/>
            </a:br>
            <a:br>
              <a:rPr sz="3600"/>
            </a:br>
            <a:r>
              <a:rPr b="1" lang="es-MX" sz="3600" spc="-1" strike="noStrike">
                <a:solidFill>
                  <a:srgbClr val="000000"/>
                </a:solidFill>
                <a:latin typeface="-윤고딕160"/>
              </a:rPr>
              <a:t>Y ahora… </a:t>
            </a:r>
            <a:br>
              <a:rPr sz="3600"/>
            </a:br>
            <a:br>
              <a:rPr sz="3600"/>
            </a:br>
            <a:r>
              <a:rPr b="1" lang="es-MX" sz="3600" spc="-1" strike="noStrike">
                <a:solidFill>
                  <a:srgbClr val="000000"/>
                </a:solidFill>
                <a:latin typeface="-윤고딕160"/>
              </a:rPr>
              <a:t>¡que entre el sol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-윤고딕160"/>
            </a:endParaRPr>
          </a:p>
        </p:txBody>
      </p:sp>
      <p:pic>
        <p:nvPicPr>
          <p:cNvPr id="3337" name="4 Marcador de contenido" descr="Escudo U color.jpg"/>
          <p:cNvPicPr/>
          <p:nvPr/>
        </p:nvPicPr>
        <p:blipFill>
          <a:blip r:embed="rId1"/>
          <a:stretch/>
        </p:blipFill>
        <p:spPr>
          <a:xfrm>
            <a:off x="5572080" y="2143080"/>
            <a:ext cx="28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Galeno de Pérgamo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Siglo 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9" name="Picture 2" descr=""/>
          <p:cNvPicPr/>
          <p:nvPr/>
        </p:nvPicPr>
        <p:blipFill>
          <a:blip r:embed="rId1"/>
          <a:stretch/>
        </p:blipFill>
        <p:spPr>
          <a:xfrm>
            <a:off x="500040" y="2143080"/>
            <a:ext cx="2928960" cy="3808440"/>
          </a:xfrm>
          <a:prstGeom prst="rect">
            <a:avLst/>
          </a:prstGeom>
          <a:ln w="9360">
            <a:solidFill>
              <a:srgbClr val="403152"/>
            </a:solidFill>
            <a:miter/>
          </a:ln>
        </p:spPr>
      </p:pic>
      <p:sp>
        <p:nvSpPr>
          <p:cNvPr id="3340" name="3 CuadroTexto"/>
          <p:cNvSpPr/>
          <p:nvPr/>
        </p:nvSpPr>
        <p:spPr>
          <a:xfrm>
            <a:off x="3643200" y="2714760"/>
            <a:ext cx="4786560" cy="1373760"/>
          </a:xfrm>
          <a:prstGeom prst="rect">
            <a:avLst/>
          </a:prstGeom>
          <a:noFill/>
          <a:ln w="93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iglo I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intetiza las doctrinas méd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Humores y tempera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999720" y="28548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Calibri"/>
              </a:rPr>
              <a:t>Paracelso </a:t>
            </a:r>
            <a:r>
              <a:rPr b="1" lang="es-CL" sz="2800" spc="-1" strike="noStrike">
                <a:solidFill>
                  <a:srgbClr val="000000"/>
                </a:solidFill>
                <a:latin typeface="Calibri"/>
              </a:rPr>
              <a:t> Celso; médico roma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42" name="Picture 2" descr=""/>
          <p:cNvPicPr/>
          <p:nvPr/>
        </p:nvPicPr>
        <p:blipFill>
          <a:blip r:embed="rId1"/>
          <a:stretch/>
        </p:blipFill>
        <p:spPr>
          <a:xfrm>
            <a:off x="928800" y="1714680"/>
            <a:ext cx="2857320" cy="3867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343" name="4 Rectángulo"/>
          <p:cNvSpPr/>
          <p:nvPr/>
        </p:nvSpPr>
        <p:spPr>
          <a:xfrm>
            <a:off x="4286160" y="18572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Philippus Aureolus Bombast von Hohenhei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Teofrasto </a:t>
            </a:r>
            <a:r>
              <a:rPr b="1" i="1" lang="es-CL" sz="1800" spc="-1" strike="noStrike">
                <a:solidFill>
                  <a:srgbClr val="000000"/>
                </a:solidFill>
                <a:latin typeface="Calibri"/>
              </a:rPr>
              <a:t>Paracelso</a:t>
            </a: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(Zúrich, 10 de noviembre de 14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Arqu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-윤고딕160"/>
              </a:rPr>
              <a:t>Objetivos de la sesión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3245" name=""/>
          <p:cNvSpPr txBox="1"/>
          <p:nvPr/>
        </p:nvSpPr>
        <p:spPr>
          <a:xfrm>
            <a:off x="324000" y="141300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000000"/>
                </a:solidFill>
                <a:latin typeface="-윤고딕140"/>
              </a:rPr>
              <a:t>Explicar, en general, el significado de la 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000000"/>
                </a:solidFill>
                <a:latin typeface="-윤고딕140"/>
              </a:rPr>
              <a:t>medicina como </a:t>
            </a:r>
            <a:r>
              <a:rPr b="1" i="1" lang="es-ES" sz="3000" spc="-1" strike="noStrike">
                <a:solidFill>
                  <a:srgbClr val="c00000"/>
                </a:solidFill>
                <a:latin typeface="-윤고딕140"/>
              </a:rPr>
              <a:t>arte,</a:t>
            </a:r>
            <a:r>
              <a:rPr b="1" i="1" lang="es-ES" sz="3000" spc="-1" strike="noStrike">
                <a:solidFill>
                  <a:srgbClr val="000000"/>
                </a:solidFill>
                <a:latin typeface="-윤고딕140"/>
              </a:rPr>
              <a:t> la contribución que 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000000"/>
                </a:solidFill>
                <a:latin typeface="-윤고딕140"/>
              </a:rPr>
              <a:t>hace al bienestar  del hombre y la sociedad,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000000"/>
                </a:solidFill>
                <a:latin typeface="-윤고딕140"/>
              </a:rPr>
              <a:t>las </a:t>
            </a:r>
            <a:r>
              <a:rPr b="1" i="1" lang="es-ES" sz="3000" spc="-1" strike="noStrike">
                <a:solidFill>
                  <a:srgbClr val="c00000"/>
                </a:solidFill>
                <a:latin typeface="-윤고딕140"/>
              </a:rPr>
              <a:t>habilidades y destrezas </a:t>
            </a:r>
            <a:r>
              <a:rPr b="1" i="1" lang="es-ES" sz="3000" spc="-1" strike="noStrike">
                <a:solidFill>
                  <a:srgbClr val="000000"/>
                </a:solidFill>
                <a:latin typeface="-윤고딕140"/>
              </a:rPr>
              <a:t>que requiere el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000000"/>
                </a:solidFill>
                <a:latin typeface="-윤고딕140"/>
              </a:rPr>
              <a:t>médico para ejercer como  </a:t>
            </a:r>
            <a:r>
              <a:rPr b="1" i="1" lang="es-ES" sz="3000" spc="-1" strike="noStrike">
                <a:solidFill>
                  <a:srgbClr val="c00000"/>
                </a:solidFill>
                <a:latin typeface="-윤고딕140"/>
              </a:rPr>
              <a:t>promotor </a:t>
            </a:r>
            <a:r>
              <a:rPr b="1" i="1" lang="es-ES" sz="3000" spc="-1" strike="noStrike">
                <a:solidFill>
                  <a:srgbClr val="000000"/>
                </a:solidFill>
                <a:latin typeface="-윤고딕140"/>
              </a:rPr>
              <a:t> de  la 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000000"/>
                </a:solidFill>
                <a:latin typeface="-윤고딕140"/>
              </a:rPr>
              <a:t>salud,  </a:t>
            </a:r>
            <a:r>
              <a:rPr b="1" i="1" lang="es-ES" sz="3000" spc="-1" strike="noStrike">
                <a:solidFill>
                  <a:srgbClr val="c00000"/>
                </a:solidFill>
                <a:latin typeface="-윤고딕140"/>
              </a:rPr>
              <a:t>diagnosticador</a:t>
            </a:r>
            <a:r>
              <a:rPr b="1" i="1" lang="es-ES" sz="3000" spc="-1" strike="noStrike">
                <a:solidFill>
                  <a:srgbClr val="000000"/>
                </a:solidFill>
                <a:latin typeface="-윤고딕140"/>
              </a:rPr>
              <a:t>, </a:t>
            </a:r>
            <a:r>
              <a:rPr b="1" i="1" lang="es-ES" sz="3000" spc="-1" strike="noStrike">
                <a:solidFill>
                  <a:srgbClr val="c00000"/>
                </a:solidFill>
                <a:latin typeface="-윤고딕140"/>
              </a:rPr>
              <a:t>terapeuta y 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c00000"/>
                </a:solidFill>
                <a:latin typeface="-윤고딕140"/>
              </a:rPr>
              <a:t>rehabilitador.</a:t>
            </a: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>
              <a:spcBef>
                <a:spcPts val="751"/>
              </a:spcBef>
              <a:buClr>
                <a:srgbClr val="c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-윤고딕160"/>
              </a:rPr>
              <a:t>Medicina: Ciencia de seres vivos</a:t>
            </a:r>
            <a:endParaRPr b="0" lang="en-US" sz="32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3247" name=""/>
          <p:cNvSpPr txBox="1"/>
          <p:nvPr/>
        </p:nvSpPr>
        <p:spPr>
          <a:xfrm>
            <a:off x="684360" y="1295280"/>
            <a:ext cx="8307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-윤고딕140"/>
              </a:rPr>
              <a:t>Humanos: seres complejos (bio psico social) 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-윤고딕140"/>
              </a:rPr>
              <a:t>que interactúan entre sí y con el medio.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-윤고딕140"/>
              </a:rPr>
              <a:t>Cumplen un ciclo ¿inmodificable?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-윤고딕140"/>
              </a:rPr>
              <a:t>Duda que han aportado las neurociencias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702612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Interpretar la re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Relig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A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Método cient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9" name="Picture 2" descr="Photograph:Magdalenian cave painting of a bison, Altamira, Spain"/>
          <p:cNvPicPr/>
          <p:nvPr/>
        </p:nvPicPr>
        <p:blipFill>
          <a:blip r:embed="rId1"/>
          <a:stretch/>
        </p:blipFill>
        <p:spPr>
          <a:xfrm>
            <a:off x="4427640" y="1916280"/>
            <a:ext cx="4074840" cy="2952720"/>
          </a:xfrm>
          <a:prstGeom prst="rect">
            <a:avLst/>
          </a:prstGeom>
          <a:ln w="2844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500040" y="1214280"/>
            <a:ext cx="3929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-윤고딕160"/>
              </a:rPr>
              <a:t>Medicina</a:t>
            </a:r>
            <a:endParaRPr b="0" lang="en-US" sz="44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 type="subTitle"/>
          </p:nvPr>
        </p:nvSpPr>
        <p:spPr>
          <a:xfrm>
            <a:off x="428400" y="2000160"/>
            <a:ext cx="8001000" cy="3500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0000"/>
                </a:solidFill>
                <a:latin typeface="Arial"/>
                <a:ea typeface="-윤고딕160"/>
              </a:rPr>
              <a:t>CIENCIA Y ARTE 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de </a:t>
            </a:r>
            <a:r>
              <a:rPr b="1" i="1" lang="es-CL" sz="2800" spc="-1" strike="noStrike">
                <a:solidFill>
                  <a:srgbClr val="ff0000"/>
                </a:solidFill>
                <a:latin typeface="Arial"/>
                <a:ea typeface="-윤고딕160"/>
              </a:rPr>
              <a:t>precaver y curar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las </a:t>
            </a:r>
            <a:r>
              <a:rPr b="1" i="1" lang="es-CL" sz="2800" spc="-1" strike="noStrike">
                <a:solidFill>
                  <a:srgbClr val="ff0000"/>
                </a:solidFill>
                <a:latin typeface="Arial"/>
                <a:ea typeface="-윤고딕160"/>
              </a:rPr>
              <a:t>enfermedades,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 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con el fin último de 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mantener la </a:t>
            </a:r>
            <a:r>
              <a:rPr b="1" i="1" lang="es-CL" sz="2800" spc="-1" strike="noStrike">
                <a:solidFill>
                  <a:srgbClr val="ff0000"/>
                </a:solidFill>
                <a:latin typeface="Arial"/>
                <a:ea typeface="-윤고딕160"/>
              </a:rPr>
              <a:t>salud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y prevenir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  <a:ea typeface="-윤고딕160"/>
              </a:rPr>
              <a:t>la enfermedad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500040" y="1214280"/>
            <a:ext cx="3929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2d2db9"/>
                </a:solidFill>
                <a:latin typeface="-윤고딕160"/>
              </a:rPr>
              <a:t>Ciencia</a:t>
            </a:r>
            <a:endParaRPr b="0" lang="en-US" sz="4400" spc="-1" strike="noStrike">
              <a:solidFill>
                <a:srgbClr val="000000"/>
              </a:solidFill>
              <a:latin typeface="-윤고딕160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 type="subTitle"/>
          </p:nvPr>
        </p:nvSpPr>
        <p:spPr>
          <a:xfrm>
            <a:off x="213840" y="2142720"/>
            <a:ext cx="8643960" cy="3071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(Del lat. </a:t>
            </a:r>
            <a:r>
              <a:rPr b="0" i="1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scientĭa</a:t>
            </a: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-윤고딕160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f. Conjunto de conocimientos obtenidos mediante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la observación y el razonamiento, sistemáticamente 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estructurados y de los que se deducen principios y 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leyes generales.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4" name="PlaceHolder 1"/>
          <p:cNvSpPr>
            <a:spLocks noGrp="1"/>
          </p:cNvSpPr>
          <p:nvPr>
            <p:ph type="subTitle"/>
          </p:nvPr>
        </p:nvSpPr>
        <p:spPr>
          <a:xfrm>
            <a:off x="571320" y="1285560"/>
            <a:ext cx="7715160" cy="3071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000" spc="-1" strike="noStrike">
                <a:solidFill>
                  <a:srgbClr val="2d2db9"/>
                </a:solidFill>
                <a:latin typeface="Arial"/>
                <a:ea typeface="-윤고딕160"/>
              </a:rPr>
              <a:t>Arte </a:t>
            </a:r>
            <a:endParaRPr b="0" lang="en-US" sz="4000" spc="-1" strike="noStrike">
              <a:solidFill>
                <a:srgbClr val="000000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(Del lat. </a:t>
            </a:r>
            <a:r>
              <a:rPr b="0" i="1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ars, artis,</a:t>
            </a: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 y este calco del gr. τέχνη).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-윤고딕160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amb. 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-윤고딕160"/>
                <a:ea typeface="-윤고딕160"/>
              </a:rPr>
              <a:t>Virtud, disposición y habilidad para hacer algo.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2228b"/>
                </a:solidFill>
                <a:latin typeface="-윤고딕160"/>
                <a:ea typeface="-윤고딕160"/>
              </a:rPr>
              <a:t>(</a:t>
            </a:r>
            <a:r>
              <a:rPr b="0" i="1" lang="es-CL" sz="2800" spc="-1" strike="noStrike">
                <a:solidFill>
                  <a:srgbClr val="22228b"/>
                </a:solidFill>
                <a:latin typeface="-윤고딕160"/>
                <a:ea typeface="-윤고딕160"/>
              </a:rPr>
              <a:t>arte es creación</a:t>
            </a:r>
            <a:r>
              <a:rPr b="0" lang="es-CL" sz="2800" spc="-1" strike="noStrike">
                <a:solidFill>
                  <a:srgbClr val="22228b"/>
                </a:solidFill>
                <a:latin typeface="-윤고딕160"/>
                <a:ea typeface="-윤고딕160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윤고딕140"/>
            </a:endParaRPr>
          </a:p>
        </p:txBody>
      </p:sp>
      <p:sp>
        <p:nvSpPr>
          <p:cNvPr id="3255" name="4 CuadroTexto"/>
          <p:cNvSpPr/>
          <p:nvPr/>
        </p:nvSpPr>
        <p:spPr>
          <a:xfrm>
            <a:off x="625320" y="4572000"/>
            <a:ext cx="7715520" cy="6426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-윤고딕140"/>
                <a:ea typeface="-윤고딕140"/>
              </a:rPr>
              <a:t>No hay enfermedades, sino enfer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ffffff"/>
                </a:solidFill>
                <a:latin typeface="-윤고딕140"/>
                <a:ea typeface="-윤고딕140"/>
              </a:rPr>
              <a:t>Situaciones parecidas y, sin embargo, enormemente cambiantes, disí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23:22:36Z</dcterms:created>
  <dc:creator>Nelson</dc:creator>
  <dc:description/>
  <dc:language>en-US</dc:language>
  <cp:lastModifiedBy>Nelson</cp:lastModifiedBy>
  <dcterms:modified xsi:type="dcterms:W3CDTF">2011-02-05T12:18:54Z</dcterms:modified>
  <cp:revision>262</cp:revision>
  <dc:subject/>
  <dc:title>Diapositiva 1</dc:title>
</cp:coreProperties>
</file>