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765-C759-4F87-9B6B-ECA2EE99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AC3-089F-4F9D-B183-7B11C54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5DB-01BD-471E-84AE-BF73F687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7E8-D993-4874-BD1A-4B54BE16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18B-DEF2-4892-8404-4A86D5CF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CBA-7450-430E-BEAF-D831B7A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889-94AC-42F6-A448-3D2486A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AA7-8A4F-4773-878A-F6302FA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A82-588F-4544-881B-A95A00B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434-949F-43AB-8982-7506C17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861-ABD2-4DCE-8E94-5EA6F019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574-A3C6-45E7-AFAA-31E5561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ED8-4018-4384-BE32-4609253F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n.cl/CorrelacionAcreditacion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as que ofrecen las Universidades Chilenas en Post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. Carla Lavarello Bagn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uela de Post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necesito para postula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especi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ficación académica: notas *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de Especia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.U.N.A.C.O.M…. Ley 20.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 en Educación Continu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rsos de actualización, congresos, reuniones científic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istas index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áctica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ividad en Do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ción de Postítul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Especial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idades Primarias :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31602" t="15220" r="44194" b="23781"/>
          <a:stretch/>
        </p:blipFill>
        <p:spPr>
          <a:xfrm>
            <a:off x="2916360" y="0"/>
            <a:ext cx="340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s de Atención Primaria de Salud (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781360"/>
            <a:ext cx="81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cupos ( duplas) son todos municipalizados y de la Región Metropoli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unerados $ 1.00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9 – 2010 Pediatría, Obstetricia, Medicina Interna y Psiquiatría Adu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gíster en Ciencias Biológicas y en Ciencias Médicas .. 4 semestres. (6 Magí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torado en Ciencias Médicas ..6 años ( 5 Docto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141720"/>
            <a:ext cx="576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une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ctorados más la especi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9: Neurología, Ginecología-obstetricia y U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Capacitación (3-6 meses) Aten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Perfeccionamiento (3-12 meses)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Entrenamiento (1- 12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Complementarias (4 semanas) ….r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de Formación Avanzada (1 -2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plomas y cursos certificados presenciales y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plomas: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s de actualización a distancia: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 de actualización presenciales: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as de perfeccionamiento, capacitación: 5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realizo otras actividades y después quiero especializarme……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tulación de Promociones An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ificación Acad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UNA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stencia a congresos y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obtengo mi segundo título… soy especialista…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e la espe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inua con una especialidad derivada, actualmente son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la postulaciones a cualquier programa de título de especialista se realiza una entrevista cualitativa  cuyo puntaje es importante en la sumatori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da por una comisión : 3 académicos mí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075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iatura en 5º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ítulo de Médico Cirujano en 7º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idades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o sólo Médicos con título de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52567" t="17708" r="9637" b="12891"/>
          <a:stretch/>
        </p:blipFill>
        <p:spPr>
          <a:xfrm>
            <a:off x="2411280" y="88920"/>
            <a:ext cx="460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tulación 2009-2010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ecialidades Prim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úmero de postulantes:  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256536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mociones anteriores: 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Última Promoción :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42920" y="3716280"/>
          <a:ext cx="4753080" cy="2625840"/>
        </p:xfrm>
        <a:graphic>
          <a:graphicData uri="http://schemas.openxmlformats.org/drawingml/2006/table">
            <a:tbl>
              <a:tblPr/>
              <a:tblGrid>
                <a:gridCol w="3600360"/>
                <a:gridCol w="115272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ones anteri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ltima 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Primaria de Sal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matricul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443640" y="47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sal: 12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UNA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amen Único Nacional de Conocimientos en 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Teóric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Práctic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gratis para los egresados en Universidades Asofa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cción práctica no la realizan los egresados  Universidades Asofamech, es equivalente al Inter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46160"/>
            <a:ext cx="7201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33360"/>
            <a:ext cx="705816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ización de pos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s Acreditadas  pertenecientes a Asofa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en a un nuevo Título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dedor de 29 especialidades primarias en distintas Univer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des de Medicina Asofam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5327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ntificia Universidad Ca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on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Austral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Valparaí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Santiago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. Católica de la Santísima Con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los 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Antofag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iego P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 Católica del Ma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des de Medicina no Asofamech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tengo mi título de Médico…..y ahora….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dic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dico General de Zona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a  8 años puede postular a un programa de formación de especialista; acceso a programas de educación conti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lar a un Programa de Formación de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lar a Grados Académicos: Magíster o Doct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ular a Educación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20:11Z</dcterms:created>
  <dc:creator>Fac. de Medicina</dc:creator>
  <dc:description/>
  <dc:language>en-US</dc:language>
  <cp:lastModifiedBy>Facultad de Medicina</cp:lastModifiedBy>
  <dcterms:modified xsi:type="dcterms:W3CDTF">2010-03-30T20:21:25Z</dcterms:modified>
  <cp:revision>28</cp:revision>
  <dc:subject/>
  <dc:title>Alternativas que ofrecen las Universidades Chilenas en Postgrado</dc:title>
</cp:coreProperties>
</file>