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FCA5-7C14-44A9-9B78-AB278B088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DA6A-B92F-4083-BEA2-46000B44D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E3AB-954F-4077-B3F3-79A5A6A05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AF8E-2D28-42F5-973D-37E6117E9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B5FE6-8279-41BA-A6E3-72C63BD8E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E6906-DA44-4E63-9804-E890B1976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F9CFB-3FDF-47E4-8AAB-B9B09B270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86157-3C4D-4F49-9C06-A93E85AED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F6A01-85B3-49E3-8B28-F43556B87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FEF7E-2911-4E85-B1CB-E55169D52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FA36E-1FC2-408E-AF5E-6E0048FFA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D5DD-1DE6-497E-A1F1-87A095EC4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7F0FE-CEE2-4054-8CD5-0CF373526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CC1E8-EE60-4B41-A8EA-925981AAD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0ACCA-220F-4BD1-8BF4-30A072B34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FF0BF-AC18-430C-BBCB-61085AADD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2F0E6-3950-482F-AB24-429303B9E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55C2-42A0-4CE2-A056-9881C8783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54FC-28EE-45F7-A338-81D325A65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56B6-DB98-4822-BA41-95BA37CB7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B484-F9B1-42A9-BF62-60732B12C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0C88-55BC-4440-8723-5EE9BFEFA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2C49-9163-4154-ABD9-226555A22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080F-DF76-4F23-B211-A8781BE49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B3BBF-669F-4A51-B350-D13F9C6BD18F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3046D-BF27-4C55-855D-9B90194D627D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330066"/>
                </a:solidFill>
                <a:latin typeface="Arial"/>
              </a:rPr>
              <a:t>Fundamentos de la Medicina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Bases Conceptuales y Prácticas de la Medic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ra. Eleana Oyarzún 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900" spc="-1" strike="noStrike">
                <a:solidFill>
                  <a:srgbClr val="330066"/>
                </a:solidFill>
                <a:latin typeface="Arial"/>
              </a:rPr>
              <a:t>Cualidades Médic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Idoneidad: competencia y aptitudes necesarias para ejercer su oficio. El médico debe poseer los conocimientos, habilidades y destrezas propias de su profesión y mantenerlas vigentes a través del estudio y la reflexión crítica de la experiencia acumulad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900" spc="-1" strike="noStrike">
                <a:solidFill>
                  <a:srgbClr val="330066"/>
                </a:solidFill>
                <a:latin typeface="Arial"/>
              </a:rPr>
              <a:t>Cualidades Médic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Responsabilidad: obligación profesional y moral y a veces legal, de responder por el enfermo y por los actos que lleva a cabo en el ejercicio de su profesión. La responsabilidad profesional es, el otro nombre de la étic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900" spc="-1" strike="noStrike">
                <a:solidFill>
                  <a:srgbClr val="330066"/>
                </a:solidFill>
                <a:latin typeface="Arial"/>
              </a:rPr>
              <a:t>Cualidades Médic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Honestidad: se espera que el médico sea una persona recta, honrada, proba y justa y que en cada uno de sus actos como médico y como persona, se exprese esta virtu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900" spc="-1" strike="noStrike">
                <a:solidFill>
                  <a:srgbClr val="330066"/>
                </a:solidFill>
                <a:latin typeface="Arial"/>
              </a:rPr>
              <a:t>Cualidades Médic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Compasión: “padecer con”; supone transponer los límites de nuestra propia individualidad que nos separa del que padece y de su sufrimiento. No es incompatible con la serenidad y objetividad necesarias. Debe ser acción terapéutica efectiv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900" spc="-1" strike="noStrike">
                <a:solidFill>
                  <a:srgbClr val="330066"/>
                </a:solidFill>
                <a:latin typeface="Arial"/>
              </a:rPr>
              <a:t>Cualidades Médic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Prudencia: es la virtud del sentido de la realidad y lo prudente es lo conforme a esa realidad; sensatez del médico para manejar los problemas que enfrenta. La audacia y temeridad no son compatibles con la profesión médic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La medicina está al servicio de la vida humana y su fin es procurar únicamente el bien de los enfermos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A. Go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hay mayor responsabilidad ni mejor oportunidad para un hombre o mujer que la de servir como médico. Para tratar y aliviar un mal, necesita destreza técnica, conocimiento científico y humanidad. Quien use esto con humildad y sabiduría, prestará un servicio único a un semejante y forjará grandemente su vida interior”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. So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900" spc="-1" strike="noStrike">
                <a:solidFill>
                  <a:srgbClr val="330066"/>
                </a:solidFill>
                <a:latin typeface="Arial"/>
              </a:rPr>
              <a:t>Sus Fundament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Arte Clín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Ét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Cienc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900" spc="-1" strike="noStrike">
                <a:solidFill>
                  <a:srgbClr val="330066"/>
                </a:solidFill>
                <a:latin typeface="Arial"/>
              </a:rPr>
              <a:t>Arte Clínic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Se desarrolló con anterioridad al advenimiento del conocimiento científico tal como hoy los entendem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Surge de la inclinación natural del hombre de ayudar al prójim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Medicina primitiv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Ofici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Evolución de asistencia médica y costumbre dio el nombre de “clínica”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900" spc="-1" strike="noStrike">
                <a:solidFill>
                  <a:srgbClr val="330066"/>
                </a:solidFill>
                <a:latin typeface="Arial"/>
              </a:rPr>
              <a:t>Arte Clínic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s habilidades y destrezas clínicas diagnósticas y terapéuticas del médico, ejercidas en un ambiente de incertidumbre, convierte a la medicina en un arte, un oficio de constante creación intelectual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916360" y="2421000"/>
            <a:ext cx="3673440" cy="2808360"/>
          </a:xfrm>
          <a:prstGeom prst="flowChartExtract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76720" y="260280"/>
            <a:ext cx="2952720" cy="25923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55640" y="3500280"/>
            <a:ext cx="2881440" cy="29530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940360" y="3645000"/>
            <a:ext cx="2881440" cy="28810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51280" y="404640"/>
            <a:ext cx="1944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000000"/>
                </a:solidFill>
                <a:latin typeface="Times New Roman"/>
              </a:rPr>
              <a:t>CIENC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476360" y="3716280"/>
            <a:ext cx="136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000000"/>
                </a:solidFill>
                <a:latin typeface="Times New Roman"/>
              </a:rPr>
              <a:t>AR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372360" y="3860640"/>
            <a:ext cx="2158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000000"/>
                </a:solidFill>
                <a:latin typeface="Times New Roman"/>
              </a:rPr>
              <a:t>SERVIC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32000" y="4365720"/>
            <a:ext cx="13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0000"/>
                </a:solidFill>
                <a:latin typeface="Times New Roman"/>
              </a:rPr>
              <a:t>Habilidades y Destrez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435640" y="4581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0000"/>
                </a:solidFill>
                <a:latin typeface="Times New Roman"/>
              </a:rPr>
              <a:t>Val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995640" y="278136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0000"/>
                </a:solidFill>
                <a:latin typeface="Times New Roman"/>
              </a:rPr>
              <a:t>Conocimi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211640" y="206064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SA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403280" y="580536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APTIT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732720" y="587700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ACTIT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4716360" y="907560"/>
            <a:ext cx="0" cy="1081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2124000" y="4436640"/>
            <a:ext cx="0" cy="1081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380360" y="4581000"/>
            <a:ext cx="0" cy="1081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900" spc="-1" strike="noStrike">
                <a:solidFill>
                  <a:srgbClr val="330066"/>
                </a:solidFill>
                <a:latin typeface="Arial"/>
              </a:rPr>
              <a:t>Rol del Médico en la Sociedad Modern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Clín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Educad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Investigad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900" spc="-1" strike="noStrike">
                <a:solidFill>
                  <a:srgbClr val="330066"/>
                </a:solidFill>
                <a:latin typeface="Arial"/>
              </a:rPr>
              <a:t>Rol del Médico en la Sociedad Modern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Estudian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Salubris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Administrad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900" spc="-1" strike="noStrike">
                <a:solidFill>
                  <a:srgbClr val="330066"/>
                </a:solidFill>
                <a:latin typeface="Arial"/>
              </a:rPr>
              <a:t>Rol del Médico en la Sociedad Modern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Dirigen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Polít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Otr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5280" y="1413000"/>
            <a:ext cx="8569440" cy="2808000"/>
          </a:xfrm>
          <a:custGeom>
            <a:avLst/>
            <a:gdLst>
              <a:gd name="textAreaLeft" fmla="*/ 638280 w 8569440"/>
              <a:gd name="textAreaRight" fmla="*/ 7931160 w 8569440"/>
              <a:gd name="textAreaTop" fmla="*/ 806760 h 2808000"/>
              <a:gd name="textAreaBottom" fmla="*/ 2001240 h 2808000"/>
            </a:gdLst>
            <a:ahLst/>
            <a:rect l="textAreaLeft" t="textAreaTop" r="textAreaRight" b="textAreaBottom"/>
            <a:pathLst>
              <a:path w="21600" h="21600">
                <a:moveTo>
                  <a:pt x="0" y="6206"/>
                </a:moveTo>
                <a:lnTo>
                  <a:pt x="17816" y="6206"/>
                </a:lnTo>
                <a:lnTo>
                  <a:pt x="17816" y="0"/>
                </a:lnTo>
                <a:lnTo>
                  <a:pt x="21600" y="10800"/>
                </a:lnTo>
                <a:lnTo>
                  <a:pt x="17816" y="21600"/>
                </a:lnTo>
                <a:lnTo>
                  <a:pt x="17816" y="15394"/>
                </a:lnTo>
                <a:lnTo>
                  <a:pt x="0" y="15394"/>
                </a:lnTo>
                <a:lnTo>
                  <a:pt x="1610" y="10800"/>
                </a:lnTo>
                <a:lnTo>
                  <a:pt x="0" y="6206"/>
                </a:lnTo>
                <a:close/>
              </a:path>
            </a:pathLst>
          </a:cu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042920" y="2637000"/>
            <a:ext cx="74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8d8ec"/>
                </a:solidFill>
                <a:latin typeface="Times New Roman"/>
              </a:rPr>
              <a:t>FOMENTAR       PREVENIR       REPARAR       REHABILIT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843280" y="220500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643280" y="220500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372360" y="220500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332000" y="4869000"/>
            <a:ext cx="230508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SAL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859280" y="4869000"/>
            <a:ext cx="331308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ENFERME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708360" y="5013360"/>
            <a:ext cx="1008000" cy="287280"/>
          </a:xfrm>
          <a:prstGeom prst="leftRightArrow">
            <a:avLst>
              <a:gd name="adj1" fmla="val 50000"/>
              <a:gd name="adj2" fmla="val 69850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9T03:57:56Z</dcterms:created>
  <dc:creator>Eleana Oyarzún</dc:creator>
  <dc:description/>
  <dc:language>en-US</dc:language>
  <cp:lastModifiedBy>Fac. de Medicina</cp:lastModifiedBy>
  <dcterms:modified xsi:type="dcterms:W3CDTF">2011-03-30T19:38:17Z</dcterms:modified>
  <cp:revision>11</cp:revision>
  <dc:subject/>
  <dc:title>Diapositiva 1</dc:title>
</cp:coreProperties>
</file>