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5.png" ContentType="image/png"/>
  <Override PartName="/ppt/media/image24.wmf" ContentType="image/x-wmf"/>
  <Override PartName="/ppt/media/image12.wmf" ContentType="image/x-wmf"/>
  <Override PartName="/ppt/media/image27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4.png" ContentType="image/png"/>
  <Override PartName="/ppt/media/image34.png" ContentType="image/png"/>
  <Override PartName="/ppt/media/image33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3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158-E541-4DD2-81BE-431DD282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8D8-C168-4320-A8F5-3AD2E049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DBD-F2CB-4BC3-AC60-BAFB8835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5F5-225C-47A1-B8BB-8C14E006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536-B48D-4303-8EB4-07F4C5B2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BE0-06B5-489F-BF3F-9458DFA6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323-6EED-4C66-825D-6267F82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909-B791-4943-B0AB-FFBB6C76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31C-CB0F-4EC8-AF6F-986B0CA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F3E-B707-4BE0-8012-2F1FF50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908-0557-4099-A33F-5112495F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66A-7282-4003-9DA5-6F126140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4A71-70CB-465B-B372-372AB400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icloalcanos - ciclohex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637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000000"/>
                </a:solidFill>
                <a:latin typeface="Arial"/>
              </a:rPr>
              <a:t>HIDROCARBUROS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-2700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canos ram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836640"/>
            <a:ext cx="5400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sobutano (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rbono 3</a:t>
            </a:r>
            <a:r>
              <a:rPr b="1" lang="es-CL" sz="1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4382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4000" y="2349360"/>
            <a:ext cx="2420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98800" y="13032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54080" y="25448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26510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8080" y="25146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68600" y="25272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8280" y="13032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34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sopentano (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rbono 3º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09840" y="3933720"/>
            <a:ext cx="57592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opentano (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rbono 4º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79640" y="3357720"/>
            <a:ext cx="781200" cy="1100160"/>
            <a:chOff x="1979640" y="3357720"/>
            <a:chExt cx="781200" cy="1100160"/>
          </a:xfrm>
        </p:grpSpPr>
        <p:sp>
          <p:nvSpPr>
            <p:cNvPr id="148" name=""/>
            <p:cNvSpPr/>
            <p:nvPr/>
          </p:nvSpPr>
          <p:spPr>
            <a:xfrm>
              <a:off x="2340000" y="3716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9640" y="41241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78000" y="335772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40000" y="42418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90760" y="41274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692360" y="765000"/>
            <a:ext cx="54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4869000"/>
            <a:ext cx="561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620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national, Union of Pure applied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2133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36000" y="1268280"/>
            <a:ext cx="1655640" cy="1656000"/>
            <a:chOff x="7236000" y="1268280"/>
            <a:chExt cx="1655640" cy="1656000"/>
          </a:xfrm>
        </p:grpSpPr>
        <p:graphicFrame>
          <p:nvGraphicFramePr>
            <p:cNvPr id="158" name=""/>
            <p:cNvGraphicFramePr/>
            <p:nvPr/>
          </p:nvGraphicFramePr>
          <p:xfrm>
            <a:off x="7236000" y="1268280"/>
            <a:ext cx="1655640" cy="165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6000" y="1268280"/>
                      <a:ext cx="1655640" cy="16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>
              <a:off x="7236000" y="1339920"/>
              <a:ext cx="21564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556000" y="25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256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35120" y="51102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7840" y="54831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54784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41600" y="57340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8240" y="57340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573408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824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068640"/>
            <a:ext cx="172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53989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1         2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9000" y="4886280"/>
            <a:ext cx="36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58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,3 dimetilpen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8964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enclatura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U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1916280"/>
            <a:ext cx="0" cy="115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1413000"/>
            <a:ext cx="72723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e escogerse la cadena continua más l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    CH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numera la cadena principal empezando por el extremo más próximo a una ramificación buscando que los números localizadores sean los más bajos posibles para el o los sustit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CH    CH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36572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dena más larga tiene cinco carbonos, por lo tanto, el compuesto es un pentano sustituí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8280" y="260280"/>
            <a:ext cx="79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Si hubiera dos o más cadenas de igual longitud se elige la más ram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020000" cy="2521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4000" y="357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Las cadenas laterales se nombran antes que la cadena principal, preced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un número localiz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4170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4762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Cuando hay dos sustituyentes idènticos en la misma posiciòn, se dan los nùmeros que representan la posiciòn en la cadena y se usan los prefijos di, tri, que  representan el nùmero de sustitu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350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Cuando hay dos o màs sustituyentes diferentes, estos se nombran en orden alfabè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71640" y="1557360"/>
            <a:ext cx="5400360" cy="1589400"/>
            <a:chOff x="971640" y="1557360"/>
            <a:chExt cx="5400360" cy="1589400"/>
          </a:xfrm>
        </p:grpSpPr>
        <p:sp>
          <p:nvSpPr>
            <p:cNvPr id="187" name=""/>
            <p:cNvSpPr/>
            <p:nvPr/>
          </p:nvSpPr>
          <p:spPr>
            <a:xfrm>
              <a:off x="971640" y="1557360"/>
              <a:ext cx="5400360" cy="1589400"/>
            </a:xfrm>
            <a:prstGeom prst="rect">
              <a:avLst/>
            </a:prstGeom>
            <a:solidFill>
              <a:srgbClr val="fe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 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10840" y="2060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02920" y="2577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15880" y="2463840"/>
              <a:ext cx="21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86480" y="2454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82840" y="2459160"/>
              <a:ext cx="21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01320" y="24462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06840" y="24670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33600" y="2454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708360" y="17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,3-dimetilhep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76360" y="4653000"/>
            <a:ext cx="7056360" cy="1359360"/>
            <a:chOff x="1476360" y="4653000"/>
            <a:chExt cx="7056360" cy="1359360"/>
          </a:xfrm>
        </p:grpSpPr>
        <p:sp>
          <p:nvSpPr>
            <p:cNvPr id="198" name=""/>
            <p:cNvSpPr/>
            <p:nvPr/>
          </p:nvSpPr>
          <p:spPr>
            <a:xfrm>
              <a:off x="1476360" y="4653000"/>
              <a:ext cx="7056360" cy="1359360"/>
            </a:xfrm>
            <a:prstGeom prst="rect">
              <a:avLst/>
            </a:prstGeom>
            <a:solidFill>
              <a:srgbClr val="fe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47960" y="53229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84360" y="53229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8000" y="5310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4320" y="53262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76840" y="531324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94160" y="53132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24440" y="53132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4000" y="53132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09800" y="5445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84600" y="49798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60840" y="4967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06760" y="484344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52800" y="484344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932360" y="5516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,5 dietil,3-metilnon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129520" cy="2571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50920" y="43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: a) 3,4-dimetilhexano; b) 3,4-dietil-2,4-dimetilhex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clo alcanos: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2565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lo bu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1413000"/>
            <a:ext cx="45370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1484280"/>
            <a:ext cx="863640" cy="649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6286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lo prop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860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lo pen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2421000"/>
            <a:ext cx="20876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8360" y="2421000"/>
            <a:ext cx="86364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500280"/>
            <a:ext cx="20163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859280" y="3789360"/>
            <a:ext cx="1152720" cy="936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53006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lo hex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4752720" y="5265720"/>
            <a:ext cx="1042920" cy="900000"/>
          </a:xfrm>
          <a:prstGeom prst="hexagon">
            <a:avLst>
              <a:gd name="adj" fmla="val 28970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26920" y="1700280"/>
            <a:ext cx="1429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43280" y="200196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7640" y="170028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920" y="273384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273384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261144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97200" y="306864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74800" y="369108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70240" y="382284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6040" y="380988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77840" y="4272120"/>
            <a:ext cx="14292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4292640"/>
            <a:ext cx="14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68360" y="5084640"/>
            <a:ext cx="1656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  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  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555640" y="522936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5877000"/>
            <a:ext cx="7308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916000" y="5805360"/>
            <a:ext cx="14436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5516640"/>
            <a:ext cx="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5516640"/>
            <a:ext cx="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14560" y="5300640"/>
            <a:ext cx="7308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156360" y="4653000"/>
            <a:ext cx="2381040" cy="1685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1197000"/>
            <a:ext cx="446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404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a cadena abierta tiene un número mayor de carbonos que el ciclo, éste se nombra como sustituyente con la terminación -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281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2960" cy="4761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27560" y="3860640"/>
            <a:ext cx="57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: a) 1-etil-4-metilciclohexano; b) isopropilciclopen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42920" y="907920"/>
            <a:ext cx="7201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apo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baja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bajo punto de f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bajo punto de ebull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as tres últimas características presentan un valor creciente a medida que aumenta el peso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195640" y="3186000"/>
            <a:ext cx="475272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nto de ebullición de al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4560" y="105264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cano                    formula                     Peb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              Pf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557360"/>
            <a:ext cx="720108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ano   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162                 -1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tano      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88,5               -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pano 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42                  -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Butano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                   -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Pentano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36                   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Hexano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69                    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Decano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174                    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-dodecano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216                    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pentadecano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270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4560" y="1486080"/>
            <a:ext cx="6626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6165720"/>
            <a:ext cx="6626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IDROCARB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162864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hidrocarburos son compuestos formados exclusivamente    p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bon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hidró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973080"/>
            <a:ext cx="7524720" cy="58849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nto de ebullición d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isomeros del  hex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1413000"/>
            <a:ext cx="648000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b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-hexan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69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-metilpentano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3.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3-dimetilbutano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    CH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2- dimetilbutano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49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eohexano)           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43280" y="2492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5300640"/>
            <a:ext cx="6697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7840" y="33955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33955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11640" y="4221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11640" y="4653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3645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1052640"/>
            <a:ext cx="6697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55640" y="1341360"/>
            <a:ext cx="6264360" cy="1079640"/>
          </a:xfrm>
          <a:prstGeom prst="rect">
            <a:avLst/>
          </a:prstGeom>
          <a:solidFill>
            <a:srgbClr val="fee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acciones  Quí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125360"/>
            <a:ext cx="77774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logena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      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Cl   + HCl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tano                           clorome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84720" y="1773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2805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292428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 flipH="1" rot="16200000">
            <a:off x="3131280" y="2779920"/>
            <a:ext cx="361080" cy="216720"/>
          </a:xfrm>
          <a:prstGeom prst="curvedConnector5">
            <a:avLst>
              <a:gd name="adj1" fmla="val 49700"/>
              <a:gd name="adj2" fmla="val 49916"/>
              <a:gd name="adj3" fmla="val 49700"/>
            </a:avLst>
          </a:prstGeom>
          <a:ln w="28440">
            <a:solidFill>
              <a:srgbClr val="ff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320364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364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364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43280" y="27082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l   C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+ 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924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2000" y="34290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ropag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3141720"/>
            <a:ext cx="5543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Cl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+  Cl–C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 +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4724280"/>
            <a:ext cx="17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40000" y="4724280"/>
            <a:ext cx="50403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+  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Cl –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+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+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27640" y="14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6000" y="25653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364500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88000" y="4292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4941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5589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6165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79640" y="3141720"/>
            <a:ext cx="5543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Cl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+  Cl–C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 +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5589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6165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79640" y="3141720"/>
            <a:ext cx="5543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Cl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+  Cl–C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 +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5589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6165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0072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56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620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 Reacciones de sustitución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a través de radicale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09200" y="1125360"/>
            <a:ext cx="67906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+   H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+  H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3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 </a:t>
            </a:r>
            <a:r>
              <a:rPr b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+  H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+  H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4149720"/>
            <a:ext cx="821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erciario &gt; Secundario &gt; primario &gt;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92360" y="335772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92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1484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2205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3640" y="2781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3429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bilidad de los ra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0920" y="765000"/>
            <a:ext cx="518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042920" y="549360"/>
            <a:ext cx="34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1125360"/>
            <a:ext cx="849636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-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Cl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Cl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-clorobut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1-clorobu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00240" y="29732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0360" y="206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24240" y="1865160"/>
            <a:ext cx="77227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– C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– C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+  5O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3CO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+  4 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2560" y="1413000"/>
            <a:ext cx="354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 Reacciones de Ox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2708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012000" y="3716280"/>
            <a:ext cx="1728720" cy="1295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c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1557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lquenos u olefinas son hidrocarburos que se caracterizan por tener al menos un doble enlace entre 2 átomos de carbono. Los alquenos que poseen un solo doble enlace tienen fórmula general CnH2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8856720" cy="1601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92280" y="2852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nombran igual que los alcanos, pero con la terminación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-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QUEN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1042920" y="3933720"/>
          <a:ext cx="5688000" cy="26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933720"/>
                    <a:ext cx="5688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8" name="" descr=""/>
          <p:cNvPicPr/>
          <p:nvPr/>
        </p:nvPicPr>
        <p:blipFill>
          <a:blip r:embed="rId3"/>
          <a:srcRect l="51637" t="22743" r="17622" b="39409"/>
          <a:stretch/>
        </p:blipFill>
        <p:spPr>
          <a:xfrm>
            <a:off x="755640" y="1197000"/>
            <a:ext cx="2087640" cy="192708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6597000" y="1507680"/>
            <a:ext cx="1239840" cy="1241280"/>
            <a:chOff x="6597000" y="1507680"/>
            <a:chExt cx="1239840" cy="1241280"/>
          </a:xfrm>
        </p:grpSpPr>
        <p:sp>
          <p:nvSpPr>
            <p:cNvPr id="330" name=""/>
            <p:cNvSpPr/>
            <p:nvPr/>
          </p:nvSpPr>
          <p:spPr>
            <a:xfrm rot="8995800">
              <a:off x="6764400" y="1852200"/>
              <a:ext cx="681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410600">
              <a:off x="6768000" y="1681920"/>
              <a:ext cx="897840" cy="89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846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846656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948360" y="292572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200280" y="1484280"/>
            <a:ext cx="200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27200" y="1916280"/>
            <a:ext cx="196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1s2 2s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,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50160" y="2925720"/>
            <a:ext cx="215640" cy="86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37440" y="292572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3%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6%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50160" y="2925720"/>
            <a:ext cx="215640" cy="86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00360" y="3357720"/>
            <a:ext cx="36036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050920" y="2708280"/>
            <a:ext cx="863640" cy="424440"/>
            <a:chOff x="2050920" y="2708280"/>
            <a:chExt cx="863640" cy="424440"/>
          </a:xfrm>
        </p:grpSpPr>
        <p:sp>
          <p:nvSpPr>
            <p:cNvPr id="341" name=""/>
            <p:cNvSpPr/>
            <p:nvPr/>
          </p:nvSpPr>
          <p:spPr>
            <a:xfrm>
              <a:off x="2111400" y="2781360"/>
              <a:ext cx="57636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0920" y="27082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17840" y="27338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figuración eléctrónica del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755640" y="2060640"/>
            <a:ext cx="2952720" cy="2151000"/>
            <a:chOff x="755640" y="2060640"/>
            <a:chExt cx="2952720" cy="2151000"/>
          </a:xfrm>
        </p:grpSpPr>
        <p:graphicFrame>
          <p:nvGraphicFramePr>
            <p:cNvPr id="346" name=""/>
            <p:cNvGraphicFramePr/>
            <p:nvPr/>
          </p:nvGraphicFramePr>
          <p:xfrm>
            <a:off x="755640" y="2131920"/>
            <a:ext cx="2952720" cy="207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31920"/>
                      <a:ext cx="2952720" cy="20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"/>
            <p:cNvSpPr/>
            <p:nvPr/>
          </p:nvSpPr>
          <p:spPr>
            <a:xfrm flipV="1">
              <a:off x="1763640" y="2060640"/>
              <a:ext cx="12956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76360" y="3500280"/>
              <a:ext cx="12956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35280" y="3284640"/>
              <a:ext cx="431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17440" y="350028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44720" y="26366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28720" y="32846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44360" y="26366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5" name=""/>
          <p:cNvGraphicFramePr/>
          <p:nvPr/>
        </p:nvGraphicFramePr>
        <p:xfrm>
          <a:off x="5292720" y="1700280"/>
          <a:ext cx="2700360" cy="25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700280"/>
                    <a:ext cx="270036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7093080" y="3789360"/>
            <a:ext cx="5745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765000"/>
            <a:ext cx="576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59640" y="170028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24000" y="414972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35640" y="1844640"/>
            <a:ext cx="360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menclatura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qu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105264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º de C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fi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etil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propil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butil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x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p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p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tra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Tetra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a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a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1557360"/>
            <a:ext cx="561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32000" y="6093000"/>
            <a:ext cx="568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588000" y="4005360"/>
            <a:ext cx="2390760" cy="1476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419640" y="43657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227280" y="5954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ANO          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811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87280" y="476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átomos de carbono se numeran comenzando por el     extremo más cercano al dobl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340000" y="1268280"/>
            <a:ext cx="3575520" cy="584280"/>
            <a:chOff x="2340000" y="1268280"/>
            <a:chExt cx="3575520" cy="584280"/>
          </a:xfrm>
        </p:grpSpPr>
        <p:sp>
          <p:nvSpPr>
            <p:cNvPr id="372" name=""/>
            <p:cNvSpPr/>
            <p:nvPr/>
          </p:nvSpPr>
          <p:spPr>
            <a:xfrm>
              <a:off x="2507400" y="1268280"/>
              <a:ext cx="340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   CH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40000" y="148428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6          5          4           3         2       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87640" y="14713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76600" y="14587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1120" y="14587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62440" y="148428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62440" y="14364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92720" y="14461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987640" y="2205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hexeno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4720" y="2205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 en- hex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7280" y="270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Si posee ramificaciones se busca la cadena más larga que         contenga el dobl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4221000"/>
            <a:ext cx="45720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48000" y="450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48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1280" y="6713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492360" y="4724280"/>
            <a:ext cx="147600" cy="85680"/>
            <a:chOff x="3492360" y="4724280"/>
            <a:chExt cx="147600" cy="85680"/>
          </a:xfrm>
        </p:grpSpPr>
        <p:sp>
          <p:nvSpPr>
            <p:cNvPr id="388" name=""/>
            <p:cNvSpPr/>
            <p:nvPr/>
          </p:nvSpPr>
          <p:spPr>
            <a:xfrm>
              <a:off x="3492360" y="480996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92360" y="472428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763640" y="4221000"/>
            <a:ext cx="4572000" cy="1240920"/>
            <a:chOff x="1763640" y="4221000"/>
            <a:chExt cx="4572000" cy="1240920"/>
          </a:xfrm>
        </p:grpSpPr>
        <p:sp>
          <p:nvSpPr>
            <p:cNvPr id="391" name=""/>
            <p:cNvSpPr/>
            <p:nvPr/>
          </p:nvSpPr>
          <p:spPr>
            <a:xfrm>
              <a:off x="1763640" y="4221000"/>
              <a:ext cx="4572000" cy="12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48000" y="45086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8000" y="486900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3492360" y="4724280"/>
              <a:ext cx="147600" cy="85680"/>
              <a:chOff x="3492360" y="4724280"/>
              <a:chExt cx="147600" cy="85680"/>
            </a:xfrm>
          </p:grpSpPr>
          <p:sp>
            <p:nvSpPr>
              <p:cNvPr id="395" name=""/>
              <p:cNvSpPr/>
              <p:nvPr/>
            </p:nvSpPr>
            <p:spPr>
              <a:xfrm>
                <a:off x="3492360" y="4809960"/>
                <a:ext cx="14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92360" y="4724280"/>
                <a:ext cx="14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3203640" y="450864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4437000"/>
            <a:ext cx="6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2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530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5     4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342900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La posición del doble enlace se indica mencionando el número del primer carbono del dobl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84720" y="479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etil-1-pen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51577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268280"/>
            <a:ext cx="215640" cy="3168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820908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141300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can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mif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íc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can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3737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hidrocarburos alifáticos en los cuales cada átomo de carbono esta enlazado a cuatro ato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71640" y="476280"/>
            <a:ext cx="72007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i hay más de un doble enlace se indica la posición de cada uno y se usan los su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dieno, -trieno,  -tetra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763640" y="1341360"/>
            <a:ext cx="4572000" cy="1465200"/>
            <a:chOff x="1763640" y="1341360"/>
            <a:chExt cx="4572000" cy="1465200"/>
          </a:xfrm>
        </p:grpSpPr>
        <p:sp>
          <p:nvSpPr>
            <p:cNvPr id="404" name=""/>
            <p:cNvSpPr/>
            <p:nvPr/>
          </p:nvSpPr>
          <p:spPr>
            <a:xfrm>
              <a:off x="2484360" y="184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268360" y="2039760"/>
              <a:ext cx="147600" cy="85680"/>
              <a:chOff x="2268360" y="2039760"/>
              <a:chExt cx="147600" cy="85680"/>
            </a:xfrm>
          </p:grpSpPr>
          <p:sp>
            <p:nvSpPr>
              <p:cNvPr id="406" name=""/>
              <p:cNvSpPr/>
              <p:nvPr/>
            </p:nvSpPr>
            <p:spPr>
              <a:xfrm>
                <a:off x="2268360" y="2125440"/>
                <a:ext cx="14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68360" y="2039760"/>
                <a:ext cx="14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3203640" y="2052360"/>
              <a:ext cx="147600" cy="85680"/>
              <a:chOff x="3203640" y="2052360"/>
              <a:chExt cx="147600" cy="85680"/>
            </a:xfrm>
          </p:grpSpPr>
          <p:sp>
            <p:nvSpPr>
              <p:cNvPr id="409" name=""/>
              <p:cNvSpPr/>
              <p:nvPr/>
            </p:nvSpPr>
            <p:spPr>
              <a:xfrm>
                <a:off x="3203640" y="2138040"/>
                <a:ext cx="14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03640" y="2052360"/>
                <a:ext cx="14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2589120" y="20998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63640" y="2206440"/>
              <a:ext cx="20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1          2      3        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63640" y="1341360"/>
              <a:ext cx="45720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    CH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042920" y="270828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 Radicales con dobles enlaces: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ILO      EN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03640" y="2924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403280" y="3357720"/>
            <a:ext cx="2160720" cy="405720"/>
            <a:chOff x="1403280" y="3357720"/>
            <a:chExt cx="2160720" cy="405720"/>
          </a:xfrm>
        </p:grpSpPr>
        <p:sp>
          <p:nvSpPr>
            <p:cNvPr id="417" name=""/>
            <p:cNvSpPr/>
            <p:nvPr/>
          </p:nvSpPr>
          <p:spPr>
            <a:xfrm>
              <a:off x="1403280" y="3357720"/>
              <a:ext cx="216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CH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06560" y="3500280"/>
              <a:ext cx="144360" cy="72720"/>
              <a:chOff x="1906560" y="3500280"/>
              <a:chExt cx="144360" cy="72720"/>
            </a:xfrm>
          </p:grpSpPr>
          <p:sp>
            <p:nvSpPr>
              <p:cNvPr id="419" name=""/>
              <p:cNvSpPr/>
              <p:nvPr/>
            </p:nvSpPr>
            <p:spPr>
              <a:xfrm>
                <a:off x="1906560" y="350028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06560" y="35730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470320" y="35478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59280" y="35478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780000" y="3357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propen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95640" y="26028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clo alqu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826920" y="1989000"/>
            <a:ext cx="1517760" cy="1127520"/>
            <a:chOff x="826920" y="1989000"/>
            <a:chExt cx="1517760" cy="1127520"/>
          </a:xfrm>
        </p:grpSpPr>
        <p:grpSp>
          <p:nvGrpSpPr>
            <p:cNvPr id="426" name=""/>
            <p:cNvGrpSpPr/>
            <p:nvPr/>
          </p:nvGrpSpPr>
          <p:grpSpPr>
            <a:xfrm>
              <a:off x="826920" y="1989000"/>
              <a:ext cx="1517760" cy="1127520"/>
              <a:chOff x="826920" y="1989000"/>
              <a:chExt cx="1517760" cy="1127520"/>
            </a:xfrm>
          </p:grpSpPr>
          <p:sp>
            <p:nvSpPr>
              <p:cNvPr id="427" name=""/>
              <p:cNvSpPr/>
              <p:nvPr/>
            </p:nvSpPr>
            <p:spPr>
              <a:xfrm>
                <a:off x="1761840" y="1989000"/>
                <a:ext cx="582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CH</a:t>
                </a:r>
                <a:r>
                  <a:rPr b="1" lang="en-US" sz="18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5400000">
                <a:off x="816840" y="2131560"/>
                <a:ext cx="1043280" cy="900360"/>
              </a:xfrm>
              <a:prstGeom prst="hexagon">
                <a:avLst>
                  <a:gd name="adj" fmla="val 2896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753920" y="2206440"/>
                <a:ext cx="1447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63480" y="224280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38280" y="2636640"/>
                <a:ext cx="31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99880" y="284004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42760" y="264924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6920" y="224928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6360" y="203832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706400" y="24670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62728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-metil ciclohe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826920" y="3500280"/>
            <a:ext cx="1517760" cy="1127520"/>
            <a:chOff x="826920" y="3500280"/>
            <a:chExt cx="1517760" cy="1127520"/>
          </a:xfrm>
        </p:grpSpPr>
        <p:grpSp>
          <p:nvGrpSpPr>
            <p:cNvPr id="439" name=""/>
            <p:cNvGrpSpPr/>
            <p:nvPr/>
          </p:nvGrpSpPr>
          <p:grpSpPr>
            <a:xfrm>
              <a:off x="826920" y="3500280"/>
              <a:ext cx="1517760" cy="1127520"/>
              <a:chOff x="826920" y="3500280"/>
              <a:chExt cx="1517760" cy="1127520"/>
            </a:xfrm>
          </p:grpSpPr>
          <p:sp>
            <p:nvSpPr>
              <p:cNvPr id="440" name=""/>
              <p:cNvSpPr/>
              <p:nvPr/>
            </p:nvSpPr>
            <p:spPr>
              <a:xfrm>
                <a:off x="1761840" y="3500280"/>
                <a:ext cx="582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CH</a:t>
                </a:r>
                <a:r>
                  <a:rPr b="1" lang="en-US" sz="18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5400000">
                <a:off x="816840" y="3642840"/>
                <a:ext cx="1043280" cy="900360"/>
              </a:xfrm>
              <a:prstGeom prst="hexagon">
                <a:avLst>
                  <a:gd name="adj" fmla="val 2896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753920" y="3717720"/>
                <a:ext cx="1447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63480" y="375408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38280" y="4147920"/>
                <a:ext cx="31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99880" y="435132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42760" y="416052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26920" y="376056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6360" y="354960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706400" y="39783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97164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43280" y="386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,4-ciclohexadi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00360" y="6583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99640" y="4869000"/>
            <a:ext cx="1887840" cy="1513800"/>
            <a:chOff x="899640" y="4869000"/>
            <a:chExt cx="1887840" cy="1513800"/>
          </a:xfrm>
        </p:grpSpPr>
        <p:sp>
          <p:nvSpPr>
            <p:cNvPr id="454" name=""/>
            <p:cNvSpPr/>
            <p:nvPr/>
          </p:nvSpPr>
          <p:spPr>
            <a:xfrm flipV="1" rot="10800000">
              <a:off x="899640" y="5302080"/>
              <a:ext cx="1152360" cy="1080720"/>
            </a:xfrm>
            <a:prstGeom prst="pentag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99960" y="4869000"/>
              <a:ext cx="641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76000" y="51321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763280" y="5805360"/>
              <a:ext cx="144360" cy="48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04640" y="544500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52360" y="5732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052360" y="5660640"/>
              <a:ext cx="21600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348000" y="57340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,3-dimetilpen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00000" y="836640"/>
            <a:ext cx="6912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mienza a numerar de manera que el doble enlace esté entre el C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el C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que el primer sustituyente tenga el valor más bajo po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 rot="10800000">
            <a:off x="5508720" y="1843560"/>
            <a:ext cx="1079280" cy="100980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379920" y="2924280"/>
            <a:ext cx="58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59636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37200" y="1941480"/>
            <a:ext cx="432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372360" y="285264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32720" y="2349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-metilciclopen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94480" y="3527280"/>
            <a:ext cx="193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    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5657760" y="3670200"/>
            <a:ext cx="1042920" cy="900000"/>
          </a:xfrm>
          <a:prstGeom prst="hexagon">
            <a:avLst>
              <a:gd name="adj" fmla="val 28970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594120" y="3745080"/>
            <a:ext cx="14436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4040" y="37814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378480" y="4175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40440" y="437832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683320" y="41878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67480" y="378792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46920" y="357660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4696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12000" y="36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12000" y="371628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56360" y="501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-(3-butenil)ciclohe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63640" y="62064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someri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CIS-TR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07560" y="1413000"/>
            <a:ext cx="227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   CH   C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91040" y="1603440"/>
            <a:ext cx="14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84720" y="160812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3564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bu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838600" y="2133720"/>
            <a:ext cx="2093760" cy="954360"/>
            <a:chOff x="2838600" y="2133720"/>
            <a:chExt cx="2093760" cy="954360"/>
          </a:xfrm>
        </p:grpSpPr>
        <p:grpSp>
          <p:nvGrpSpPr>
            <p:cNvPr id="488" name=""/>
            <p:cNvGrpSpPr/>
            <p:nvPr/>
          </p:nvGrpSpPr>
          <p:grpSpPr>
            <a:xfrm>
              <a:off x="3630600" y="2565360"/>
              <a:ext cx="146880" cy="71280"/>
              <a:chOff x="3630600" y="2565360"/>
              <a:chExt cx="146880" cy="71280"/>
            </a:xfrm>
          </p:grpSpPr>
          <p:sp>
            <p:nvSpPr>
              <p:cNvPr id="489" name=""/>
              <p:cNvSpPr/>
              <p:nvPr/>
            </p:nvSpPr>
            <p:spPr>
              <a:xfrm>
                <a:off x="3634920" y="2565360"/>
                <a:ext cx="14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30600" y="2636640"/>
                <a:ext cx="14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2838600" y="2133720"/>
              <a:ext cx="20937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H                   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989160" y="2349360"/>
              <a:ext cx="21708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125880" y="2709360"/>
              <a:ext cx="288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89520" y="2709720"/>
              <a:ext cx="2170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98600" y="2421000"/>
              <a:ext cx="215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435640" y="234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S 2-bu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987640" y="3500280"/>
            <a:ext cx="2094120" cy="991800"/>
            <a:chOff x="2987640" y="3500280"/>
            <a:chExt cx="2094120" cy="991800"/>
          </a:xfrm>
        </p:grpSpPr>
        <p:grpSp>
          <p:nvGrpSpPr>
            <p:cNvPr id="498" name=""/>
            <p:cNvGrpSpPr/>
            <p:nvPr/>
          </p:nvGrpSpPr>
          <p:grpSpPr>
            <a:xfrm>
              <a:off x="3780000" y="3952800"/>
              <a:ext cx="147600" cy="71280"/>
              <a:chOff x="3780000" y="3952800"/>
              <a:chExt cx="147600" cy="71280"/>
            </a:xfrm>
          </p:grpSpPr>
          <p:sp>
            <p:nvSpPr>
              <p:cNvPr id="499" name=""/>
              <p:cNvSpPr/>
              <p:nvPr/>
            </p:nvSpPr>
            <p:spPr>
              <a:xfrm>
                <a:off x="3784680" y="395280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780000" y="402408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987640" y="3500280"/>
              <a:ext cx="20941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   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H              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138560" y="3736800"/>
              <a:ext cx="21744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74920" y="4096800"/>
              <a:ext cx="2890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38560" y="4097160"/>
              <a:ext cx="2174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48000" y="3808440"/>
              <a:ext cx="216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435640" y="3716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364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 2-bu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56000" y="1052640"/>
            <a:ext cx="33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187280" y="981000"/>
            <a:ext cx="74725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Adición de halógenos (X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= C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 =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Adición de halogenuros de ácido (hidrác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 = Cl, Br, I, 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 =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HX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-2700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CCIONES QUÍ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6360" y="191628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8360" y="404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1. Adición electrofí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16360" y="3933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4508640"/>
            <a:ext cx="69138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 =CH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   CH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88000" y="5013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51280" y="4653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84720" y="4869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8736800">
            <a:off x="2526840" y="4581360"/>
            <a:ext cx="181512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8472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516720" y="5013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04000" y="4797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530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43640" y="537372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940360" y="5227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13560" y="5950080"/>
            <a:ext cx="231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72120" y="6127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5380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16520" y="6237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250920" y="260280"/>
            <a:ext cx="8208720" cy="2283120"/>
            <a:chOff x="250920" y="260280"/>
            <a:chExt cx="8208720" cy="2283120"/>
          </a:xfrm>
        </p:grpSpPr>
        <p:sp>
          <p:nvSpPr>
            <p:cNvPr id="530" name=""/>
            <p:cNvSpPr/>
            <p:nvPr/>
          </p:nvSpPr>
          <p:spPr>
            <a:xfrm>
              <a:off x="250920" y="620640"/>
              <a:ext cx="8208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“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n la adición  de un ácido al doble enlace de un alqueno, el hidrógeno del ácido o el electrófilo se une al carbono con menor número de sustituyentes y el halógeno se une al carbono con más sustituyentes alquilos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37080" y="260280"/>
              <a:ext cx="33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Regla de Markovniko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116000" y="4149720"/>
            <a:ext cx="64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H =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+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67280" y="4365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3284640"/>
            <a:ext cx="31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. Adición de 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9373400">
            <a:off x="3449520" y="4019400"/>
            <a:ext cx="288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8250800">
            <a:off x="2286360" y="3893400"/>
            <a:ext cx="13903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260280"/>
            <a:ext cx="8640720" cy="252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18900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abilidad del ión carbonio(carbocat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0000" y="162864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ocatión 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10560" y="314172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ocatión 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05080" y="429264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ocatión ter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299280" y="479592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3933720"/>
            <a:ext cx="40672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 –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27480" y="42591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50920" y="52293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bilidad del ión carbonio ( carboca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508640"/>
            <a:ext cx="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97720" y="5734080"/>
            <a:ext cx="1855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primario &gt; 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04960" y="48006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8560" y="5091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5120" y="6292800"/>
            <a:ext cx="490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eactividad sigue la misma s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46280" y="53830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96720" y="5661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ciario &gt;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32360" y="299736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56000" y="2637000"/>
            <a:ext cx="45720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 –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11280" y="1197000"/>
            <a:ext cx="4572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–C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076720" y="1844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76720" y="14842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32000" y="907920"/>
            <a:ext cx="590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86160" y="18720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2.Reacciones de 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95280" y="1228680"/>
            <a:ext cx="8569440" cy="5193360"/>
            <a:chOff x="395280" y="1228680"/>
            <a:chExt cx="8569440" cy="5193360"/>
          </a:xfrm>
        </p:grpSpPr>
        <p:sp>
          <p:nvSpPr>
            <p:cNvPr id="561" name=""/>
            <p:cNvSpPr/>
            <p:nvPr/>
          </p:nvSpPr>
          <p:spPr>
            <a:xfrm>
              <a:off x="395280" y="1228680"/>
              <a:ext cx="8569440" cy="5193360"/>
            </a:xfrm>
            <a:prstGeom prst="rect">
              <a:avLst/>
            </a:prstGeom>
            <a:solidFill>
              <a:srgbClr val="fe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. Ozono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=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+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         2 HCH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- CH =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+ 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3 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        HCH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+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– CH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- C =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      HCH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+  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– C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- C = C - 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+ 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2  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– C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80000" y="21128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80000" y="297792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3280" y="484956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80000" y="39128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50920" y="2852640"/>
            <a:ext cx="8580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3.  Adición de hidrógeno: 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- C =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+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,Pd o N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– C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19640" y="17733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4000" y="692280"/>
            <a:ext cx="8353440" cy="14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 Hidrox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- C =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– C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24360" y="393372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79280" y="765000"/>
            <a:ext cx="89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alquinos son hidrocarburos no saturados que presentan un triple enlace entre dos átomos de carbono. Los que tienen sólo un triple enlace poseen fórmula general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-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ra nombrarlos se utilizan las mismas reglas que para los alquenos, pero la terminación es -i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lquinos con más de 4 átomos de carbono presentan isomería de 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510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QUINOS: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n-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39640" y="2859120"/>
            <a:ext cx="7777440" cy="13287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-1440" y="4149720"/>
            <a:ext cx="9145440" cy="2506680"/>
            <a:chOff x="-1440" y="4149720"/>
            <a:chExt cx="9145440" cy="250668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-1440" y="4149720"/>
              <a:ext cx="9145440" cy="25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"/>
          <p:cNvGraphicFramePr/>
          <p:nvPr/>
        </p:nvGraphicFramePr>
        <p:xfrm>
          <a:off x="826920" y="765000"/>
          <a:ext cx="244980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244980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figuración electrónica del carb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076720" y="2060640"/>
            <a:ext cx="1943280" cy="865080"/>
            <a:chOff x="5076720" y="2060640"/>
            <a:chExt cx="1943280" cy="865080"/>
          </a:xfrm>
        </p:grpSpPr>
        <p:sp>
          <p:nvSpPr>
            <p:cNvPr id="579" name=""/>
            <p:cNvSpPr/>
            <p:nvPr/>
          </p:nvSpPr>
          <p:spPr>
            <a:xfrm>
              <a:off x="6012000" y="2060640"/>
              <a:ext cx="1008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0%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0% 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76720" y="227628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 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24360" y="2060640"/>
              <a:ext cx="216000" cy="865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 rot="8995800">
            <a:off x="5629320" y="1204200"/>
            <a:ext cx="68256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46840" y="907920"/>
            <a:ext cx="19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03640" y="1413000"/>
            <a:ext cx="197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s2 2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68360" y="3213000"/>
            <a:ext cx="3887640" cy="1521000"/>
            <a:chOff x="468360" y="3213000"/>
            <a:chExt cx="3887640" cy="1521000"/>
          </a:xfrm>
        </p:grpSpPr>
        <p:graphicFrame>
          <p:nvGraphicFramePr>
            <p:cNvPr id="586" name=""/>
            <p:cNvGraphicFramePr/>
            <p:nvPr/>
          </p:nvGraphicFramePr>
          <p:xfrm>
            <a:off x="468360" y="3429000"/>
            <a:ext cx="3887640" cy="10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360" y="3429000"/>
                      <a:ext cx="388764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8" name=""/>
            <p:cNvSpPr/>
            <p:nvPr/>
          </p:nvSpPr>
          <p:spPr>
            <a:xfrm>
              <a:off x="3565440" y="3284640"/>
              <a:ext cx="322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40000" y="4292640"/>
              <a:ext cx="36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71640" y="4365720"/>
              <a:ext cx="36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76360" y="32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s-CL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2" name=""/>
          <p:cNvGraphicFramePr/>
          <p:nvPr/>
        </p:nvGraphicFramePr>
        <p:xfrm>
          <a:off x="5364000" y="3213000"/>
          <a:ext cx="2953080" cy="219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213000"/>
                    <a:ext cx="2953080" cy="21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5651640" y="3213000"/>
            <a:ext cx="215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6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12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916360" y="4653000"/>
            <a:ext cx="2881080" cy="1800360"/>
            <a:chOff x="2916360" y="4653000"/>
            <a:chExt cx="2881080" cy="1800360"/>
          </a:xfrm>
        </p:grpSpPr>
        <p:graphicFrame>
          <p:nvGraphicFramePr>
            <p:cNvPr id="598" name=""/>
            <p:cNvGraphicFramePr/>
            <p:nvPr/>
          </p:nvGraphicFramePr>
          <p:xfrm>
            <a:off x="2916360" y="4653000"/>
            <a:ext cx="2881080" cy="180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16360" y="4653000"/>
                      <a:ext cx="2881080" cy="180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0" name=""/>
            <p:cNvSpPr/>
            <p:nvPr/>
          </p:nvSpPr>
          <p:spPr>
            <a:xfrm>
              <a:off x="3041640" y="4709880"/>
              <a:ext cx="187560" cy="2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403280" y="5300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7305840" cy="2347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141300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das (expandidas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representación bidimensional que indica todos los enlaces presentes en la moléc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836640"/>
            <a:ext cx="408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das o semidesarrollad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mite la mayoría de los enlaces y pares de electrones no compartidos. La cadena de carbonos principal se escribe horizontalmente y los hidrógenos suelen añadirse a la derecha del carbono al que están enlazados. Los sustituyentes de la cadena principal se añaden mediante líneas verti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648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11280" y="765000"/>
            <a:ext cx="624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NOMBRE de los 15 PRIMEROS ALQUI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º de C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Prefi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ino o acetil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in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x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p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pt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t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n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tra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Tetra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a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a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2381400" cy="19623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84360" y="1700280"/>
            <a:ext cx="568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55640" y="5877000"/>
            <a:ext cx="583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5157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os hidrocarburos que poseen enlaces dobles y triples se denominan como derivados del alceno y el triple enlace se considera como segundo en orden de preced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l doble enlace se le asigna el menor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3280" y="260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AN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278400" y="4381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47640" y="1268280"/>
            <a:ext cx="4840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CH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    C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3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19280" y="981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8       7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6         5          4     3      2 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030400" y="1387440"/>
            <a:ext cx="3013200" cy="385920"/>
            <a:chOff x="2030400" y="1387440"/>
            <a:chExt cx="3013200" cy="385920"/>
          </a:xfrm>
        </p:grpSpPr>
        <p:sp>
          <p:nvSpPr>
            <p:cNvPr id="614" name=""/>
            <p:cNvSpPr/>
            <p:nvPr/>
          </p:nvSpPr>
          <p:spPr>
            <a:xfrm>
              <a:off x="3025800" y="145908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02160" y="14508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87720" y="144612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98880" y="144612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87720" y="149400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4960" y="14508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87720" y="138744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22520" y="145908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30400" y="145908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63720" y="1557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5796000" y="1268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-metil-3-oc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32000" y="227664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numeración comienza siempre en el extremo de la cadena  más cercano al triple enlace,de modo que recibe el número más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050920" y="3789360"/>
            <a:ext cx="4572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    C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484360" y="39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84360" y="39798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84360" y="4030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437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os compuestos que contienen dobles y triples enlaces se denominan                     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EN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00720" y="39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1332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58000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-hepten-6-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76360" y="836640"/>
            <a:ext cx="568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8964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s alquen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79920" y="981000"/>
            <a:ext cx="57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importantes grupos alquenilo son el vinilo y el al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271440" y="2276640"/>
            <a:ext cx="8872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38134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841040" y="321300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: a) 4,5,5-trimetil-2-hexino; b) 2,6-dimetil-3-hep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acciones Químicas de alqu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55640" y="98100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 Reacciones de adición  electrofí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11600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 Adición de halógenos. El intermadiario es un catión viní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1280" y="2924280"/>
            <a:ext cx="784836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mera a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  CH  +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Br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– C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,2-dibromo-1-propino (dihal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nda a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,1,2,2-tetrabromo-propano(tetrahal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55640" y="3645000"/>
            <a:ext cx="3311640" cy="1920240"/>
            <a:chOff x="755640" y="3645000"/>
            <a:chExt cx="3311640" cy="1920240"/>
          </a:xfrm>
        </p:grpSpPr>
        <p:sp>
          <p:nvSpPr>
            <p:cNvPr id="646" name=""/>
            <p:cNvSpPr/>
            <p:nvPr/>
          </p:nvSpPr>
          <p:spPr>
            <a:xfrm>
              <a:off x="3203640" y="393372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75280" y="3645000"/>
              <a:ext cx="576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9840" y="386064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13080" y="392112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17760" y="398448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5640" y="4149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-propi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19640" y="55180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19640" y="5229000"/>
              <a:ext cx="576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03640" y="393372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75280" y="3645000"/>
              <a:ext cx="576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09840" y="386064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13080" y="392112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17760" y="398448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5640" y="4149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-propi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19640" y="55180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19640" y="5229000"/>
              <a:ext cx="576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211640" y="1773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65800" y="1765440"/>
            <a:ext cx="13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Br   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42920" y="2133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  C     +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Br  B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C    C      +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B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C  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813240" y="1748160"/>
            <a:ext cx="6278040" cy="1814040"/>
            <a:chOff x="813240" y="1748160"/>
            <a:chExt cx="6278040" cy="1814040"/>
          </a:xfrm>
        </p:grpSpPr>
        <p:sp>
          <p:nvSpPr>
            <p:cNvPr id="666" name=""/>
            <p:cNvSpPr/>
            <p:nvPr/>
          </p:nvSpPr>
          <p:spPr>
            <a:xfrm>
              <a:off x="6946920" y="2319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202440" y="2332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43640" y="2052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67360" y="2052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73960" y="226836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73960" y="23414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51640" y="23414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32400" y="2319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38560" y="2268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38560" y="23414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65600" y="23162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62200" y="2303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42920" y="2306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03280" y="2268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59280" y="23414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03280" y="2374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03280" y="23162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3120" y="19288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19640" y="256536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tión viníl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27640" y="2060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 rot="13824600">
              <a:off x="1171080" y="1921320"/>
              <a:ext cx="1141560" cy="146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 rot="7396200">
              <a:off x="2415960" y="2146320"/>
              <a:ext cx="4276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71640" y="198900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68360" y="1916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36840" y="233676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95640" y="19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0000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27280" y="19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0000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95280" y="2060640"/>
            <a:ext cx="74167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mera a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 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   C  +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 =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nda a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  H                                             Br  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 = CH +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    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  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5640" y="260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 Adición de halogenuros de 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1164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26580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705720" y="6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79480" y="646200"/>
            <a:ext cx="6211800" cy="1815480"/>
            <a:chOff x="879480" y="646200"/>
            <a:chExt cx="6211800" cy="1815480"/>
          </a:xfrm>
        </p:grpSpPr>
        <p:sp>
          <p:nvSpPr>
            <p:cNvPr id="699" name=""/>
            <p:cNvSpPr/>
            <p:nvPr/>
          </p:nvSpPr>
          <p:spPr>
            <a:xfrm>
              <a:off x="6946920" y="12463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02440" y="1258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443640" y="9795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67360" y="9795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73960" y="119556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3960" y="126828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51640" y="1268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532400" y="12463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38560" y="1195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38560" y="1268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65600" y="1243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62200" y="1230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42920" y="123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3280" y="1195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59280" y="1268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3280" y="13017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3280" y="1243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51280" y="8413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 rot="10827000">
              <a:off x="3492000" y="15559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tión viníl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81560" y="9428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 rot="13824600">
              <a:off x="1237320" y="820080"/>
              <a:ext cx="1142640" cy="146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 rot="7396200">
              <a:off x="2415960" y="1073160"/>
              <a:ext cx="4276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  C      +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H 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C    C      +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C  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940360" y="4221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,2-dibromobu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476360" y="2852640"/>
            <a:ext cx="6624720" cy="1800360"/>
            <a:chOff x="1476360" y="2852640"/>
            <a:chExt cx="6624720" cy="1800360"/>
          </a:xfrm>
        </p:grpSpPr>
        <p:sp>
          <p:nvSpPr>
            <p:cNvPr id="724" name=""/>
            <p:cNvSpPr/>
            <p:nvPr/>
          </p:nvSpPr>
          <p:spPr>
            <a:xfrm>
              <a:off x="1476360" y="2997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476360" y="3068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76360" y="31291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71640" y="306864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87640" y="443700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8560" y="44496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6000" y="285264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-Br-1-but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76360" y="42210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08000" y="42210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32360" y="450072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35640" y="45086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35640" y="42210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32360" y="42210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34080" y="2852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62480" y="2852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55640" y="5013360"/>
            <a:ext cx="5184720" cy="1376280"/>
            <a:chOff x="755640" y="5013360"/>
            <a:chExt cx="5184720" cy="1376280"/>
          </a:xfrm>
        </p:grpSpPr>
        <p:sp>
          <p:nvSpPr>
            <p:cNvPr id="740" name=""/>
            <p:cNvSpPr/>
            <p:nvPr/>
          </p:nvSpPr>
          <p:spPr>
            <a:xfrm>
              <a:off x="755640" y="5084640"/>
              <a:ext cx="518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00000" y="5300640"/>
              <a:ext cx="2592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7280" y="5013360"/>
              <a:ext cx="475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activ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   C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03280" y="56228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63640" y="5589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63640" y="5661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95640" y="5444640"/>
              <a:ext cx="1443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95640" y="566100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35480" y="5950080"/>
              <a:ext cx="1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68360" y="522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68360" y="5661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47640" y="52624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27280" y="5300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87640" y="539424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08360" y="5157720"/>
              <a:ext cx="792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211640" y="5418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  C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00720" y="5191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92720" y="51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92720" y="5661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48360" y="566100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5148360" y="5444640"/>
              <a:ext cx="1443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29320" y="55926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16360" y="5661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40240" y="55926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87280" y="59500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inilo 2</a:t>
              </a:r>
              <a:r>
                <a:rPr b="0" lang="es-CL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284720" y="6021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inilo 1</a:t>
              </a:r>
              <a:r>
                <a:rPr b="0" lang="es-CL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684360" y="1557360"/>
          <a:ext cx="640080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640080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"/>
          <p:cNvSpPr/>
          <p:nvPr/>
        </p:nvSpPr>
        <p:spPr>
          <a:xfrm>
            <a:off x="611280" y="549360"/>
            <a:ext cx="31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. Adición de 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08000" y="2205000"/>
            <a:ext cx="10083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9280" y="3933720"/>
            <a:ext cx="8580600" cy="19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2.Reacciones de  Adición de hidr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- C = CH   + 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,Pd o N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– C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730520" y="5300640"/>
            <a:ext cx="14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995640" y="535140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684360" y="3716280"/>
            <a:ext cx="7777080" cy="2455920"/>
            <a:chOff x="684360" y="3716280"/>
            <a:chExt cx="7777080" cy="2455920"/>
          </a:xfrm>
        </p:grpSpPr>
        <p:sp>
          <p:nvSpPr>
            <p:cNvPr id="774" name=""/>
            <p:cNvSpPr/>
            <p:nvPr/>
          </p:nvSpPr>
          <p:spPr>
            <a:xfrm>
              <a:off x="684360" y="3716280"/>
              <a:ext cx="77770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os alquinos que tienen el triple enlace en carbono terminal, presentan el hidrógeno del carbono  con un carácter ácido débil que se manifiesta bajo ciertas circunstancias especiales.( ácido según Bronst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– C    CH   +Ag (N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– C    C   Ag   +  N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54200" y="549432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54200" y="553716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46280" y="559620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48000" y="55501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148000" y="56008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48000" y="5489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52720" y="580392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ropilurode plata ( alquinuro de plata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08360" y="55371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0200" y="5565960"/>
              <a:ext cx="57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755640" y="32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3. Acidez de alqu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-270000" y="-16532280"/>
          <a:ext cx="182520" cy="41084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10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1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"/>
          <p:cNvSpPr/>
          <p:nvPr/>
        </p:nvSpPr>
        <p:spPr>
          <a:xfrm>
            <a:off x="-269280" y="245516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ozonolisis de alquinos"/>
          <p:cNvPicPr/>
          <p:nvPr/>
        </p:nvPicPr>
        <p:blipFill>
          <a:blip r:embed="rId1"/>
          <a:stretch/>
        </p:blipFill>
        <p:spPr>
          <a:xfrm>
            <a:off x="826920" y="1341360"/>
            <a:ext cx="67694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8" name=""/>
          <p:cNvGraphicFramePr/>
          <p:nvPr/>
        </p:nvGraphicFramePr>
        <p:xfrm>
          <a:off x="-270000" y="-16532280"/>
          <a:ext cx="182520" cy="41084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10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1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-269280" y="245516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-270000" y="-7724880"/>
          <a:ext cx="182520" cy="23834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38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-270000" y="-7724880"/>
          <a:ext cx="182520" cy="23834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38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-270000" y="-7724880"/>
          <a:ext cx="182520" cy="23834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38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825840" y="83664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zonólisis de Alqu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figuración electrónica del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1268280"/>
            <a:ext cx="273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1268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atómico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83560" y="1844640"/>
            <a:ext cx="186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24480" y="1362960"/>
            <a:ext cx="1240200" cy="1241280"/>
            <a:chOff x="4524480" y="1362960"/>
            <a:chExt cx="1240200" cy="1241280"/>
          </a:xfrm>
        </p:grpSpPr>
        <p:sp>
          <p:nvSpPr>
            <p:cNvPr id="61" name=""/>
            <p:cNvSpPr/>
            <p:nvPr/>
          </p:nvSpPr>
          <p:spPr>
            <a:xfrm rot="8995800">
              <a:off x="4693320" y="1707120"/>
              <a:ext cx="6818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7410600">
              <a:off x="4695480" y="1537200"/>
              <a:ext cx="897840" cy="8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846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846656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7410600">
            <a:off x="4636440" y="1221840"/>
            <a:ext cx="1390320" cy="12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8466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846656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356000" y="2852640"/>
            <a:ext cx="2160720" cy="865440"/>
            <a:chOff x="4356000" y="2852640"/>
            <a:chExt cx="2160720" cy="865440"/>
          </a:xfrm>
        </p:grpSpPr>
        <p:sp>
          <p:nvSpPr>
            <p:cNvPr id="65" name=""/>
            <p:cNvSpPr/>
            <p:nvPr/>
          </p:nvSpPr>
          <p:spPr>
            <a:xfrm>
              <a:off x="4356000" y="3068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0" i="1" lang="es-CL" sz="1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0" i="1" lang="es-CL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19640" y="2852640"/>
              <a:ext cx="216000" cy="8654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2320 h 865440"/>
                <a:gd name="textAreaBottom" fmla="*/ 84312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08720" y="2852640"/>
              <a:ext cx="1008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5%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75% 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00000" y="2421000"/>
            <a:ext cx="2592000" cy="2231640"/>
            <a:chOff x="900000" y="2421000"/>
            <a:chExt cx="2592000" cy="2231640"/>
          </a:xfrm>
        </p:grpSpPr>
        <p:graphicFrame>
          <p:nvGraphicFramePr>
            <p:cNvPr id="69" name=""/>
            <p:cNvGraphicFramePr/>
            <p:nvPr/>
          </p:nvGraphicFramePr>
          <p:xfrm>
            <a:off x="900000" y="2421000"/>
            <a:ext cx="2592000" cy="223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0000" y="2421000"/>
                      <a:ext cx="2592000" cy="22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900000" y="2517480"/>
              <a:ext cx="337320" cy="19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634840" y="357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6840" y="407664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94840" y="357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42480" y="29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4653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traéd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932360" y="4365720"/>
          <a:ext cx="2440080" cy="22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365720"/>
                    <a:ext cx="2440080" cy="22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859280" y="4392720"/>
            <a:ext cx="270000" cy="27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5800" y="4869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96000" y="52941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7440" y="6014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7080" y="53672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564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mencla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t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4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   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Carbono 1º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Carbono 2º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but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234936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234936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234936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4292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4292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4292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5200" y="4602240"/>
            <a:ext cx="21600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720" y="486900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alcanos - pentano"/>
          <p:cNvPicPr/>
          <p:nvPr/>
        </p:nvPicPr>
        <p:blipFill>
          <a:blip r:embed="rId1"/>
          <a:stretch/>
        </p:blipFill>
        <p:spPr>
          <a:xfrm>
            <a:off x="5435640" y="4724280"/>
            <a:ext cx="3192480" cy="1722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5805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ado de oxidación del carb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765000"/>
            <a:ext cx="759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los nombra con prefijos griegos que indican el número de átomo de carbono y el sufijo 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150840"/>
            <a:ext cx="14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Arial"/>
              </a:rPr>
              <a:t>2n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6524640"/>
            <a:ext cx="78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33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bre de los primeros  alcano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189000"/>
            <a:ext cx="8388360" cy="5832000"/>
            <a:chOff x="0" y="189000"/>
            <a:chExt cx="8388360" cy="5832000"/>
          </a:xfrm>
        </p:grpSpPr>
        <p:sp>
          <p:nvSpPr>
            <p:cNvPr id="103" name=""/>
            <p:cNvSpPr/>
            <p:nvPr/>
          </p:nvSpPr>
          <p:spPr>
            <a:xfrm>
              <a:off x="0" y="189000"/>
              <a:ext cx="6858000" cy="58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º de C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efijo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op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op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en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en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ep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ep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un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Un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do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Do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tri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Tri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tetradec            Tetra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enta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enta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rcRect l="61618" t="9688" r="3537" b="1393"/>
            <a:stretch/>
          </p:blipFill>
          <p:spPr>
            <a:xfrm>
              <a:off x="6261120" y="1473120"/>
              <a:ext cx="212724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651720" y="772920"/>
              <a:ext cx="159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m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alcanos pueden ser ramificados y formar Isómero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78184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adicales o grupos alquilo: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Arial"/>
              </a:rPr>
              <a:t>2n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7650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s alquilo o radicales alquilo se forman al remover un átomo de hidrógeno de un idrocarburo alifático o cíclico. Se nombran sustituyendo, en el nombre del alcano correspondiente, el sufijo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or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i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42920" y="2781360"/>
            <a:ext cx="6913440" cy="1387080"/>
            <a:chOff x="1042920" y="2781360"/>
            <a:chExt cx="6913440" cy="1387080"/>
          </a:xfrm>
        </p:grpSpPr>
        <p:grpSp>
          <p:nvGrpSpPr>
            <p:cNvPr id="111" name=""/>
            <p:cNvGrpSpPr/>
            <p:nvPr/>
          </p:nvGrpSpPr>
          <p:grpSpPr>
            <a:xfrm>
              <a:off x="1042920" y="2781360"/>
              <a:ext cx="6913440" cy="1387080"/>
              <a:chOff x="1042920" y="2781360"/>
              <a:chExt cx="6913440" cy="138708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5640" y="350208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1042920" y="2838600"/>
                <a:ext cx="1584360" cy="1326240"/>
                <a:chOff x="1042920" y="2838600"/>
                <a:chExt cx="1584360" cy="1326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042920" y="2838600"/>
                  <a:ext cx="1584360" cy="13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     C   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906560" y="3486240"/>
                  <a:ext cx="2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97120" y="312588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763640" y="363060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403280" y="3486240"/>
                  <a:ext cx="2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3419280" y="2781360"/>
                <a:ext cx="1584360" cy="13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     C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·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65560" y="3094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57640" y="363708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79640" y="35020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5940360" y="2781360"/>
                <a:ext cx="2016000" cy="1387080"/>
                <a:chOff x="5940360" y="2781360"/>
                <a:chExt cx="2016000" cy="13870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940360" y="2781360"/>
                  <a:ext cx="2016000" cy="13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     C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·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+   H ·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73680" y="309420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673680" y="359892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313320" y="3505320"/>
                  <a:ext cx="215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5075280" y="350208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2124000" y="2853000"/>
              <a:ext cx="28728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68360" y="1863720"/>
            <a:ext cx="4764240" cy="4805280"/>
            <a:chOff x="2268360" y="1863720"/>
            <a:chExt cx="4764240" cy="48052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2280960" y="4211640"/>
              <a:ext cx="4751640" cy="24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2268360" y="1863720"/>
              <a:ext cx="4726080" cy="23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352600" y="1906560"/>
              <a:ext cx="4608360" cy="4680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52600" y="2266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01:26:05Z</dcterms:created>
  <dc:creator>Patricia Varela</dc:creator>
  <dc:description/>
  <dc:language>en-US</dc:language>
  <cp:lastModifiedBy>Patricia Varela</cp:lastModifiedBy>
  <dcterms:modified xsi:type="dcterms:W3CDTF">2010-08-02T03:34:35Z</dcterms:modified>
  <cp:revision>93</cp:revision>
  <dc:subject/>
  <dc:title>HIDROCARBUROS</dc:title>
</cp:coreProperties>
</file>