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47D-F27B-4D0A-8AB1-93A5C5C4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087F-9FE2-471D-9479-FFF54FD8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9B5-1A44-4DBE-90F1-C01ED110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2FC-E0D0-4289-B829-3B0BBE60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F16-DF3C-4003-B739-7F661B23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B23-F22E-4707-A4D3-9003ACB5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6DC-29D4-4C0C-9187-B9408B87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B52-C6D4-436F-99CE-9AE60651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65C-C3E5-44B3-9A37-FF5E2371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04B-6552-4779-8841-CAD254A8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ACC-C8C6-4237-B616-75F748B2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A13-A3E1-4FFD-A764-CCF6EFCD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797E-B76C-411C-9B62-89D4F05CE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2348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-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-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3366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Halogenuros de alqu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2349360"/>
            <a:ext cx="40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 = grupo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 = Cl, Br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00" y="3873600"/>
            <a:ext cx="5185080" cy="2390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9079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 compuestos orgánicos halogenados en que uno o más hidrógenos han sido sustituído9s por halóg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7773840" cy="1863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0" t="2106" r="0" b="0"/>
          <a:stretch/>
        </p:blipFill>
        <p:spPr>
          <a:xfrm>
            <a:off x="1763640" y="2492280"/>
            <a:ext cx="4176720" cy="4100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anismo de la reacción de sustitució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561440" cy="2503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43280" y="4292640"/>
            <a:ext cx="30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3645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rden de reactividad de las reacciones SN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4221000"/>
            <a:ext cx="302400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3500280"/>
            <a:ext cx="73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-61560"/>
            <a:ext cx="9144000" cy="945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cciones de Sustitución Nucleofí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canismo S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lum contrast="12000"/>
          </a:blip>
          <a:srcRect l="0" t="0" r="59375" b="46270"/>
          <a:stretch/>
        </p:blipFill>
        <p:spPr>
          <a:xfrm>
            <a:off x="539640" y="1125360"/>
            <a:ext cx="3673440" cy="1882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211640" y="184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99736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acción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ocurre cuando el sustrato se disocia de manera espontánea para formar un carbocatión que es el paso limitante, seguido del ataque del nucleófilo (rápi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8388360" cy="1846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9285" b="49338"/>
          <a:stretch/>
        </p:blipFill>
        <p:spPr>
          <a:xfrm>
            <a:off x="863640" y="3284640"/>
            <a:ext cx="8280360" cy="2233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tapas de la Sustitución Nucleofílica: mecanismo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5229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cohol terbutí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4619520"/>
            <a:ext cx="21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05480" y="4584600"/>
            <a:ext cx="21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31040" y="3898800"/>
            <a:ext cx="21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rcRect l="0" t="0" r="9285" b="49338"/>
          <a:stretch/>
        </p:blipFill>
        <p:spPr>
          <a:xfrm>
            <a:off x="863640" y="3317760"/>
            <a:ext cx="8280360" cy="2233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843280" y="4653000"/>
            <a:ext cx="21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63640" y="3357720"/>
            <a:ext cx="8280360" cy="2233440"/>
            <a:chOff x="863640" y="3357720"/>
            <a:chExt cx="8280360" cy="2233440"/>
          </a:xfrm>
        </p:grpSpPr>
        <p:pic>
          <p:nvPicPr>
            <p:cNvPr id="182" name="" descr=""/>
            <p:cNvPicPr/>
            <p:nvPr/>
          </p:nvPicPr>
          <p:blipFill>
            <a:blip r:embed="rId4"/>
            <a:srcRect l="0" t="0" r="9285" b="49338"/>
            <a:stretch/>
          </p:blipFill>
          <p:spPr>
            <a:xfrm>
              <a:off x="863640" y="3357720"/>
              <a:ext cx="828036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805120" y="4729320"/>
              <a:ext cx="2160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72360" y="4640400"/>
              <a:ext cx="2156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43640" y="3952800"/>
              <a:ext cx="216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3573360"/>
            <a:ext cx="755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o se puede observar, el orden de reactividad de los sustratos, en un proceso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es el mismo que el orden de estabilidad de los carbocationes. Esto se debe a que el paso que determina la velocidad de un proceso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el paso que genera el carbocatió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561440" cy="2566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206064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206064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6000" y="203832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202248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400720" cy="2903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48420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halogenuros de alquilo más sustituidos son más reactivos en la reacción SN1 que los menos sustituidos. A continuación, se indican las velocidades relativas para la reacción de sustitución, en condiciones SN1, de una serie de bromuros de alquilo para la rea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3640" y="522936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ectos de la estructura del sustrato en la reacción SN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129440" cy="1231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63640" y="3429000"/>
            <a:ext cx="4680000" cy="3138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979640" y="26362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perfil de energía de una reacción S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8000"/>
            <a:ext cx="9144000" cy="4406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anismo general de un proceso S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ción de eli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58920" y="1773360"/>
            <a:ext cx="4392720" cy="1015920"/>
            <a:chOff x="1258920" y="1773360"/>
            <a:chExt cx="4392720" cy="1015920"/>
          </a:xfrm>
        </p:grpSpPr>
        <p:sp>
          <p:nvSpPr>
            <p:cNvPr id="202" name=""/>
            <p:cNvSpPr/>
            <p:nvPr/>
          </p:nvSpPr>
          <p:spPr>
            <a:xfrm>
              <a:off x="1258920" y="1773360"/>
              <a:ext cx="4392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    C                    C   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   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32000" y="198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76320" y="198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11280" y="198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03640" y="20098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56000" y="2060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21040" y="20192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92360" y="21747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36680" y="220680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86240" y="19782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71640" y="1989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60880" y="2205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99160" y="22255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86728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:B +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332000" y="2708280"/>
            <a:ext cx="1655640" cy="893160"/>
            <a:chOff x="1332000" y="2708280"/>
            <a:chExt cx="1655640" cy="893160"/>
          </a:xfrm>
        </p:grpSpPr>
        <p:sp>
          <p:nvSpPr>
            <p:cNvPr id="217" name=""/>
            <p:cNvSpPr/>
            <p:nvPr/>
          </p:nvSpPr>
          <p:spPr>
            <a:xfrm>
              <a:off x="1908000" y="31417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32000" y="2708280"/>
              <a:ext cx="86328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547640" y="3860640"/>
            <a:ext cx="6120000" cy="1066320"/>
            <a:chOff x="1547640" y="3860640"/>
            <a:chExt cx="6120000" cy="1066320"/>
          </a:xfrm>
        </p:grpSpPr>
        <p:sp>
          <p:nvSpPr>
            <p:cNvPr id="220" name=""/>
            <p:cNvSpPr/>
            <p:nvPr/>
          </p:nvSpPr>
          <p:spPr>
            <a:xfrm>
              <a:off x="1547640" y="3860640"/>
              <a:ext cx="61200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    CH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24360" y="40561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34080" y="41688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43280" y="4221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1280" y="4076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692360" y="4869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cloro-bu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4724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bu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57340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ciario &gt; Secundario &gt; primario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8820000" cy="5205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63640" y="1628640"/>
            <a:ext cx="5975280" cy="1879560"/>
            <a:chOff x="1763640" y="1628640"/>
            <a:chExt cx="5975280" cy="1879560"/>
          </a:xfrm>
        </p:grpSpPr>
        <p:sp>
          <p:nvSpPr>
            <p:cNvPr id="49" name=""/>
            <p:cNvSpPr/>
            <p:nvPr/>
          </p:nvSpPr>
          <p:spPr>
            <a:xfrm>
              <a:off x="3780000" y="1628640"/>
              <a:ext cx="151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   C 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67280" y="1628640"/>
              <a:ext cx="187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   C  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35280" y="1699920"/>
              <a:ext cx="151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   C 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6000" y="202212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56000" y="24206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78400" y="2339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00720" y="19634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75400" y="19508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6521040" y="2347560"/>
              <a:ext cx="6660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95640" y="227628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27280" y="23144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27400" y="22381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46440" y="22255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94520" y="222552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61080" y="22302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63640" y="306828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rim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1280" y="306828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Secund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51640" y="3139920"/>
              <a:ext cx="17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Terci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692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Se nombran citando en primer lugar el halógeno seguido del nombre del hidrocarburo. Si es necesario, se indica la posición que ocupa el halógeno en la cadena,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67440" y="2276640"/>
            <a:ext cx="2788560" cy="1571040"/>
            <a:chOff x="1567440" y="2276640"/>
            <a:chExt cx="2788560" cy="1571040"/>
          </a:xfrm>
        </p:grpSpPr>
        <p:sp>
          <p:nvSpPr>
            <p:cNvPr id="70" name=""/>
            <p:cNvSpPr/>
            <p:nvPr/>
          </p:nvSpPr>
          <p:spPr>
            <a:xfrm>
              <a:off x="1567440" y="2276640"/>
              <a:ext cx="2268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000" y="277956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Bromuro de n-buti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63640" y="3139920"/>
              <a:ext cx="19447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1-bromobut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s-CL" sz="1600" spc="-1" strike="noStrike" baseline="30000">
                  <a:solidFill>
                    <a:srgbClr val="ff0000"/>
                  </a:solidFill>
                  <a:latin typeface="Arial"/>
                </a:rPr>
                <a:t>º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003640" y="2276640"/>
            <a:ext cx="2449440" cy="2076120"/>
            <a:chOff x="5003640" y="2276640"/>
            <a:chExt cx="2449440" cy="2076120"/>
          </a:xfrm>
        </p:grpSpPr>
        <p:grpSp>
          <p:nvGrpSpPr>
            <p:cNvPr id="74" name=""/>
            <p:cNvGrpSpPr/>
            <p:nvPr/>
          </p:nvGrpSpPr>
          <p:grpSpPr>
            <a:xfrm>
              <a:off x="5362560" y="2276640"/>
              <a:ext cx="1584360" cy="1134000"/>
              <a:chOff x="5362560" y="2276640"/>
              <a:chExt cx="1584360" cy="1134000"/>
            </a:xfrm>
          </p:grpSpPr>
          <p:sp>
            <p:nvSpPr>
              <p:cNvPr id="75" name=""/>
              <p:cNvSpPr/>
              <p:nvPr/>
            </p:nvSpPr>
            <p:spPr>
              <a:xfrm>
                <a:off x="5362560" y="2276640"/>
                <a:ext cx="1584360" cy="113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CL" sz="20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H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          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12000" y="2636640"/>
                <a:ext cx="144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003640" y="321156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loruro de isopropi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46560" y="3645000"/>
              <a:ext cx="2016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-cloroprop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s-CL" sz="1600" spc="-1" strike="noStrike" baseline="30000">
                  <a:solidFill>
                    <a:srgbClr val="ff0000"/>
                  </a:solidFill>
                  <a:latin typeface="Arial"/>
                </a:rPr>
                <a:t>º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843280" y="4221000"/>
            <a:ext cx="2535120" cy="2121120"/>
            <a:chOff x="2843280" y="4221000"/>
            <a:chExt cx="2535120" cy="2121120"/>
          </a:xfrm>
        </p:grpSpPr>
        <p:sp>
          <p:nvSpPr>
            <p:cNvPr id="80" name=""/>
            <p:cNvSpPr/>
            <p:nvPr/>
          </p:nvSpPr>
          <p:spPr>
            <a:xfrm>
              <a:off x="2843280" y="5518080"/>
              <a:ext cx="2535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loruro de isobuti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1-cloro-2-metilprop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s-CL" sz="1600" spc="-1" strike="noStrike" baseline="30000">
                  <a:solidFill>
                    <a:srgbClr val="ff0000"/>
                  </a:solidFill>
                  <a:latin typeface="Arial"/>
                </a:rPr>
                <a:t>º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3058920" y="4221000"/>
              <a:ext cx="1944360" cy="1454400"/>
              <a:chOff x="3058920" y="4221000"/>
              <a:chExt cx="1944360" cy="1454400"/>
            </a:xfrm>
          </p:grpSpPr>
          <p:sp>
            <p:nvSpPr>
              <p:cNvPr id="82" name=""/>
              <p:cNvSpPr/>
              <p:nvPr/>
            </p:nvSpPr>
            <p:spPr>
              <a:xfrm>
                <a:off x="3058920" y="4221000"/>
                <a:ext cx="1944360" cy="14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CL" sz="20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H 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779280" y="486864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5580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Función haluros de alquilo"/>
          <p:cNvPicPr/>
          <p:nvPr/>
        </p:nvPicPr>
        <p:blipFill>
          <a:blip r:embed="rId1"/>
          <a:srcRect l="3780" t="6395" r="4789" b="4290"/>
          <a:stretch/>
        </p:blipFill>
        <p:spPr>
          <a:xfrm>
            <a:off x="2627280" y="620640"/>
            <a:ext cx="3457440" cy="201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Función haluros de alquilo"/>
          <p:cNvPicPr/>
          <p:nvPr/>
        </p:nvPicPr>
        <p:blipFill>
          <a:blip r:embed="rId2"/>
          <a:srcRect l="3818" t="25530" r="37157" b="20252"/>
          <a:stretch/>
        </p:blipFill>
        <p:spPr>
          <a:xfrm>
            <a:off x="1332000" y="2997360"/>
            <a:ext cx="2232000" cy="122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Función haluros de alquilo"/>
          <p:cNvPicPr/>
          <p:nvPr/>
        </p:nvPicPr>
        <p:blipFill>
          <a:blip r:embed="rId3"/>
          <a:srcRect l="8424" t="9593" r="5105" b="9067"/>
          <a:stretch/>
        </p:blipFill>
        <p:spPr>
          <a:xfrm>
            <a:off x="5508720" y="2781360"/>
            <a:ext cx="223200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Función haluros de alquilo"/>
          <p:cNvPicPr/>
          <p:nvPr/>
        </p:nvPicPr>
        <p:blipFill>
          <a:blip r:embed="rId4"/>
          <a:srcRect l="3818" t="5486" r="2894" b="5199"/>
          <a:stretch/>
        </p:blipFill>
        <p:spPr>
          <a:xfrm>
            <a:off x="2627280" y="4221000"/>
            <a:ext cx="352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71640" y="620640"/>
            <a:ext cx="252072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C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1484280"/>
            <a:ext cx="0" cy="11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1341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1341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oduro de t-pent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-Iodo-2-metilbu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s-CL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0" y="692280"/>
            <a:ext cx="4572000" cy="1477440"/>
            <a:chOff x="4572000" y="692280"/>
            <a:chExt cx="4572000" cy="1477440"/>
          </a:xfrm>
        </p:grpSpPr>
        <p:sp>
          <p:nvSpPr>
            <p:cNvPr id="96" name=""/>
            <p:cNvSpPr/>
            <p:nvPr/>
          </p:nvSpPr>
          <p:spPr>
            <a:xfrm>
              <a:off x="4572000" y="692280"/>
              <a:ext cx="4572000" cy="14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    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ff0000"/>
                  </a:solidFill>
                  <a:latin typeface="Arial"/>
                </a:rPr>
                <a:t>C 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53080" y="10252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65680" y="15350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06920" y="10252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643280" y="2205000"/>
            <a:ext cx="3024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-Bromo-2,4-dimetilhex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s-CL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3213000"/>
            <a:ext cx="309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371628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C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lorofor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9000" y="3643200"/>
            <a:ext cx="344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etracloruro de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1557360"/>
            <a:ext cx="7200720" cy="374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2133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2276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           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7280" y="24670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20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306864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unto de ebullición mayor al de los al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3080" y="458136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olubles en compuestos orgánicos ap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-108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stitución nuclefílica de los co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2492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s-C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s-CL" sz="24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+        R-X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R-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 +         X</a:t>
            </a:r>
            <a:r>
              <a:rPr b="1" lang="es-C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17800" y="278136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141720"/>
            <a:ext cx="7920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C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+         R-X                           R-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 +      H-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s-CL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-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-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 NH</a:t>
            </a:r>
            <a:r>
              <a:rPr b="1" lang="es-C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s-CL" sz="1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H-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CN</a:t>
            </a:r>
            <a:r>
              <a:rPr b="1" lang="es-CL" sz="2400" spc="-1" strike="noStrike" baseline="30000">
                <a:solidFill>
                  <a:srgbClr val="000000"/>
                </a:solidFill>
                <a:latin typeface="Arial"/>
              </a:rPr>
              <a:t>-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+        R-X                            R-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C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+       X</a:t>
            </a:r>
            <a:r>
              <a:rPr b="1" lang="es-C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4005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3360" y="450864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349360"/>
            <a:ext cx="8136000" cy="266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197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ustitución del halógeno en los haluros de alquilo por otro grupo funcional es una de las reacciones más importantes en Química Orgánica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1080" y="3139920"/>
            <a:ext cx="23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ando se trata bromuro de metilo con hidróxido de sodio en un disolvente capaz  de disolver ambos reactivos, se obtienen metanol y bromuro de sodio. Esta es  una reacción de </a:t>
            </a: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ustitució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se sustituye el grupo OH por Br en el compuesto orig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90792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:X  +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Z: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 R :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+ 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205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Z: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gente nucleofií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2276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sa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73080" y="3933720"/>
            <a:ext cx="6912000" cy="871560"/>
            <a:chOff x="973080" y="3933720"/>
            <a:chExt cx="6912000" cy="871560"/>
          </a:xfrm>
        </p:grpSpPr>
        <p:sp>
          <p:nvSpPr>
            <p:cNvPr id="128" name=""/>
            <p:cNvSpPr/>
            <p:nvPr/>
          </p:nvSpPr>
          <p:spPr>
            <a:xfrm>
              <a:off x="1260360" y="3933720"/>
              <a:ext cx="662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r   +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OH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+    Br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3080" y="4149720"/>
              <a:ext cx="115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73080" y="443700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muro de met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65800" y="44370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348000" y="119700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58920" y="907920"/>
            <a:ext cx="6265800" cy="581400"/>
            <a:chOff x="1258920" y="907920"/>
            <a:chExt cx="6265800" cy="581400"/>
          </a:xfrm>
        </p:grpSpPr>
        <p:sp>
          <p:nvSpPr>
            <p:cNvPr id="134" name=""/>
            <p:cNvSpPr/>
            <p:nvPr/>
          </p:nvSpPr>
          <p:spPr>
            <a:xfrm>
              <a:off x="1258920" y="907920"/>
              <a:ext cx="626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R:X  + 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Z: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                   R : 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Z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    + X</a:t>
              </a:r>
              <a:r>
                <a:rPr b="1" lang="es-ES" sz="3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48000" y="1197000"/>
              <a:ext cx="15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stituciòn nuclefílica de los compuestos halog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0"/>
            <a:ext cx="8893080" cy="5205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stitución nucleofílica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39640" y="549360"/>
            <a:ext cx="7488360" cy="1944720"/>
            <a:chOff x="539640" y="549360"/>
            <a:chExt cx="7488360" cy="19447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rcRect l="9436" t="8693" r="12079" b="65221"/>
            <a:stretch/>
          </p:blipFill>
          <p:spPr>
            <a:xfrm>
              <a:off x="539640" y="549360"/>
              <a:ext cx="748836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92280" y="105264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lang="es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lang="es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2"/>
          <a:srcRect l="4526" t="34761" r="4158" b="36253"/>
          <a:stretch/>
        </p:blipFill>
        <p:spPr>
          <a:xfrm>
            <a:off x="2914560" y="2781360"/>
            <a:ext cx="6229440" cy="1544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443700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nucleófilo entrante ataca al halogenuro desde una posición a 180º respecto al grupo saliente, lo que da por resultado una inversión de la configuración(lento) en el átomo de carbono. La reacción tiene cinética de segundo orden, y es fuertemente inhibida conforme aumenta el volumen estérico de los reactivos. Por tanto, las reacciones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ven favorecidas sólo para sustratos primarios y secund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8360" y="2492280"/>
            <a:ext cx="8675640" cy="1833480"/>
            <a:chOff x="468360" y="2492280"/>
            <a:chExt cx="8675640" cy="1833480"/>
          </a:xfrm>
        </p:grpSpPr>
        <p:pic>
          <p:nvPicPr>
            <p:cNvPr id="145" name="" descr=""/>
            <p:cNvPicPr/>
            <p:nvPr/>
          </p:nvPicPr>
          <p:blipFill>
            <a:blip r:embed="rId4"/>
            <a:srcRect l="4526" t="34761" r="4158" b="36253"/>
            <a:stretch/>
          </p:blipFill>
          <p:spPr>
            <a:xfrm>
              <a:off x="2914560" y="2781360"/>
              <a:ext cx="6229440" cy="15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rcRect l="28393" t="69929" r="36865" b="0"/>
            <a:stretch/>
          </p:blipFill>
          <p:spPr>
            <a:xfrm>
              <a:off x="468360" y="2492280"/>
              <a:ext cx="2268360" cy="153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" descr=""/>
          <p:cNvPicPr/>
          <p:nvPr/>
        </p:nvPicPr>
        <p:blipFill>
          <a:blip r:embed="rId6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68360" y="2492280"/>
            <a:ext cx="8675640" cy="1833480"/>
            <a:chOff x="468360" y="2492280"/>
            <a:chExt cx="8675640" cy="1833480"/>
          </a:xfrm>
        </p:grpSpPr>
        <p:pic>
          <p:nvPicPr>
            <p:cNvPr id="149" name="" descr=""/>
            <p:cNvPicPr/>
            <p:nvPr/>
          </p:nvPicPr>
          <p:blipFill>
            <a:blip r:embed="rId7"/>
            <a:srcRect l="4526" t="34761" r="4158" b="36253"/>
            <a:stretch/>
          </p:blipFill>
          <p:spPr>
            <a:xfrm>
              <a:off x="2914560" y="2781360"/>
              <a:ext cx="6229440" cy="15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8"/>
            <a:srcRect l="28393" t="69929" r="36865" b="0"/>
            <a:stretch/>
          </p:blipFill>
          <p:spPr>
            <a:xfrm>
              <a:off x="468360" y="2492280"/>
              <a:ext cx="2268360" cy="153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" descr=""/>
          <p:cNvPicPr/>
          <p:nvPr/>
        </p:nvPicPr>
        <p:blipFill>
          <a:blip r:embed="rId9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468360" y="2492280"/>
            <a:ext cx="8675640" cy="1833480"/>
            <a:chOff x="468360" y="2492280"/>
            <a:chExt cx="8675640" cy="1833480"/>
          </a:xfrm>
        </p:grpSpPr>
        <p:pic>
          <p:nvPicPr>
            <p:cNvPr id="153" name="" descr=""/>
            <p:cNvPicPr/>
            <p:nvPr/>
          </p:nvPicPr>
          <p:blipFill>
            <a:blip r:embed="rId10"/>
            <a:srcRect l="4526" t="34761" r="4158" b="36253"/>
            <a:stretch/>
          </p:blipFill>
          <p:spPr>
            <a:xfrm>
              <a:off x="2914560" y="2781360"/>
              <a:ext cx="6229440" cy="15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1"/>
            <a:srcRect l="28393" t="69929" r="36865" b="0"/>
            <a:stretch/>
          </p:blipFill>
          <p:spPr>
            <a:xfrm>
              <a:off x="468360" y="2492280"/>
              <a:ext cx="2268360" cy="153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" descr=""/>
          <p:cNvPicPr/>
          <p:nvPr/>
        </p:nvPicPr>
        <p:blipFill>
          <a:blip r:embed="rId12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4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rcRect l="4526" t="34761" r="4158" b="36253"/>
          <a:stretch/>
        </p:blipFill>
        <p:spPr>
          <a:xfrm>
            <a:off x="2914560" y="2781360"/>
            <a:ext cx="6229440" cy="154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6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00:18:22Z</dcterms:created>
  <dc:creator>Patricia Varela</dc:creator>
  <dc:description/>
  <dc:language>en-US</dc:language>
  <cp:lastModifiedBy>Facultad de Medicina</cp:lastModifiedBy>
  <dcterms:modified xsi:type="dcterms:W3CDTF">2010-08-06T17:56:17Z</dcterms:modified>
  <cp:revision>23</cp:revision>
  <dc:subject/>
  <dc:title>Diapositiva 1</dc:title>
</cp:coreProperties>
</file>