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810-61CE-4B14-93BF-49864F8B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3AB-E240-4EEF-83C4-B2EA27C8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FCF-1CBC-4667-BEB6-B68AC329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255-AC6B-4069-A840-A0A7E7F2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7DF-DC87-426B-93CD-50D581D0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17A-0B63-4499-A944-7EFFAEAE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CC3-BB05-40B8-AE03-12581694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325-2A07-4BAC-B338-A66B6F39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7DF-656C-48D7-8EE8-CF4963CB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198-6B40-4CEB-9CD4-C6603808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653-93B2-400E-9349-22B107C1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2DB-B5AF-4526-A6F9-12F35D05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A767-F7F2-4ABE-8664-5218532722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ntent.onlinejacc.org/content/vol50/issue20/images/large/07026599.gr1.jpe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GAMIENTO Y MAPAS DE 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SO DE GENETICA TECNOLOGÍA MEDIC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 DR. RAUL GODOY – HERRERA, PROGRAMA DE GENETICA, FACULTAD DE MEDIC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 DOS LOCI HETEROCIGOTOS CADA UNO: A,a y B,b. HAY CUATRO POSIBLES TIPOS DE GAME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b aB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 parentales o no recombinantes (en roj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 recombinantes (en neg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fracción de recombinación, es la proporción en que se rompe el ligamiento en la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47800" y="1609560"/>
            <a:ext cx="384840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197000"/>
            <a:ext cx="6400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frecuencia de recombinación varía entre diferentes genes y esto se utliza para consreuir mapas genéticos. Las presun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los genes están dispuestos linealmente en los cromos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la frecuencia de recombinación depende de la distancia física entre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entonces los genes se pueden disponer en línea recta a distancias que son proporcionales a la fracción de recombinació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es genes (loci): YELLOW, WHITE Y MINI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-W: 1.3 %; W-MI: 32.6 %; Y-MI: 33.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ORDEN DE LOS GENES SE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- W  -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ADITIVIDAD NO SE MANTIENE CUANDO LAS DISTANCIAS, ES DECIR CUANDO LAS FRACCIONES DE RECOMBINACION, SON MAYORES DEL 10 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DESVIACIONES DE LA ADITIVIDAD SE DEBEN A LOS DOBLES ENTRECRUZAMI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DISTANCIA ENTRE GENES SE DEFINIÓ MAS PRECISAMENTE POR HALDANE (191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DISTANCIA ENTRE DOS GENES CORRESPONDE AL PROMEDIO DE RECOMBINACIONES ENTRE DOS LOCI EN LA MEI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UNIDAD DE DISTANCIA ES EL CENTIMORGAN (cM). Dos loci están a 1cM si en promedio hay una recombinación entre ellos por cada 100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especie humana los primeros genes que se localizaron fueron los correspondientes a hemofilia y daltonismo, en el cromosoma X (Bell y Haldane, 193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UPOS DE LIGAMIENTO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 AUTOSOMAS, 1 PARA 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OTRO PARA 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62280" y="1619280"/>
            <a:ext cx="5419440" cy="361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476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jo mayor de histocompatibilidad. CROMOSOMA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1154160"/>
            <a:ext cx="56880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PAS GENE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084400"/>
            <a:ext cx="640080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MAPAS CROMOSÓMICOS SON UNA MANERA NATURAL DE ORGANIZAR DATOS SOBRE LOS CROMOS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 INFORMACIÓN ESTÁ REFERID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ECER LA POSICIO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 LOS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PUNTOS DE ROTURA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UBICACIÓN DE CENTROMEROS Y TELO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POS DE MAPAS GENE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- MAPAS OBTENIDOS A TRAVES DE FRECUENCIAS DE ROTURA DEL LIGAMIENTO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- MAPAS CITOGENE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- MAPAS FI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NANDO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RAVES DE ELEMENTOS TRANSPONI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MAPAS FISICOS, CORRESPONDEN A MAPAS DE GENES EN QUE ESTAS ENTIDADES SON OBJETOS CONCRETOS Y LAS DISTANCIAS SON FÍSICAS Y SE EXPRESAN EN MILES O MILLONES DE PARES DE B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MAPAS FISICOS INCLUYEN TAMBIEN FRAGMENTOS DE RESTRICCION Y FRAGMENTOS CLONADOS DE CROMOS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AS GENE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MAPAS GENETICOS SON DISTINTOS A OTROS MAPAS PORQU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- LAS DISTANCIAS ENTRE GENES SE EXPRESAN COMO FRECUENCIAS DE RECOMB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- LA TASA DE RECOMBINACIÓN VARIA A LO LARGO DELCROMOSOMA. POR LO TANTO LA DISTANCIA ENTRE GENES NO ES PROPORCIONAL A UNA DISTAMCIA FI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Figure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125360"/>
            <a:ext cx="475956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3640" y="1050840"/>
            <a:ext cx="568800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14:32:01Z</dcterms:created>
  <dc:creator>Raul Godoy</dc:creator>
  <dc:description/>
  <dc:language>en-US</dc:language>
  <cp:lastModifiedBy>Fac. de Medicina</cp:lastModifiedBy>
  <dcterms:modified xsi:type="dcterms:W3CDTF">2010-09-06T15:54:13Z</dcterms:modified>
  <cp:revision>28</cp:revision>
  <dc:subject/>
  <dc:title>Diapositiva 1</dc:title>
</cp:coreProperties>
</file>