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521-3A86-4C73-887B-A738AE8D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28B-CA31-4CF9-843A-D1E40FD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B56-2C98-4791-BB63-2F71F396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A08-09DA-4A38-B535-3DF3F4E2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C66-5A57-478E-9DF2-E0236F4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263-1EA3-42C3-8EAB-8C10A6A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1FC-57DC-4996-BDAA-9D5ABF85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BBC-0658-4752-9262-B5BF9226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0A7-2BA4-4191-93A4-E936887D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2D8-DE87-49B0-BDDE-B2B9165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9ED-BF9E-4566-9C21-0BE3044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B96-634C-4723-A949-06A9D6D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48E2-892D-4FC3-8948-30EB75F62B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ntent.onlinejacc.org/content/vol50/issue20/images/large/07026599.gr1.jpe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GAMIENTO Y MAPAS D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SO DE GENETICA TECNOLOGÍA MEDIC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 DR. RAUL GODOY – HERRERA, PROGRAMA DE GENETICA, FACULTAD DE MEDIC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DOS LOCI HETEROCIGOTOS CADA UNO: A,a y B,b. HAY CUATRO POSIBLES TIPOS DE GAM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b aB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parentales o no recombinantes (en ro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recombinantes (en neg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racción de recombinación, es la proporción en que se rompe el ligamiento en la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47800" y="1609560"/>
            <a:ext cx="384840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frecuencia de recombinación varía entre diferentes genes y esto se utliza para consreuir mapas genéticos. Las pres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los genes están dispuestos linealmente en los 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a frecuencia de recombinación depende de la distancia física entr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entonces los genes se pueden disponer en línea recta a distancias que son proporcionales a la fracción de recombinac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s genes (loci): YELLOW, WHITE Y MINI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-W: 1.3 %; W-MI: 32.6 %; Y-MI: 33.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ORDEN DE LOS GENES SE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- W  -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ADITIVIDAD NO SE MANTIENE CUANDO LAS DISTANCIAS, ES DECIR CUANDO LAS FRACCIONES DE RECOMBINACION, SON MAYORES DEL 10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DESVIACIONES DE LA ADITIVIDAD SE DEBEN A LOS DOBLES ENTRECRUZA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GENES SE DEFINIÓ MAS PRECISAMENTE POR HALDANE (19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DOS GENES CORRESPONDE AL PROMEDIO DE RECOMBINACIONES ENTRE DOS LOCI EN LA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NIDAD DE DISTANCIA ES EL CENTIMORGAN (cM). Dos loci están a 1cM si en promedio hay una recombinación entre ellos por cada 100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especie humana los primeros genes que se localizaron fueron los correspondientes a hemofilia y daltonismo, en el cromosoma X (Bell y Haldane, 193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UPOS DE LIGAMIENTO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AUTOSOMAS, 1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OTRO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62280" y="1619280"/>
            <a:ext cx="5419440" cy="361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76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jo mayor de histocompatibilidad. CROMOSOMA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154160"/>
            <a:ext cx="5688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084400"/>
            <a:ext cx="64008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PAS CROMOSÓMICOS SON UNA MANERA NATURAL DE ORGANIZAR DATOS SOBRE LOS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INFORMACIÓN ESTÁ REFERI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ECER LA POSICIO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LOS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PUNTOS DE ROTUR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UBICACIÓN DE CENTROMEROS Y TELO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POS DE MAPAS GENE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- MAPAS OBTENIDOS A TRAVES DE FRECUENCIAS DE ROTURA DEL LIGAMIENTO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- MAPAS CITOGENE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- MAPAS FI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NANDO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VES DE ELEMENTOS TRANSPONI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, CORRESPONDEN A MAPAS DE GENES EN QUE ESTAS ENTIDADES SON OBJETOS CONCRETOS Y LAS DISTANCIAS SON FÍSICAS Y SE EXPRESAN EN MILES O MILLONES DE PARES DE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 INCLUYEN TAMBIEN FRAGMENTOS DE RESTRICCION Y FRAGMENTOS CLONADOS DE CROMO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GENETICOS SON DISTINTOS A OTROS MAPAS POR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- LAS DISTANCIAS ENTRE GENES SE EXPRESAN COMO FRECUENCIAS DE RECOMB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- LA TASA DE RECOMBINACIÓN VARIA A LO LARGO DELCROMOSOMA. POR LO TANTO LA DISTANCIA ENTRE GENES NO ES PROPORCIONAL A UNA DISTAMCIA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igur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125360"/>
            <a:ext cx="4759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1050840"/>
            <a:ext cx="568800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4:32:01Z</dcterms:created>
  <dc:creator>Raul Godoy</dc:creator>
  <dc:description/>
  <dc:language>en-US</dc:language>
  <cp:lastModifiedBy>Fac. de Medicina</cp:lastModifiedBy>
  <dcterms:modified xsi:type="dcterms:W3CDTF">2010-09-06T15:54:13Z</dcterms:modified>
  <cp:revision>28</cp:revision>
  <dc:subject/>
  <dc:title>Diapositiva 1</dc:title>
</cp:coreProperties>
</file>