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1EEE8-0451-49BA-9A4E-CBF72E4B4A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0EC99-9F10-4402-B943-79238168FB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38F6F-1B8B-43F6-B32D-6BE273D5DE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AFFAD-3A84-4EEB-B563-5670395AA0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432E7D-1B69-4D16-BDD5-9CFC7BB01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4DBE65-4D70-444B-90C0-5057312E4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BDFD26-39AB-4D09-AE74-7F22C51AA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435191-D7EC-4C74-A5CC-55133FF8E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4027B1-58C9-48FE-8CEC-5000ACB8F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8A239B-9DB9-4763-8C8D-5EF4A899A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FCBC68-79D7-47BA-B7EC-84449C46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8C8C8-4553-48E5-87F9-84E2539BAB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BBD82E-93DA-408C-A1FF-70DB6FBB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0B65AC-8FF9-4C9A-929E-70265242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8E5E08-5AF1-4309-9D5B-C19ECBAA2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14C78D-5EDD-4118-A8A8-F2AC35725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280742-C31B-4DC1-9CDC-D8FC4491C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4ABB1-4E66-4FB6-8B8E-F3C0162290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51C84-90A7-46C7-BFBA-D726036511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531A4-1EC7-4939-97B7-965539CA0A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0063C-C280-469D-945C-4B3CD611B1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73A60-E5AB-4797-8ACE-F61BD04E87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6FFFF-2E31-44CB-8B66-E1E626C6EB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13F20-1CDA-45D8-A017-671518322B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17B21-9704-4457-92F6-8028A4DABE3D}" type="slidenum"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31258-C10D-4257-8920-02A8341B6C90}" type="slidenum"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office.microsoft.com/en-us/access/HA102388991033.aspx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03399"/>
                </a:solidFill>
                <a:latin typeface="Arial"/>
              </a:rPr>
              <a:t>Microsoft Access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urso Computación-Tecnología Méd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2016000" cy="1533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647240" y="6308640"/>
            <a:ext cx="420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eferencia: Apuntes Universidad de Navar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Ejempl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4038480"/>
            <a:ext cx="822960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ELICULA(Id, Titulo, Productora, Año, Tip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CTOR(Id, Nombre, Apellido, FechaNa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CTUA(Actor, Pelicul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TIPO(Id, Nombr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394812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Dominios (Tipos de Datos)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Text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Información alfanuméricos de hasta 255 caracte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Memo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Información alfanuméricos de gran tamañ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Numeros enteros y re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Date/Time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Fecha y ho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Currency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Formatos monet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AutoNumber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Un número en secuencia introducido automáticamente por Ac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Yes/No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Valores bin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OLE Object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Un objeto OLE (imagen, sonido, hoja de cálculo </a:t>
            </a: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, etc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Hyperlink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Guardan direcciones de páginas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Relacionar Tabl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Database Tools / Relationshi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Relationships/Edit Relationship/Create N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legir qué tablas y columnas relaciona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360" y="3500280"/>
            <a:ext cx="3816360" cy="23655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643280" y="3429000"/>
            <a:ext cx="3384720" cy="24843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4"/>
          <p:cNvSpPr/>
          <p:nvPr/>
        </p:nvSpPr>
        <p:spPr>
          <a:xfrm>
            <a:off x="971640" y="6237360"/>
            <a:ext cx="7181640" cy="36828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Access 2003: Tools/Relation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Ingresar info a la BD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l final de la tab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845820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Consult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ara “preguntarle” algo a la base de dat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reate/Query Wizard/Simple Query Wiz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legir info que quiero en la respues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268360" y="2924280"/>
            <a:ext cx="3598920" cy="26924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4"/>
          <p:cNvSpPr/>
          <p:nvPr/>
        </p:nvSpPr>
        <p:spPr>
          <a:xfrm>
            <a:off x="971640" y="6237360"/>
            <a:ext cx="7181640" cy="36828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Access 2003: Queries/New/Simple Query Wi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Consult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uego, podemos filtrar las respuest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Home/Filter/Advanced/Filter by Fo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lenar da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Toggle Fil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467480" y="6248520"/>
            <a:ext cx="433440" cy="43344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14"/>
          <p:cNvSpPr/>
          <p:nvPr/>
        </p:nvSpPr>
        <p:spPr>
          <a:xfrm>
            <a:off x="990720" y="6248520"/>
            <a:ext cx="7181640" cy="36828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Access 2003: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cords-&gt;Filter-&gt;Filter By Form, Apply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SQL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ermite lanzar consultas con el fin de recuperar -de una forma sencilla- información de interés de una base de datos, así como también hacer cambios sobre la mism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ntaxi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LECT col1,col2,.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abla1,tabla2,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RE condicion AND/OR condicion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DER BY c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Como ingresar SQL en Acces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reate / Query Design / cerrar venta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QL Vie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Ver Resultado: Ru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916360" y="2205000"/>
            <a:ext cx="2879640" cy="15685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3962520" y="3962520"/>
            <a:ext cx="1895400" cy="18669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4"/>
          <p:cNvSpPr/>
          <p:nvPr/>
        </p:nvSpPr>
        <p:spPr>
          <a:xfrm>
            <a:off x="990720" y="6165720"/>
            <a:ext cx="7181640" cy="67212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Access 2003: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Queries/New/Design View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View/SQL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ver resultado: View-&gt;DataSheet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Consulta 1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Seleccione todos los datos de los actores nacidos antes de 196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Soluci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lect A.id, A.nombre, A.apellido, A.fechanacimiento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From Actores as 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Where A.fechanacimiento&lt;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#1-1-1960#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s fechas se escriben entre #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tra opci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ón: Select * (seleccionar todos los campo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Hoy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ase Microsoft Ac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bajo Pr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áctico Ac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omienzo Proyecto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Consulta 2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Seleccione todos los datos de los actores nacidos antes de 1960, ordenados por apellido y nomb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Soluci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ect *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om Actores as 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re A.fechanacimiento&lt;#1-1-1960#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der By A.Apellido, A.nomb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Consulta 3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uperar el nombre de las pel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ículas animadas (Cartoon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recientes (desp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 del 2003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Soluci</a:t>
            </a:r>
            <a:r>
              <a:rPr b="0" lang="es-ES_tradnl" sz="42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ECT p.titul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OM peliculas as p, tipo as 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RE t.tipo=‘Cartoon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p.anno&gt;2003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p.tipo=t.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Consulta 4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¿Cu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les son los actores que han participado en comedia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Soluci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SELECT a.apellido, a.nomb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FROM actores as a, actuan as ac,  peliculas as p, tipo as 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WHERE a.id=ac.ac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nd ac.pelicula=p.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nd p.tipo=t.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nd t.tipo='Comedia'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Parámetr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a que Access consulte por alg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ún dato para llenar la consulta, se usan los caracteres [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jemplo: Queremos las películas de X añ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LECT p.Titu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ROM Peliculas as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WHERE p.Ann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[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Formulari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reate Fo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3524040" cy="26575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047480" y="2135160"/>
            <a:ext cx="496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egir tabla o consulta com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ente de da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140360" y="3213000"/>
            <a:ext cx="4524120" cy="30099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611280" y="4797360"/>
            <a:ext cx="3313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 fichas de resultad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4"/>
          <p:cNvSpPr/>
          <p:nvPr/>
        </p:nvSpPr>
        <p:spPr>
          <a:xfrm>
            <a:off x="990720" y="6324480"/>
            <a:ext cx="7181640" cy="36828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Access 2003: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ew Form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Form Wi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Reporte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eate Re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me/Fil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5257800" cy="2233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46604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Trabajo Práctico (grupos 2)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rear una base de datos de Libr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lenar la BD con los datos de 5 libr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ear consult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Acces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69284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Microsoft Access es un SGBD, programa para gestionar bases de datos relacion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Otr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124000" y="4005360"/>
            <a:ext cx="2870280" cy="17539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3789360"/>
            <a:ext cx="2057400" cy="14986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172480" y="3395520"/>
            <a:ext cx="198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ostgreSQ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5019840" y="423396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6391440" y="3852720"/>
            <a:ext cx="2384280" cy="18957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895040" y="3471840"/>
            <a:ext cx="1285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ySQ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762120" y="22860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Algo de historia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ccess versi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1.0 - 199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tras version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 u="sng">
                <a:solidFill>
                  <a:srgbClr val="4c6d80"/>
                </a:solidFill>
                <a:uFillTx/>
                <a:latin typeface="Arial"/>
                <a:ea typeface="ＭＳ Ｐゴシック"/>
                <a:hlinkClick r:id="rId1"/>
              </a:rPr>
              <a:t>200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334120" y="380880"/>
            <a:ext cx="2012760" cy="2438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181480" y="3505320"/>
            <a:ext cx="2470320" cy="24699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7372440" y="1905120"/>
            <a:ext cx="1771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Base de Dat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761760" y="1295280"/>
            <a:ext cx="769284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Una base de datos está compuesta de tablas y relaciones entre ell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ada tabla tiene atributos (columnas, campos). Un elemento (fila) de una tabla es un registr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j: Tabla Acto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Atributos: Nombre, apellido, fecha nacimiento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Registros: Jim Carrey 17/01/1962 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 todos sus datos), Mel Gibson ..., et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6656400" cy="43434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523800" y="31572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Base de Datos en Acces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4000" y="1125360"/>
            <a:ext cx="769284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Tabla (Pelicula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70400" y="98100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mpos (atribut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940000" y="119700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930920" y="1700280"/>
            <a:ext cx="1366560" cy="453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2560" y="4221000"/>
            <a:ext cx="6697800" cy="28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502040" y="3860640"/>
            <a:ext cx="16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gistro (1 fi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7380360" y="4221000"/>
            <a:ext cx="50472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Ejempl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4038480"/>
            <a:ext cx="822960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ELICULA(Id, Titulo, Productora, Año, Tip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CTOR(Id, Nombre, Apellido, FechaNa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CTUA(Actor, Pelicul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TIPO(Id, Nombr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394812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Tablas…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ELICULA(Id, Titulo, A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ño,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…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CTOR(Id, Nombre, Apellido,…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CTUA(Actor, Pelicul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648320" y="2819520"/>
          <a:ext cx="4038480" cy="2189160"/>
        </p:xfrm>
        <a:graphic>
          <a:graphicData uri="http://schemas.openxmlformats.org/drawingml/2006/table">
            <a:tbl>
              <a:tblPr/>
              <a:tblGrid>
                <a:gridCol w="698400"/>
                <a:gridCol w="1206360"/>
                <a:gridCol w="1123920"/>
                <a:gridCol w="1009800"/>
              </a:tblGrid>
              <a:tr h="312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b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elli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ui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ko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nn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743200" y="228600"/>
            <a:ext cx="6019920" cy="915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2" name=""/>
          <p:cNvGraphicFramePr/>
          <p:nvPr/>
        </p:nvGraphicFramePr>
        <p:xfrm>
          <a:off x="304920" y="2819520"/>
          <a:ext cx="4038480" cy="2189160"/>
        </p:xfrm>
        <a:graphic>
          <a:graphicData uri="http://schemas.openxmlformats.org/drawingml/2006/table">
            <a:tbl>
              <a:tblPr/>
              <a:tblGrid>
                <a:gridCol w="698400"/>
                <a:gridCol w="2330280"/>
                <a:gridCol w="628920"/>
                <a:gridCol w="380880"/>
              </a:tblGrid>
              <a:tr h="312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LICU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u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ñ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Guerra de los Mun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Guerra de los Mun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2666880" y="5181480"/>
          <a:ext cx="4038840" cy="1251000"/>
        </p:xfrm>
        <a:graphic>
          <a:graphicData uri="http://schemas.openxmlformats.org/drawingml/2006/table">
            <a:tbl>
              <a:tblPr/>
              <a:tblGrid>
                <a:gridCol w="1905120"/>
                <a:gridCol w="2133720"/>
              </a:tblGrid>
              <a:tr h="312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U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licu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Creaci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ón de Tabl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1196640"/>
            <a:ext cx="82296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Office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 Ne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Blank Database (elegir nombr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reate / T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eleccionar tabla (botón derecho), Design Vie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specificar nombre de tab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specificar nombre de cada colum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specificar tipo de datos que guardar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j: Nombre? Edad? Fecha nacimient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legir Llave 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imaria (Primary Ke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379520" y="4592520"/>
            <a:ext cx="4321080" cy="14446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 flipH="1" flipV="1">
            <a:off x="2819160" y="4952520"/>
            <a:ext cx="33843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919840" y="408780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tributo (colum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43160" y="4303800"/>
            <a:ext cx="367344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22440" y="5181480"/>
            <a:ext cx="28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ominio (text, number,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971640" y="6237360"/>
            <a:ext cx="7181640" cy="36828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Access 2003: New Blank Database, Create table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3T20:41:02Z</dcterms:created>
  <dc:creator>Vale</dc:creator>
  <dc:description/>
  <dc:language>en-US</dc:language>
  <cp:lastModifiedBy>VHerskovic</cp:lastModifiedBy>
  <dcterms:modified xsi:type="dcterms:W3CDTF">2010-10-12T21:26:53Z</dcterms:modified>
  <cp:revision>67</cp:revision>
  <dc:subject/>
  <dc:title>(Microsoft Office) Excel y Access</dc:title>
</cp:coreProperties>
</file>