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A330-21AF-41CB-8FED-3793033E2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6416-A316-41C6-B611-BFC99742C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60A1-A966-4D15-BF5F-13CA64EDD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EB02-BF61-4A85-9716-D2864E397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2CC7D-EE98-4F7F-8DF2-F7D84435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AE371-7813-40FC-87F4-F14F9281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F4A0B-94F4-49A0-9897-8F8B7FC7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9AA9F-E473-4D11-A51F-0DB8A9CC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9B9C4-8C61-42FB-99B2-DDDE3F1B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82ADA-1010-4DA7-B1FB-53CD39CB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72391-657E-4D91-AB4C-9C0438AF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1759-8BAF-4180-9D6E-1A2968DC1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28ECB-A5F0-42F0-AC92-DDA70D86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5648D-C4A6-4D66-90DB-6CFADE7D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E9B2D-6F98-495A-9082-7C487598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163A3-1F12-42FA-B994-977DAAF2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DA16C-F700-435A-A363-27E55722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4E80-F681-4CE8-B859-9E80EB0D6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810A1-0D32-466F-92D8-4291B9E2E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FFCB9-3D02-4946-9BF8-5A0DB4BD9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722F-EBA3-4817-9E4D-686557249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D0AC-A867-41EB-9E66-FCB415B13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835F-A41E-4137-B527-BC53DC8C8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1110-0B73-4A09-AC72-A51B64194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ED83-360D-4815-80E3-973A6D314148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0828-BDE2-40DB-A11F-531114E9CE52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sql.com/" TargetMode="External"/><Relationship Id="rId2" Type="http://schemas.openxmlformats.org/officeDocument/2006/relationships/hyperlink" Target="http://www.postgresql.org/" TargetMode="External"/><Relationship Id="rId3" Type="http://schemas.openxmlformats.org/officeDocument/2006/relationships/hyperlink" Target="http://www.firebirdsql.org/" TargetMode="External"/><Relationship Id="rId4" Type="http://schemas.openxmlformats.org/officeDocument/2006/relationships/hyperlink" Target="http://www.sqlite.or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3399"/>
                </a:solidFill>
                <a:latin typeface="Arial"/>
              </a:rPr>
              <a:t>Bases de Datos</a:t>
            </a:r>
            <a:endParaRPr b="0" lang="en-US" sz="5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gual a las Jerárquicas, pero la rel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a no es 1:N. Se usan grafos dirigi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uciona la redundancia de datos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cil de recor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5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6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60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656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0" idx="4"/>
            <a:endCxn id="156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0" idx="4"/>
            <a:endCxn id="167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6" idx="4"/>
            <a:endCxn id="157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6" idx="4"/>
            <a:endCxn id="158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56" idx="4"/>
            <a:endCxn id="166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2" idx="4"/>
            <a:endCxn id="146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46" idx="4"/>
            <a:endCxn id="149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46" idx="4"/>
            <a:endCxn id="151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52" idx="4"/>
            <a:endCxn id="154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8" name=""/>
          <p:cNvGrpSpPr/>
          <p:nvPr/>
        </p:nvGrpSpPr>
        <p:grpSpPr>
          <a:xfrm>
            <a:off x="6648120" y="3814920"/>
            <a:ext cx="2244960" cy="2278080"/>
            <a:chOff x="6648120" y="3814920"/>
            <a:chExt cx="2244960" cy="2278080"/>
          </a:xfrm>
        </p:grpSpPr>
        <p:cxnSp>
          <p:nvCxnSpPr>
            <p:cNvPr id="179" name=""/>
            <p:cNvCxnSpPr/>
            <p:nvPr/>
          </p:nvCxnSpPr>
          <p:spPr>
            <a:xfrm flipH="1">
              <a:off x="6648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7021440" y="501336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n las más populares hoy en d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basado e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tr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Entid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Relacion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alum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rofesor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t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curs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500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43639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84720" y="2708280"/>
            <a:ext cx="1919880" cy="457200"/>
            <a:chOff x="4284720" y="2708280"/>
            <a:chExt cx="1919880" cy="457200"/>
          </a:xfrm>
        </p:grpSpPr>
        <p:sp>
          <p:nvSpPr>
            <p:cNvPr id="189" name=""/>
            <p:cNvSpPr/>
            <p:nvPr/>
          </p:nvSpPr>
          <p:spPr>
            <a:xfrm>
              <a:off x="4284720" y="270828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9200" y="2732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315880" y="3571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2520" y="494028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6520" y="494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39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908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61080" y="35114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44840" y="3535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9" idx="4"/>
            <a:endCxn id="185" idx="0"/>
          </p:cNvCxnSpPr>
          <p:nvPr/>
        </p:nvCxnSpPr>
        <p:spPr>
          <a:xfrm flipH="1">
            <a:off x="3936240" y="3165480"/>
            <a:ext cx="577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9" idx="4"/>
            <a:endCxn id="196" idx="0"/>
          </p:cNvCxnSpPr>
          <p:nvPr/>
        </p:nvCxnSpPr>
        <p:spPr>
          <a:xfrm>
            <a:off x="4512960" y="316512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5" idx="4"/>
            <a:endCxn id="186" idx="0"/>
          </p:cNvCxnSpPr>
          <p:nvPr/>
        </p:nvCxnSpPr>
        <p:spPr>
          <a:xfrm flipH="1">
            <a:off x="3144600" y="3957480"/>
            <a:ext cx="7927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5" idx="4"/>
            <a:endCxn id="187" idx="0"/>
          </p:cNvCxnSpPr>
          <p:nvPr/>
        </p:nvCxnSpPr>
        <p:spPr>
          <a:xfrm>
            <a:off x="3936600" y="395712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5" idx="4"/>
            <a:endCxn id="195" idx="0"/>
          </p:cNvCxnSpPr>
          <p:nvPr/>
        </p:nvCxnSpPr>
        <p:spPr>
          <a:xfrm>
            <a:off x="3936960" y="395748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979640" y="3789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876720" y="278136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520" y="4076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subdivid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213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tene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49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3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3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4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87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8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61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91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5" idx="4"/>
            <a:endCxn id="209" idx="0"/>
          </p:cNvCxnSpPr>
          <p:nvPr/>
        </p:nvCxnSpPr>
        <p:spPr>
          <a:xfrm flipH="1">
            <a:off x="4009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9" idx="4"/>
            <a:endCxn id="212" idx="0"/>
          </p:cNvCxnSpPr>
          <p:nvPr/>
        </p:nvCxnSpPr>
        <p:spPr>
          <a:xfrm flipH="1">
            <a:off x="3501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9" idx="4"/>
            <a:endCxn id="214" idx="0"/>
          </p:cNvCxnSpPr>
          <p:nvPr/>
        </p:nvCxnSpPr>
        <p:spPr>
          <a:xfrm>
            <a:off x="4009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5" idx="4"/>
            <a:endCxn id="217" idx="0"/>
          </p:cNvCxnSpPr>
          <p:nvPr/>
        </p:nvCxnSpPr>
        <p:spPr>
          <a:xfrm>
            <a:off x="4512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 rot="10800000">
            <a:off x="2410920" y="349992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4160" y="38606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ma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7400" y="3716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416120" y="3814920"/>
            <a:ext cx="2891160" cy="2206440"/>
            <a:chOff x="4416120" y="3814920"/>
            <a:chExt cx="2891160" cy="2206440"/>
          </a:xfrm>
        </p:grpSpPr>
        <p:cxnSp>
          <p:nvCxnSpPr>
            <p:cNvPr id="228" name=""/>
            <p:cNvCxnSpPr>
              <a:stCxn id="217" idx="4"/>
              <a:endCxn id="214" idx="0"/>
            </p:cNvCxnSpPr>
            <p:nvPr/>
          </p:nvCxnSpPr>
          <p:spPr>
            <a:xfrm flipH="1">
              <a:off x="4416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5435640" y="494172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¿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mo se representa la información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o tablas compuestas de tuplas (filas) y atributos (column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ejemplo, cada fila representa a un alum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tabla puede representarse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umno(nombre,apellido,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17680" y="2708280"/>
          <a:ext cx="4175280" cy="1400040"/>
        </p:xfrm>
        <a:graphic>
          <a:graphicData uri="http://schemas.openxmlformats.org/drawingml/2006/table">
            <a:tbl>
              <a:tblPr/>
              <a:tblGrid>
                <a:gridCol w="1638360"/>
                <a:gridCol w="1581120"/>
                <a:gridCol w="95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2317680" y="3160800"/>
            <a:ext cx="5783400" cy="900000"/>
            <a:chOff x="2317680" y="3160800"/>
            <a:chExt cx="5783400" cy="900000"/>
          </a:xfrm>
        </p:grpSpPr>
        <p:sp>
          <p:nvSpPr>
            <p:cNvPr id="234" name=""/>
            <p:cNvSpPr/>
            <p:nvPr/>
          </p:nvSpPr>
          <p:spPr>
            <a:xfrm>
              <a:off x="2317680" y="3160800"/>
              <a:ext cx="4176720" cy="44604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70760" y="3645000"/>
              <a:ext cx="1030320" cy="415800"/>
            </a:xfrm>
            <a:prstGeom prst="wedgeRectCallout">
              <a:avLst>
                <a:gd name="adj1" fmla="val -106087"/>
                <a:gd name="adj2" fmla="val -112212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up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62040" y="3141720"/>
            <a:ext cx="3313080" cy="966600"/>
            <a:chOff x="662040" y="3141720"/>
            <a:chExt cx="3313080" cy="966600"/>
          </a:xfrm>
        </p:grpSpPr>
        <p:sp>
          <p:nvSpPr>
            <p:cNvPr id="237" name=""/>
            <p:cNvSpPr/>
            <p:nvPr/>
          </p:nvSpPr>
          <p:spPr>
            <a:xfrm>
              <a:off x="2319480" y="3141720"/>
              <a:ext cx="1655640" cy="9666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040" y="3500280"/>
              <a:ext cx="1368360" cy="403560"/>
            </a:xfrm>
            <a:prstGeom prst="wedgeRectCallout">
              <a:avLst>
                <a:gd name="adj1" fmla="val 69606"/>
                <a:gd name="adj2" fmla="val 11023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es entr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la misma manera que se usan tablas para mantener datos, se pueden especificar tablas que mantengan las 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11280" y="3213000"/>
          <a:ext cx="2952720" cy="106524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56360" y="4869000"/>
          <a:ext cx="2520720" cy="1004760"/>
        </p:xfrm>
        <a:graphic>
          <a:graphicData uri="http://schemas.openxmlformats.org/drawingml/2006/table">
            <a:tbl>
              <a:tblPr/>
              <a:tblGrid>
                <a:gridCol w="1441440"/>
                <a:gridCol w="107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-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067280" y="3645000"/>
          <a:ext cx="1726920" cy="1339920"/>
        </p:xfrm>
        <a:graphic>
          <a:graphicData uri="http://schemas.openxmlformats.org/drawingml/2006/table">
            <a:tbl>
              <a:tblPr/>
              <a:tblGrid>
                <a:gridCol w="936360"/>
                <a:gridCol w="7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516720" y="3573360"/>
            <a:ext cx="2016000" cy="403200"/>
          </a:xfrm>
          <a:prstGeom prst="wedgeRectCallout">
            <a:avLst>
              <a:gd name="adj1" fmla="val -85907"/>
              <a:gd name="adj2" fmla="val 9055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bla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92000" y="3716280"/>
            <a:ext cx="1195920" cy="533520"/>
            <a:chOff x="3492000" y="3716280"/>
            <a:chExt cx="1195920" cy="533520"/>
          </a:xfrm>
        </p:grpSpPr>
        <p:sp>
          <p:nvSpPr>
            <p:cNvPr id="246" name=""/>
            <p:cNvSpPr/>
            <p:nvPr/>
          </p:nvSpPr>
          <p:spPr>
            <a:xfrm>
              <a:off x="4471920" y="403380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492000" y="3716280"/>
              <a:ext cx="1079640" cy="433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92360" y="3716280"/>
            <a:ext cx="1224000" cy="1224000"/>
            <a:chOff x="3492360" y="3716280"/>
            <a:chExt cx="1224000" cy="1224000"/>
          </a:xfrm>
        </p:grpSpPr>
        <p:sp>
          <p:nvSpPr>
            <p:cNvPr id="249" name=""/>
            <p:cNvSpPr/>
            <p:nvPr/>
          </p:nvSpPr>
          <p:spPr>
            <a:xfrm>
              <a:off x="4500720" y="4724280"/>
              <a:ext cx="21564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492360" y="3716280"/>
              <a:ext cx="1108080" cy="11239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92720" y="4038480"/>
            <a:ext cx="934920" cy="1335240"/>
            <a:chOff x="5292720" y="4038480"/>
            <a:chExt cx="934920" cy="1335240"/>
          </a:xfrm>
        </p:grpSpPr>
        <p:sp>
          <p:nvSpPr>
            <p:cNvPr id="252" name=""/>
            <p:cNvSpPr/>
            <p:nvPr/>
          </p:nvSpPr>
          <p:spPr>
            <a:xfrm>
              <a:off x="5292720" y="40384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92800" y="4154400"/>
              <a:ext cx="834840" cy="12193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02080" y="4047840"/>
            <a:ext cx="1195200" cy="533520"/>
            <a:chOff x="3502080" y="4047840"/>
            <a:chExt cx="1195200" cy="533520"/>
          </a:xfrm>
        </p:grpSpPr>
        <p:sp>
          <p:nvSpPr>
            <p:cNvPr id="255" name=""/>
            <p:cNvSpPr/>
            <p:nvPr/>
          </p:nvSpPr>
          <p:spPr>
            <a:xfrm>
              <a:off x="4481640" y="4365720"/>
              <a:ext cx="215640" cy="215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502080" y="4047840"/>
              <a:ext cx="1069920" cy="460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02080" y="4394160"/>
            <a:ext cx="925560" cy="979560"/>
            <a:chOff x="5302080" y="4394160"/>
            <a:chExt cx="925560" cy="979560"/>
          </a:xfrm>
        </p:grpSpPr>
        <p:sp>
          <p:nvSpPr>
            <p:cNvPr id="258" name=""/>
            <p:cNvSpPr/>
            <p:nvPr/>
          </p:nvSpPr>
          <p:spPr>
            <a:xfrm>
              <a:off x="5302080" y="439416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2160" y="4510080"/>
              <a:ext cx="825480" cy="8636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21160" y="4724280"/>
            <a:ext cx="906480" cy="1009800"/>
            <a:chOff x="5321160" y="4724280"/>
            <a:chExt cx="906480" cy="1009800"/>
          </a:xfrm>
        </p:grpSpPr>
        <p:sp>
          <p:nvSpPr>
            <p:cNvPr id="261" name=""/>
            <p:cNvSpPr/>
            <p:nvPr/>
          </p:nvSpPr>
          <p:spPr>
            <a:xfrm>
              <a:off x="5321160" y="47242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1240" y="4840200"/>
              <a:ext cx="806400" cy="89388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Relacio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ra identificar únicamente una tupla se utilizan las llaves prima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alor que no puede repeti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 ¿Personas? ¿Autos? ¿Curs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atributos se caracterizan por tener un nombre y un domin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ominio dice que tipo de información puede especificarse para ese atrib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dentificadores y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3080" y="2997360"/>
            <a:ext cx="201600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4724280"/>
            <a:ext cx="1584360" cy="936720"/>
          </a:xfrm>
          <a:prstGeom prst="wedgeRectCallout">
            <a:avLst>
              <a:gd name="adj1" fmla="val 9018"/>
              <a:gd name="adj2" fmla="val -122879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1700280"/>
            <a:ext cx="1800360" cy="403200"/>
          </a:xfrm>
          <a:prstGeom prst="wedgeRectCallout">
            <a:avLst>
              <a:gd name="adj1" fmla="val -12435"/>
              <a:gd name="adj2" fmla="val 15866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8000" y="2552760"/>
          <a:ext cx="4978440" cy="1466640"/>
        </p:xfrm>
        <a:graphic>
          <a:graphicData uri="http://schemas.openxmlformats.org/drawingml/2006/table">
            <a:tbl>
              <a:tblPr/>
              <a:tblGrid>
                <a:gridCol w="504720"/>
                <a:gridCol w="1984320"/>
                <a:gridCol w="1544760"/>
                <a:gridCol w="944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429080" y="2997360"/>
            <a:ext cx="151128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997360"/>
            <a:ext cx="93672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4724280"/>
            <a:ext cx="1584360" cy="936720"/>
          </a:xfrm>
          <a:prstGeom prst="wedgeRectCallout">
            <a:avLst>
              <a:gd name="adj1" fmla="val -11625"/>
              <a:gd name="adj2" fmla="val -124236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5080" y="4581360"/>
            <a:ext cx="1584360" cy="935280"/>
          </a:xfrm>
          <a:prstGeom prst="wedgeRectCallout">
            <a:avLst>
              <a:gd name="adj1" fmla="val -52305"/>
              <a:gd name="adj2" fmla="val -10840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ter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cerca de los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ben ser “atómico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 valor no puede ser dividido en dominios más si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ersona(nombre, apellido, hijos)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¡Una persona puede tener más de un hij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Ej. correc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sona(*id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jos(*id_persona, *id_hijo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Da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caracteres con algún signifi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a Base de Da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lección ordenada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neralmente pertenecientes al mismo con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ganizados de tal forma que puedan ser consultados posterior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mite “diagramar” una B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 de las entidades tenemo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745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edades o características de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isten varios t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torios: tienen que tener un valor (nombre, fecha nac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cionales: pueden no tener ningún valor (nro. cuenta corriente, código pos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635280" y="3789360"/>
            <a:ext cx="720360" cy="360360"/>
            <a:chOff x="3635280" y="3789360"/>
            <a:chExt cx="720360" cy="360360"/>
          </a:xfrm>
        </p:grpSpPr>
        <p:sp>
          <p:nvSpPr>
            <p:cNvPr id="282" name=""/>
            <p:cNvSpPr/>
            <p:nvPr/>
          </p:nvSpPr>
          <p:spPr>
            <a:xfrm>
              <a:off x="3635280" y="3789360"/>
              <a:ext cx="38448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19760" y="399420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635280" y="5229360"/>
            <a:ext cx="720360" cy="358560"/>
            <a:chOff x="3635280" y="5229360"/>
            <a:chExt cx="720360" cy="358560"/>
          </a:xfrm>
        </p:grpSpPr>
        <p:sp>
          <p:nvSpPr>
            <p:cNvPr id="285" name=""/>
            <p:cNvSpPr/>
            <p:nvPr/>
          </p:nvSpPr>
          <p:spPr>
            <a:xfrm>
              <a:off x="4019760" y="538236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35280" y="5229360"/>
              <a:ext cx="384480" cy="358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Vinculación o correspondencia entre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2781360"/>
            <a:ext cx="504720" cy="43164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Interrelación regular"/>
          <p:cNvPicPr/>
          <p:nvPr/>
        </p:nvPicPr>
        <p:blipFill>
          <a:blip r:embed="rId1"/>
          <a:stretch/>
        </p:blipFill>
        <p:spPr>
          <a:xfrm>
            <a:off x="2268360" y="3573360"/>
            <a:ext cx="3888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rdi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máximo y mínimo de ejemplares de una entidad que pueden estar asociados, mediante una determinada relación, con un ejemplar de otra ent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n ser de la siguiente for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0,n), (n,0), (1,n), (n,1), (0,1), (1,0), (0,0) ó (n,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Cardinalidad"/>
          <p:cNvPicPr/>
          <p:nvPr/>
        </p:nvPicPr>
        <p:blipFill>
          <a:blip r:embed="rId1"/>
          <a:stretch/>
        </p:blipFill>
        <p:spPr>
          <a:xfrm>
            <a:off x="1116000" y="4869000"/>
            <a:ext cx="698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etodología de Diseñ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do un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os atributos y asociarlos a entidades y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dominios de los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ar el diagrama entidad-re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ar el esquema conceptual local con el problema ini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r si algo falta o no está completamente corre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desea recoger en una base de datos la información acerca de las corridas de toros que se celebran en Españ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desea tener información acerca de cada corrida, identificada conjuntamente por un número de orden, la feria en la que se celebra y el año de celebración (por ejemplo: orden = 2, feria = San Isidro, Año = 1999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una corrida actúan una serie de toreros (mínimo 1 y máximo 3) de los que desea guardar su DNI, nombre, apodo y fecha en que se convirtió en matador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ás se desea saber quien fue el torero que lo apadrinó ese día (un torero puede apadrinar a varios toreros o a ningun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cada corrida, un torero obtiene una serie de premios (orejas, rabos y si salió por la puerta grande o n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torero puede tener un apoderado del que es protegido. A su vez, un apoderado puede proteger a varios toreros. De cada apoderado se desea saber su DNI, nombre, dirección y teléfo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corrida se celebra en una plaza de toros de la que se desea saber su nombre que se supone único, localidad y dirección. En una misma plaza se pueden celebrar varias corridas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cada corrida son estoqueados al menos 6 toros. Cada toro viene identificado por el código de la ganadería a la que pertenece, el año en que nació y un número de orden. Además se desea mantener información acerca de su nombre y color así como el orden en que fue tore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toro pertenece a una ganadería determinada. De cada ganadería se pretende saber su código, localidad y fecha de cre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3" name="" descr="Entidad-relación de los amigos de la Fiesta"/>
          <p:cNvPicPr/>
          <p:nvPr/>
        </p:nvPicPr>
        <p:blipFill>
          <a:blip r:embed="rId1"/>
          <a:stretch/>
        </p:blipFill>
        <p:spPr>
          <a:xfrm>
            <a:off x="611280" y="887400"/>
            <a:ext cx="79214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Ejemplo conjunto: </a:t>
            </a:r>
            <a:br>
              <a:rPr sz="3800"/>
            </a:b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alumnos, profesores y curso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 E-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ahora, ¿cómo consultamos la informació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SGB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istema gestor de la base de datos)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un programa que se ubica entre los usuarios y los datos como 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ál es su ut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ita la interacción directa con la inform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acceso a la información a nivel 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mayor grado de independencia entre las aplicaciones y la información fí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QL = Structured Query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os camp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cumpl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mbre y apelli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tab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dad sea mayor a 18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: Sintaxis re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T A.nombre, A.apell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OM Alumnos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 A.edad&g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leccionar los nombres de todos los cursos que son dictados el 2do semestre del año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 ejemplo más complej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contrar nombre y apellido de todos los alumnos que es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tomando el curso llamado “Comput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.nombre, a.apell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umnos as 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a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maCurso as 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nombre = “Computación”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id = tc.curso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c.alumno = a.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Que pasa debido a 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16000" y="2924280"/>
          <a:ext cx="2881440" cy="1064880"/>
        </p:xfrm>
        <a:graphic>
          <a:graphicData uri="http://schemas.openxmlformats.org/drawingml/2006/table">
            <a:tbl>
              <a:tblPr/>
              <a:tblGrid>
                <a:gridCol w="505080"/>
                <a:gridCol w="1295280"/>
                <a:gridCol w="10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050920" y="4581360"/>
          <a:ext cx="2016000" cy="1065240"/>
        </p:xfrm>
        <a:graphic>
          <a:graphicData uri="http://schemas.openxmlformats.org/drawingml/2006/table">
            <a:tbl>
              <a:tblPr/>
              <a:tblGrid>
                <a:gridCol w="43164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003640" y="3213000"/>
          <a:ext cx="1873080" cy="1460520"/>
        </p:xfrm>
        <a:graphic>
          <a:graphicData uri="http://schemas.openxmlformats.org/drawingml/2006/table">
            <a:tbl>
              <a:tblPr/>
              <a:tblGrid>
                <a:gridCol w="1009440"/>
                <a:gridCol w="86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dentificadores con “a” para alumnos y “c” para cursos, así se entiende mej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600" spc="-1" strike="noStrike">
                <a:solidFill>
                  <a:srgbClr val="003399"/>
                </a:solidFill>
                <a:latin typeface="Arial"/>
              </a:rPr>
              <a:t>From Alumnos as a, Curso as c,TomaCurso as tc” implica la combinación de </a:t>
            </a: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TODO con TOD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where c.nombre = “Computación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c.id =  tc.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00000" y="1557360"/>
          <a:ext cx="7272360" cy="235116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tc.alumno =  a.i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00000" y="1557360"/>
          <a:ext cx="7272360" cy="101124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elect a.nombre, a.apellid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900000" y="1557360"/>
          <a:ext cx="7272360" cy="6760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643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sultado Fi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43280" y="1557360"/>
          <a:ext cx="2376360" cy="676080"/>
        </p:xfrm>
        <a:graphic>
          <a:graphicData uri="http://schemas.openxmlformats.org/drawingml/2006/table">
            <a:tbl>
              <a:tblPr/>
              <a:tblGrid>
                <a:gridCol w="1223640"/>
                <a:gridCol w="115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6233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¿Preguntas?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buje un modelo entidad-relación que modele la información de asociada a los pacientes de un centro mé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 modelo, debe incluir al menos la siguiente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sitas/consultas mé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á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istorial mé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 incluir las entidades y relaciones que estime conveniente, además de las correspondientes cardi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ambién sirve par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la redundancia en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egurar la consistencia de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ntener la integridad ante fallas (datos malos, fallas de hardware, cortes de luz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veer algún tipo de seguridad al acceder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trolar el acceso concur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jorar la efici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Gra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my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Postgre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Fireb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SQ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Comer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Bases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clasificación posible es dado el tipo de organización e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Je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de 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ructura de árbol: nodo padre tiene muchos nodos hi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y eficiente pues los sistemas de archivo son je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ciones son unidireccionales: 1: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ícil evitar la redundancia </a:t>
            </a:r>
            <a:r>
              <a:rPr b="0" lang="es-ES_trad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inconsis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2520" y="465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488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18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5584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18" idx="4"/>
            <a:endCxn id="114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4"/>
            <a:endCxn id="125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114" idx="4"/>
            <a:endCxn id="115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14" idx="4"/>
            <a:endCxn id="116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4" idx="4"/>
            <a:endCxn id="124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10" idx="4"/>
            <a:endCxn id="104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4" idx="4"/>
            <a:endCxn id="107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04" idx="4"/>
            <a:endCxn id="109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10" idx="4"/>
            <a:endCxn id="112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6" name=""/>
          <p:cNvGrpSpPr/>
          <p:nvPr/>
        </p:nvGrpSpPr>
        <p:grpSpPr>
          <a:xfrm>
            <a:off x="7021440" y="3814920"/>
            <a:ext cx="1871640" cy="2278080"/>
            <a:chOff x="7021440" y="3814920"/>
            <a:chExt cx="1871640" cy="2278080"/>
          </a:xfrm>
        </p:grpSpPr>
        <p:cxnSp>
          <p:nvCxnSpPr>
            <p:cNvPr id="137" name=""/>
            <p:cNvCxnSpPr>
              <a:stCxn id="112" idx="4"/>
              <a:endCxn id="138" idx="0"/>
            </p:cNvCxnSpPr>
            <p:nvPr/>
          </p:nvCxnSpPr>
          <p:spPr>
            <a:xfrm>
              <a:off x="7321320" y="3814920"/>
              <a:ext cx="72144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7670880" y="46530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. Roj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13440" y="4149720"/>
              <a:ext cx="457200" cy="457200"/>
            </a:xfrm>
            <a:prstGeom prst="ellipse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21440" y="5157720"/>
              <a:ext cx="1871640" cy="93528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1:09:36Z</dcterms:created>
  <dc:creator/>
  <dc:description/>
  <dc:language>en-US</dc:language>
  <cp:lastModifiedBy>rtoledo</cp:lastModifiedBy>
  <dcterms:modified xsi:type="dcterms:W3CDTF">2010-05-14T18:12:29Z</dcterms:modified>
  <cp:revision>240</cp:revision>
  <dc:subject/>
  <dc:title>Bases de Datos</dc:title>
</cp:coreProperties>
</file>