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7A5F00-00A0-4569-B6D6-D9D923AA0C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0FD0B3-91BC-4520-8156-0049627F1A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41C4BB-75BB-46A7-8AC3-C19AB06173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5A0A85-F76C-4853-B999-B41ED214E8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1138F7-6712-4280-A538-ED1BFA935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17369D-054C-40C8-B9E9-433E8E6F7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8262D7-41F5-444F-A2F7-C52995187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887B9A-FDE0-4620-A1BE-14BA5EE47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D4B71C-80E2-4EEF-9DCA-2A144B32F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E449A6-A0A4-4513-BB84-2258CF7E8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B31796-2AAC-4A25-95F2-3A1490433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EA9695-597C-48EC-8929-626022EBAC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962B03-9B3B-4AD3-93E4-B08A25E97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FE5023-7600-4300-97CA-9A94434E4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A9B3BB-28C0-42EC-B28A-4519F46B3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2D3281-E765-4798-9FA5-ACC5A433C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0DE4F9-7A64-4DF7-B570-B973910C5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3E4721-5664-4548-8720-9828D96BAF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7CF637-F738-4AE3-BA14-881C33FFB7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46D3F2-DCF5-466C-9BD4-A7D4FE232B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CB25D3-5D30-4757-87CD-5803839712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680182-DED2-432E-B44A-AC2E2F86F3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7F20E7-C1DB-45FA-A48A-F38A2E4007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0026A7-104E-4779-BEA4-1612FE360F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4c6d4e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0099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468000" y="6248160"/>
            <a:ext cx="555156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T</a:t>
            </a:r>
            <a:r>
              <a:rPr b="0" lang="es-ES_tradnl" sz="1200" spc="-1" strike="noStrike">
                <a:solidFill>
                  <a:srgbClr val="000000"/>
                </a:solidFill>
                <a:latin typeface="Garamond"/>
              </a:rPr>
              <a:t>ecnolog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í</a:t>
            </a:r>
            <a:r>
              <a:rPr b="0" lang="es-ES_tradnl" sz="1200" spc="-1" strike="noStrike">
                <a:solidFill>
                  <a:srgbClr val="000000"/>
                </a:solidFill>
                <a:latin typeface="Garamond"/>
              </a:rPr>
              <a:t>a 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Mé</a:t>
            </a:r>
            <a:r>
              <a:rPr b="0" lang="es-ES_tradnl" sz="1200" spc="-1" strike="noStrike">
                <a:solidFill>
                  <a:srgbClr val="000000"/>
                </a:solidFill>
                <a:latin typeface="Garamond"/>
              </a:rPr>
              <a:t>dica, Universidad de 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C</a:t>
            </a:r>
            <a:r>
              <a:rPr b="0" lang="es-ES_tradnl" sz="1200" spc="-1" strike="noStrike">
                <a:solidFill>
                  <a:srgbClr val="000000"/>
                </a:solidFill>
                <a:latin typeface="Garamond"/>
              </a:rPr>
              <a:t>h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8DF5D-04F6-4C26-8BF5-E907A9039C0A}" type="slidenum">
              <a:rPr b="0" lang="es-ES_tradnl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41C48-AFA0-46B1-9BAE-1310AD64EA55}" type="slidenum">
              <a:rPr b="0" lang="es-ES_tradnl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4c6d4e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009999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ysql.com/" TargetMode="External"/><Relationship Id="rId2" Type="http://schemas.openxmlformats.org/officeDocument/2006/relationships/hyperlink" Target="http://www.postgresql.org/" TargetMode="External"/><Relationship Id="rId3" Type="http://schemas.openxmlformats.org/officeDocument/2006/relationships/hyperlink" Target="http://www.firebirdsql.org/" TargetMode="External"/><Relationship Id="rId4" Type="http://schemas.openxmlformats.org/officeDocument/2006/relationships/hyperlink" Target="http://www.sqlite.org/" TargetMode="External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4360" y="1341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600" spc="-1" strike="noStrike">
                <a:solidFill>
                  <a:srgbClr val="003399"/>
                </a:solidFill>
                <a:latin typeface="Arial"/>
              </a:rPr>
              <a:t>Bases de Datos</a:t>
            </a:r>
            <a:endParaRPr b="0" lang="en-US" sz="5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619280" y="4436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ecnología Méd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Universidad de Ch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Bases de Datos de Red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Igual a las Jerárquicas, pero la relaci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 ya no es 1:N. Se usan grafos dirigido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Pro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Soluciona la redundancia de datos.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Contra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Dif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cil de recorre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Bases de Datos de Red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Reino Anim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Cursos y Alumn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3357720"/>
            <a:ext cx="457200" cy="4572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481880" y="3370320"/>
            <a:ext cx="152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omputaci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445440" y="4724280"/>
            <a:ext cx="95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I. Roj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505480" y="4148280"/>
            <a:ext cx="457200" cy="4572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06520" y="4653000"/>
            <a:ext cx="122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D. Salin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419880" y="4148280"/>
            <a:ext cx="457200" cy="4572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516720" y="2492280"/>
            <a:ext cx="457200" cy="4572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950880" y="2492280"/>
            <a:ext cx="9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urs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093080" y="3357720"/>
            <a:ext cx="457200" cy="4572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223600" y="335772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Ingl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719360" y="3429000"/>
            <a:ext cx="457200" cy="4572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927000" y="4365720"/>
            <a:ext cx="457200" cy="4572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719360" y="4292640"/>
            <a:ext cx="457200" cy="4572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2295360" y="2637000"/>
            <a:ext cx="1919880" cy="457200"/>
            <a:chOff x="2295360" y="2637000"/>
            <a:chExt cx="1919880" cy="457200"/>
          </a:xfrm>
        </p:grpSpPr>
        <p:sp>
          <p:nvSpPr>
            <p:cNvPr id="160" name=""/>
            <p:cNvSpPr/>
            <p:nvPr/>
          </p:nvSpPr>
          <p:spPr>
            <a:xfrm>
              <a:off x="2295360" y="2637000"/>
              <a:ext cx="457200" cy="45720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679840" y="2660760"/>
              <a:ext cx="1535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Reino Anim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" name=""/>
          <p:cNvSpPr/>
          <p:nvPr/>
        </p:nvSpPr>
        <p:spPr>
          <a:xfrm>
            <a:off x="326880" y="3500280"/>
            <a:ext cx="142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Vertebr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513160" y="4869000"/>
            <a:ext cx="126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Mam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fe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97520" y="4869000"/>
            <a:ext cx="8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e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434960" y="4797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Rept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40080" y="4365720"/>
            <a:ext cx="457200" cy="4572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871720" y="3440160"/>
            <a:ext cx="457200" cy="4572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56560" y="3463920"/>
            <a:ext cx="157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nvertebr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9" name=""/>
          <p:cNvCxnSpPr>
            <a:stCxn id="160" idx="4"/>
            <a:endCxn id="156" idx="0"/>
          </p:cNvCxnSpPr>
          <p:nvPr/>
        </p:nvCxnSpPr>
        <p:spPr>
          <a:xfrm flipH="1">
            <a:off x="1947960" y="3094200"/>
            <a:ext cx="57636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0" name=""/>
          <p:cNvCxnSpPr>
            <a:stCxn id="160" idx="4"/>
            <a:endCxn id="167" idx="0"/>
          </p:cNvCxnSpPr>
          <p:nvPr/>
        </p:nvCxnSpPr>
        <p:spPr>
          <a:xfrm>
            <a:off x="2523600" y="3093840"/>
            <a:ext cx="577080" cy="346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1" name=""/>
          <p:cNvCxnSpPr>
            <a:stCxn id="156" idx="4"/>
            <a:endCxn id="157" idx="0"/>
          </p:cNvCxnSpPr>
          <p:nvPr/>
        </p:nvCxnSpPr>
        <p:spPr>
          <a:xfrm flipH="1">
            <a:off x="1154880" y="3886200"/>
            <a:ext cx="793080" cy="480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2" name=""/>
          <p:cNvCxnSpPr>
            <a:stCxn id="156" idx="4"/>
            <a:endCxn id="158" idx="0"/>
          </p:cNvCxnSpPr>
          <p:nvPr/>
        </p:nvCxnSpPr>
        <p:spPr>
          <a:xfrm>
            <a:off x="1947600" y="3885840"/>
            <a:ext cx="1080" cy="407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3" name=""/>
          <p:cNvCxnSpPr>
            <a:stCxn id="156" idx="4"/>
            <a:endCxn id="166" idx="0"/>
          </p:cNvCxnSpPr>
          <p:nvPr/>
        </p:nvCxnSpPr>
        <p:spPr>
          <a:xfrm>
            <a:off x="1947960" y="3886200"/>
            <a:ext cx="721440" cy="480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4" name=""/>
          <p:cNvCxnSpPr>
            <a:stCxn id="152" idx="4"/>
            <a:endCxn id="146" idx="0"/>
          </p:cNvCxnSpPr>
          <p:nvPr/>
        </p:nvCxnSpPr>
        <p:spPr>
          <a:xfrm flipH="1">
            <a:off x="6241680" y="2949480"/>
            <a:ext cx="504000" cy="408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5" name=""/>
          <p:cNvCxnSpPr>
            <a:stCxn id="146" idx="4"/>
            <a:endCxn id="149" idx="0"/>
          </p:cNvCxnSpPr>
          <p:nvPr/>
        </p:nvCxnSpPr>
        <p:spPr>
          <a:xfrm flipH="1">
            <a:off x="5733360" y="3814920"/>
            <a:ext cx="5086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6" name=""/>
          <p:cNvCxnSpPr>
            <a:stCxn id="146" idx="4"/>
            <a:endCxn id="151" idx="0"/>
          </p:cNvCxnSpPr>
          <p:nvPr/>
        </p:nvCxnSpPr>
        <p:spPr>
          <a:xfrm>
            <a:off x="6241680" y="3814920"/>
            <a:ext cx="40716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7" name=""/>
          <p:cNvCxnSpPr>
            <a:stCxn id="152" idx="4"/>
            <a:endCxn id="154" idx="0"/>
          </p:cNvCxnSpPr>
          <p:nvPr/>
        </p:nvCxnSpPr>
        <p:spPr>
          <a:xfrm>
            <a:off x="6744960" y="2949480"/>
            <a:ext cx="577080" cy="408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178" name=""/>
          <p:cNvGrpSpPr/>
          <p:nvPr/>
        </p:nvGrpSpPr>
        <p:grpSpPr>
          <a:xfrm>
            <a:off x="6648120" y="3814920"/>
            <a:ext cx="2244960" cy="2278080"/>
            <a:chOff x="6648120" y="3814920"/>
            <a:chExt cx="2244960" cy="2278080"/>
          </a:xfrm>
        </p:grpSpPr>
        <p:cxnSp>
          <p:nvCxnSpPr>
            <p:cNvPr id="179" name=""/>
            <p:cNvCxnSpPr/>
            <p:nvPr/>
          </p:nvCxnSpPr>
          <p:spPr>
            <a:xfrm flipH="1">
              <a:off x="6648120" y="3814920"/>
              <a:ext cx="673920" cy="33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80" name=""/>
            <p:cNvSpPr/>
            <p:nvPr/>
          </p:nvSpPr>
          <p:spPr>
            <a:xfrm>
              <a:off x="7021440" y="5013360"/>
              <a:ext cx="1871640" cy="1079640"/>
            </a:xfrm>
            <a:prstGeom prst="irregularSeal1">
              <a:avLst/>
            </a:prstGeom>
            <a:solidFill>
              <a:srgbClr val="4c6d4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ffffff"/>
                  </a:solidFill>
                  <a:latin typeface="Arial"/>
                </a:rPr>
                <a:t>Ya no ha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ffffff"/>
                  </a:solidFill>
                  <a:latin typeface="Arial"/>
                </a:rPr>
                <a:t>redundanci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Bases de Datos Relacionales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Son las más populares hoy en dí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Est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á basado en </a:t>
            </a:r>
            <a:r>
              <a:rPr b="1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laciones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entre </a:t>
            </a:r>
            <a:r>
              <a:rPr b="1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ntidad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¿Entidad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lumn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urs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rofes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¿Relaciones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Un alumno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toma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curs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Un profesor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dicta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curs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Un curso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tiene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alumn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Bases de Datos Relacionales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Reino Anim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708360" y="3500280"/>
            <a:ext cx="457200" cy="4572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916360" y="4437000"/>
            <a:ext cx="457200" cy="4572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708360" y="4363920"/>
            <a:ext cx="457200" cy="4572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4284720" y="2708280"/>
            <a:ext cx="1919880" cy="457200"/>
            <a:chOff x="4284720" y="2708280"/>
            <a:chExt cx="1919880" cy="457200"/>
          </a:xfrm>
        </p:grpSpPr>
        <p:sp>
          <p:nvSpPr>
            <p:cNvPr id="189" name=""/>
            <p:cNvSpPr/>
            <p:nvPr/>
          </p:nvSpPr>
          <p:spPr>
            <a:xfrm>
              <a:off x="4284720" y="2708280"/>
              <a:ext cx="457200" cy="45720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669200" y="2732040"/>
              <a:ext cx="1535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Reino Anim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2315880" y="3571920"/>
            <a:ext cx="142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Vertebr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502520" y="4940280"/>
            <a:ext cx="126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Mam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fe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6520" y="4940280"/>
            <a:ext cx="8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e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423960" y="4869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Rept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429080" y="4437000"/>
            <a:ext cx="457200" cy="4572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861080" y="3511440"/>
            <a:ext cx="457200" cy="4572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244840" y="3535200"/>
            <a:ext cx="157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nvertebr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89" idx="4"/>
            <a:endCxn id="185" idx="0"/>
          </p:cNvCxnSpPr>
          <p:nvPr/>
        </p:nvCxnSpPr>
        <p:spPr>
          <a:xfrm flipH="1">
            <a:off x="3936240" y="3165480"/>
            <a:ext cx="57708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9" name=""/>
          <p:cNvCxnSpPr>
            <a:stCxn id="189" idx="4"/>
            <a:endCxn id="196" idx="0"/>
          </p:cNvCxnSpPr>
          <p:nvPr/>
        </p:nvCxnSpPr>
        <p:spPr>
          <a:xfrm>
            <a:off x="4512960" y="3165120"/>
            <a:ext cx="577080" cy="346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0" name=""/>
          <p:cNvCxnSpPr>
            <a:stCxn id="185" idx="4"/>
            <a:endCxn id="186" idx="0"/>
          </p:cNvCxnSpPr>
          <p:nvPr/>
        </p:nvCxnSpPr>
        <p:spPr>
          <a:xfrm flipH="1">
            <a:off x="3144600" y="3957480"/>
            <a:ext cx="792720" cy="480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1" name=""/>
          <p:cNvCxnSpPr>
            <a:stCxn id="185" idx="4"/>
            <a:endCxn id="187" idx="0"/>
          </p:cNvCxnSpPr>
          <p:nvPr/>
        </p:nvCxnSpPr>
        <p:spPr>
          <a:xfrm>
            <a:off x="3936600" y="3957120"/>
            <a:ext cx="1080" cy="407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2" name=""/>
          <p:cNvCxnSpPr>
            <a:stCxn id="185" idx="4"/>
            <a:endCxn id="195" idx="0"/>
          </p:cNvCxnSpPr>
          <p:nvPr/>
        </p:nvCxnSpPr>
        <p:spPr>
          <a:xfrm>
            <a:off x="3936960" y="3957480"/>
            <a:ext cx="721440" cy="480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03" name=""/>
          <p:cNvSpPr/>
          <p:nvPr/>
        </p:nvSpPr>
        <p:spPr>
          <a:xfrm>
            <a:off x="1979640" y="3789360"/>
            <a:ext cx="358920" cy="1079640"/>
          </a:xfrm>
          <a:prstGeom prst="downArrow">
            <a:avLst>
              <a:gd name="adj1" fmla="val 50000"/>
              <a:gd name="adj2" fmla="val 75201"/>
            </a:avLst>
          </a:prstGeom>
          <a:solidFill>
            <a:srgbClr val="4c6d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rot="10800000">
            <a:off x="6876720" y="2781360"/>
            <a:ext cx="358920" cy="1079280"/>
          </a:xfrm>
          <a:prstGeom prst="downArrow">
            <a:avLst>
              <a:gd name="adj1" fmla="val 50000"/>
              <a:gd name="adj2" fmla="val 75176"/>
            </a:avLst>
          </a:prstGeom>
          <a:solidFill>
            <a:srgbClr val="4c6d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54520" y="4076640"/>
            <a:ext cx="17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se subdivide 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238880" y="3213000"/>
            <a:ext cx="138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ertenece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Bases de Datos Relacionales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Cursos y Alumn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781440" y="3357720"/>
            <a:ext cx="457200" cy="4572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249880" y="3370320"/>
            <a:ext cx="152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omputaci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213440" y="4724280"/>
            <a:ext cx="95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I. Roj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273480" y="4148280"/>
            <a:ext cx="457200" cy="4572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774520" y="4653000"/>
            <a:ext cx="122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D. Salin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187880" y="4148280"/>
            <a:ext cx="457200" cy="4572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284720" y="2492280"/>
            <a:ext cx="457200" cy="4572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718880" y="2492280"/>
            <a:ext cx="9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urs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861080" y="3357720"/>
            <a:ext cx="457200" cy="4572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991600" y="335772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Ingl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9" name=""/>
          <p:cNvCxnSpPr>
            <a:stCxn id="215" idx="4"/>
            <a:endCxn id="209" idx="0"/>
          </p:cNvCxnSpPr>
          <p:nvPr/>
        </p:nvCxnSpPr>
        <p:spPr>
          <a:xfrm flipH="1">
            <a:off x="4009680" y="2949480"/>
            <a:ext cx="504000" cy="408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20" name=""/>
          <p:cNvCxnSpPr>
            <a:stCxn id="209" idx="4"/>
            <a:endCxn id="212" idx="0"/>
          </p:cNvCxnSpPr>
          <p:nvPr/>
        </p:nvCxnSpPr>
        <p:spPr>
          <a:xfrm flipH="1">
            <a:off x="3501360" y="3814920"/>
            <a:ext cx="5086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21" name=""/>
          <p:cNvCxnSpPr>
            <a:stCxn id="209" idx="4"/>
            <a:endCxn id="214" idx="0"/>
          </p:cNvCxnSpPr>
          <p:nvPr/>
        </p:nvCxnSpPr>
        <p:spPr>
          <a:xfrm>
            <a:off x="4009680" y="3814920"/>
            <a:ext cx="40716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22" name=""/>
          <p:cNvCxnSpPr>
            <a:stCxn id="215" idx="4"/>
            <a:endCxn id="217" idx="0"/>
          </p:cNvCxnSpPr>
          <p:nvPr/>
        </p:nvCxnSpPr>
        <p:spPr>
          <a:xfrm>
            <a:off x="4512960" y="2949480"/>
            <a:ext cx="577080" cy="408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23" name=""/>
          <p:cNvSpPr/>
          <p:nvPr/>
        </p:nvSpPr>
        <p:spPr>
          <a:xfrm rot="10800000">
            <a:off x="2410920" y="3499920"/>
            <a:ext cx="358920" cy="1079640"/>
          </a:xfrm>
          <a:prstGeom prst="downArrow">
            <a:avLst>
              <a:gd name="adj1" fmla="val 50000"/>
              <a:gd name="adj2" fmla="val 75201"/>
            </a:avLst>
          </a:prstGeom>
          <a:solidFill>
            <a:srgbClr val="4c6d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974160" y="3860640"/>
            <a:ext cx="143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toman cur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804000" y="3500280"/>
            <a:ext cx="358920" cy="1079640"/>
          </a:xfrm>
          <a:prstGeom prst="downArrow">
            <a:avLst>
              <a:gd name="adj1" fmla="val 50000"/>
              <a:gd name="adj2" fmla="val 75201"/>
            </a:avLst>
          </a:prstGeom>
          <a:solidFill>
            <a:srgbClr val="4c6d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097400" y="3716280"/>
            <a:ext cx="159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tiene alumn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4416120" y="3814920"/>
            <a:ext cx="2891160" cy="2206440"/>
            <a:chOff x="4416120" y="3814920"/>
            <a:chExt cx="2891160" cy="2206440"/>
          </a:xfrm>
        </p:grpSpPr>
        <p:cxnSp>
          <p:nvCxnSpPr>
            <p:cNvPr id="228" name=""/>
            <p:cNvCxnSpPr>
              <a:stCxn id="217" idx="4"/>
              <a:endCxn id="214" idx="0"/>
            </p:cNvCxnSpPr>
            <p:nvPr/>
          </p:nvCxnSpPr>
          <p:spPr>
            <a:xfrm flipH="1">
              <a:off x="4416120" y="3814920"/>
              <a:ext cx="673920" cy="33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229" name=""/>
            <p:cNvSpPr/>
            <p:nvPr/>
          </p:nvSpPr>
          <p:spPr>
            <a:xfrm>
              <a:off x="5435640" y="4941720"/>
              <a:ext cx="1871640" cy="1079640"/>
            </a:xfrm>
            <a:prstGeom prst="irregularSeal1">
              <a:avLst/>
            </a:prstGeom>
            <a:solidFill>
              <a:srgbClr val="4c6d4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ffffff"/>
                  </a:solidFill>
                  <a:latin typeface="Arial"/>
                </a:rPr>
                <a:t>Ya no ha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ffffff"/>
                  </a:solidFill>
                  <a:latin typeface="Arial"/>
                </a:rPr>
                <a:t>redundanci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¿</a:t>
            </a:r>
            <a:r>
              <a:rPr b="0" lang="es-ES_tradnl" sz="3400" spc="-1" strike="noStrike">
                <a:solidFill>
                  <a:srgbClr val="003399"/>
                </a:solidFill>
                <a:latin typeface="Arial"/>
              </a:rPr>
              <a:t>C</a:t>
            </a:r>
            <a:r>
              <a:rPr b="0" lang="es-ES_tradnl" sz="3400" spc="-1" strike="noStrike">
                <a:solidFill>
                  <a:srgbClr val="003399"/>
                </a:solidFill>
                <a:latin typeface="Arial"/>
                <a:ea typeface="ＭＳ Ｐゴシック"/>
              </a:rPr>
              <a:t>ómo se representa la información?</a:t>
            </a:r>
            <a:endParaRPr b="0" lang="en-US" sz="3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Como tablas compuestas de tuplas (filas) y atributos (columnas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En el ejemplo, cada fila representa a un alumn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Una tabla puede representarse como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lumno(nombre,apellido,eda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2317680" y="2708280"/>
          <a:ext cx="4175280" cy="1400040"/>
        </p:xfrm>
        <a:graphic>
          <a:graphicData uri="http://schemas.openxmlformats.org/drawingml/2006/table">
            <a:tbl>
              <a:tblPr/>
              <a:tblGrid>
                <a:gridCol w="1638360"/>
                <a:gridCol w="1581120"/>
                <a:gridCol w="955800"/>
              </a:tblGrid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mbr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llid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da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uel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nard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ancisca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und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33" name=""/>
          <p:cNvGrpSpPr/>
          <p:nvPr/>
        </p:nvGrpSpPr>
        <p:grpSpPr>
          <a:xfrm>
            <a:off x="2317680" y="3160800"/>
            <a:ext cx="5783400" cy="900000"/>
            <a:chOff x="2317680" y="3160800"/>
            <a:chExt cx="5783400" cy="900000"/>
          </a:xfrm>
        </p:grpSpPr>
        <p:sp>
          <p:nvSpPr>
            <p:cNvPr id="234" name=""/>
            <p:cNvSpPr/>
            <p:nvPr/>
          </p:nvSpPr>
          <p:spPr>
            <a:xfrm>
              <a:off x="2317680" y="3160800"/>
              <a:ext cx="4176720" cy="44604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7070760" y="3645000"/>
              <a:ext cx="1030320" cy="415800"/>
            </a:xfrm>
            <a:prstGeom prst="wedgeRectCallout">
              <a:avLst>
                <a:gd name="adj1" fmla="val -106087"/>
                <a:gd name="adj2" fmla="val -112212"/>
              </a:avLst>
            </a:prstGeom>
            <a:solidFill>
              <a:srgbClr val="ff0000">
                <a:alpha val="43000"/>
              </a:srgbClr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ahoma"/>
                </a:rPr>
                <a:t>Tupl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662040" y="3141720"/>
            <a:ext cx="3313080" cy="966600"/>
            <a:chOff x="662040" y="3141720"/>
            <a:chExt cx="3313080" cy="966600"/>
          </a:xfrm>
        </p:grpSpPr>
        <p:sp>
          <p:nvSpPr>
            <p:cNvPr id="237" name=""/>
            <p:cNvSpPr/>
            <p:nvPr/>
          </p:nvSpPr>
          <p:spPr>
            <a:xfrm>
              <a:off x="2319480" y="3141720"/>
              <a:ext cx="1655640" cy="96660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62040" y="3500280"/>
              <a:ext cx="1368360" cy="403560"/>
            </a:xfrm>
            <a:prstGeom prst="wedgeRectCallout">
              <a:avLst>
                <a:gd name="adj1" fmla="val 69606"/>
                <a:gd name="adj2" fmla="val 11023"/>
              </a:avLst>
            </a:prstGeom>
            <a:solidFill>
              <a:srgbClr val="ff0000">
                <a:alpha val="43000"/>
              </a:srgbClr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ahoma"/>
                </a:rPr>
                <a:t>Atribut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Relaciones entre Tablas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De la misma manera que se usan tablas para mantener datos, se pueden especificar tablas que mantengan las relacion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611280" y="3213000"/>
          <a:ext cx="2952720" cy="1065240"/>
        </p:xfrm>
        <a:graphic>
          <a:graphicData uri="http://schemas.openxmlformats.org/drawingml/2006/table">
            <a:tbl>
              <a:tblPr/>
              <a:tblGrid>
                <a:gridCol w="1224000"/>
                <a:gridCol w="1008000"/>
                <a:gridCol w="7207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mb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lli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da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u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nar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ancis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2" name=""/>
          <p:cNvGraphicFramePr/>
          <p:nvPr/>
        </p:nvGraphicFramePr>
        <p:xfrm>
          <a:off x="6156360" y="4869000"/>
          <a:ext cx="2520720" cy="1004760"/>
        </p:xfrm>
        <a:graphic>
          <a:graphicData uri="http://schemas.openxmlformats.org/drawingml/2006/table">
            <a:tbl>
              <a:tblPr/>
              <a:tblGrid>
                <a:gridCol w="1441440"/>
                <a:gridCol w="10792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mb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ódig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ut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U-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g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G-I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3" name=""/>
          <p:cNvGraphicFramePr/>
          <p:nvPr/>
        </p:nvGraphicFramePr>
        <p:xfrm>
          <a:off x="4067280" y="3645000"/>
          <a:ext cx="1726920" cy="1339920"/>
        </p:xfrm>
        <a:graphic>
          <a:graphicData uri="http://schemas.openxmlformats.org/drawingml/2006/table">
            <a:tbl>
              <a:tblPr/>
              <a:tblGrid>
                <a:gridCol w="936360"/>
                <a:gridCol w="790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um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urs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4" name=""/>
          <p:cNvSpPr/>
          <p:nvPr/>
        </p:nvSpPr>
        <p:spPr>
          <a:xfrm>
            <a:off x="6516720" y="3573360"/>
            <a:ext cx="2016000" cy="403200"/>
          </a:xfrm>
          <a:prstGeom prst="wedgeRectCallout">
            <a:avLst>
              <a:gd name="adj1" fmla="val -85907"/>
              <a:gd name="adj2" fmla="val 9055"/>
            </a:avLst>
          </a:prstGeom>
          <a:solidFill>
            <a:srgbClr val="ff0000">
              <a:alpha val="43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Tabla de Rel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3492000" y="3716280"/>
            <a:ext cx="1195920" cy="533520"/>
            <a:chOff x="3492000" y="3716280"/>
            <a:chExt cx="1195920" cy="533520"/>
          </a:xfrm>
        </p:grpSpPr>
        <p:sp>
          <p:nvSpPr>
            <p:cNvPr id="246" name=""/>
            <p:cNvSpPr/>
            <p:nvPr/>
          </p:nvSpPr>
          <p:spPr>
            <a:xfrm>
              <a:off x="4471920" y="4033800"/>
              <a:ext cx="216000" cy="21600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 flipH="1" flipV="1">
              <a:off x="3492000" y="3716280"/>
              <a:ext cx="1079640" cy="433440"/>
            </a:xfrm>
            <a:prstGeom prst="line">
              <a:avLst/>
            </a:prstGeom>
            <a:ln w="50760">
              <a:solidFill>
                <a:srgbClr val="009999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8" name=""/>
          <p:cNvGrpSpPr/>
          <p:nvPr/>
        </p:nvGrpSpPr>
        <p:grpSpPr>
          <a:xfrm>
            <a:off x="3492360" y="3716280"/>
            <a:ext cx="1224000" cy="1224000"/>
            <a:chOff x="3492360" y="3716280"/>
            <a:chExt cx="1224000" cy="1224000"/>
          </a:xfrm>
        </p:grpSpPr>
        <p:sp>
          <p:nvSpPr>
            <p:cNvPr id="249" name=""/>
            <p:cNvSpPr/>
            <p:nvPr/>
          </p:nvSpPr>
          <p:spPr>
            <a:xfrm>
              <a:off x="4500720" y="4724280"/>
              <a:ext cx="215640" cy="21600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 flipV="1">
              <a:off x="3492360" y="3716280"/>
              <a:ext cx="1108080" cy="1123920"/>
            </a:xfrm>
            <a:prstGeom prst="line">
              <a:avLst/>
            </a:prstGeom>
            <a:ln w="50760">
              <a:solidFill>
                <a:srgbClr val="009999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5292720" y="4038480"/>
            <a:ext cx="934920" cy="1335240"/>
            <a:chOff x="5292720" y="4038480"/>
            <a:chExt cx="934920" cy="1335240"/>
          </a:xfrm>
        </p:grpSpPr>
        <p:sp>
          <p:nvSpPr>
            <p:cNvPr id="252" name=""/>
            <p:cNvSpPr/>
            <p:nvPr/>
          </p:nvSpPr>
          <p:spPr>
            <a:xfrm>
              <a:off x="5292720" y="4038480"/>
              <a:ext cx="216000" cy="21600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392800" y="4154400"/>
              <a:ext cx="834840" cy="1219320"/>
            </a:xfrm>
            <a:prstGeom prst="line">
              <a:avLst/>
            </a:prstGeom>
            <a:ln w="50760">
              <a:solidFill>
                <a:srgbClr val="009999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3502080" y="4047840"/>
            <a:ext cx="1195200" cy="533520"/>
            <a:chOff x="3502080" y="4047840"/>
            <a:chExt cx="1195200" cy="533520"/>
          </a:xfrm>
        </p:grpSpPr>
        <p:sp>
          <p:nvSpPr>
            <p:cNvPr id="255" name=""/>
            <p:cNvSpPr/>
            <p:nvPr/>
          </p:nvSpPr>
          <p:spPr>
            <a:xfrm>
              <a:off x="4481640" y="4365720"/>
              <a:ext cx="215640" cy="21564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 flipH="1" flipV="1">
              <a:off x="3502080" y="4047840"/>
              <a:ext cx="1069920" cy="460440"/>
            </a:xfrm>
            <a:prstGeom prst="line">
              <a:avLst/>
            </a:prstGeom>
            <a:ln w="50760">
              <a:solidFill>
                <a:srgbClr val="009999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5302080" y="4394160"/>
            <a:ext cx="925560" cy="979560"/>
            <a:chOff x="5302080" y="4394160"/>
            <a:chExt cx="925560" cy="979560"/>
          </a:xfrm>
        </p:grpSpPr>
        <p:sp>
          <p:nvSpPr>
            <p:cNvPr id="258" name=""/>
            <p:cNvSpPr/>
            <p:nvPr/>
          </p:nvSpPr>
          <p:spPr>
            <a:xfrm>
              <a:off x="5302080" y="4394160"/>
              <a:ext cx="216000" cy="21600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402160" y="4510080"/>
              <a:ext cx="825480" cy="863640"/>
            </a:xfrm>
            <a:prstGeom prst="line">
              <a:avLst/>
            </a:prstGeom>
            <a:ln w="50760">
              <a:solidFill>
                <a:srgbClr val="009999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0" name=""/>
          <p:cNvGrpSpPr/>
          <p:nvPr/>
        </p:nvGrpSpPr>
        <p:grpSpPr>
          <a:xfrm>
            <a:off x="5321160" y="4724280"/>
            <a:ext cx="906480" cy="1009800"/>
            <a:chOff x="5321160" y="4724280"/>
            <a:chExt cx="906480" cy="1009800"/>
          </a:xfrm>
        </p:grpSpPr>
        <p:sp>
          <p:nvSpPr>
            <p:cNvPr id="261" name=""/>
            <p:cNvSpPr/>
            <p:nvPr/>
          </p:nvSpPr>
          <p:spPr>
            <a:xfrm>
              <a:off x="5321160" y="4724280"/>
              <a:ext cx="216000" cy="21600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421240" y="4840200"/>
              <a:ext cx="806400" cy="893880"/>
            </a:xfrm>
            <a:prstGeom prst="line">
              <a:avLst/>
            </a:prstGeom>
            <a:ln w="50760">
              <a:solidFill>
                <a:srgbClr val="009999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Modelo Relacional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Para identificar únicamente una tupla se utilizan las llaves primari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Un valor que no puede repetir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Ejemplos: ¿Personas? ¿Autos? ¿Cursos?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Los atributos se caracterizan por tener un nombre y un dominio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El dominio dice que tipo de información puede especificarse para ese atribut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Identificadores y dominios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413080" y="2997360"/>
            <a:ext cx="2016000" cy="1008000"/>
          </a:xfrm>
          <a:prstGeom prst="rect">
            <a:avLst/>
          </a:prstGeom>
          <a:solidFill>
            <a:srgbClr val="ff0000">
              <a:alpha val="3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413080" y="4724280"/>
            <a:ext cx="1584360" cy="936720"/>
          </a:xfrm>
          <a:prstGeom prst="wedgeRectCallout">
            <a:avLst>
              <a:gd name="adj1" fmla="val 9018"/>
              <a:gd name="adj2" fmla="val -122879"/>
            </a:avLst>
          </a:prstGeom>
          <a:solidFill>
            <a:srgbClr val="ff0000">
              <a:alpha val="43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omini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adena de Caracte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476360" y="1700280"/>
            <a:ext cx="1800360" cy="403200"/>
          </a:xfrm>
          <a:prstGeom prst="wedgeRectCallout">
            <a:avLst>
              <a:gd name="adj1" fmla="val -12435"/>
              <a:gd name="adj2" fmla="val 158662"/>
            </a:avLst>
          </a:prstGeom>
          <a:solidFill>
            <a:srgbClr val="ff0000">
              <a:alpha val="43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Identifica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9" name=""/>
          <p:cNvGraphicFramePr/>
          <p:nvPr/>
        </p:nvGraphicFramePr>
        <p:xfrm>
          <a:off x="1908000" y="2552760"/>
          <a:ext cx="4978440" cy="1466640"/>
        </p:xfrm>
        <a:graphic>
          <a:graphicData uri="http://schemas.openxmlformats.org/drawingml/2006/table">
            <a:tbl>
              <a:tblPr/>
              <a:tblGrid>
                <a:gridCol w="504720"/>
                <a:gridCol w="1984320"/>
                <a:gridCol w="1544760"/>
                <a:gridCol w="944640"/>
              </a:tblGrid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mbr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llid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da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</a:tr>
              <a:tr h="51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uel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nard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ancisca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und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0" name=""/>
          <p:cNvSpPr/>
          <p:nvPr/>
        </p:nvSpPr>
        <p:spPr>
          <a:xfrm>
            <a:off x="4429080" y="2997360"/>
            <a:ext cx="1511280" cy="1008000"/>
          </a:xfrm>
          <a:prstGeom prst="rect">
            <a:avLst/>
          </a:prstGeom>
          <a:solidFill>
            <a:srgbClr val="ff0000">
              <a:alpha val="3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5940360" y="2997360"/>
            <a:ext cx="936720" cy="1008000"/>
          </a:xfrm>
          <a:prstGeom prst="rect">
            <a:avLst/>
          </a:prstGeom>
          <a:solidFill>
            <a:srgbClr val="ff0000">
              <a:alpha val="3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429080" y="4724280"/>
            <a:ext cx="1584360" cy="936720"/>
          </a:xfrm>
          <a:prstGeom prst="wedgeRectCallout">
            <a:avLst>
              <a:gd name="adj1" fmla="val -11625"/>
              <a:gd name="adj2" fmla="val -124236"/>
            </a:avLst>
          </a:prstGeom>
          <a:solidFill>
            <a:srgbClr val="ff0000">
              <a:alpha val="43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omini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adena de Caracte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445080" y="4581360"/>
            <a:ext cx="1584360" cy="935280"/>
          </a:xfrm>
          <a:prstGeom prst="wedgeRectCallout">
            <a:avLst>
              <a:gd name="adj1" fmla="val -52305"/>
              <a:gd name="adj2" fmla="val -108402"/>
            </a:avLst>
          </a:prstGeom>
          <a:solidFill>
            <a:srgbClr val="ff0000">
              <a:alpha val="43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omini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nteros positi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Acerca de los dominios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Deben ser “atómicos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Su valor no puede ser dividido en dominios más simp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Ejemplo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Persona(nombre, apellido, hijos) </a:t>
            </a:r>
            <a:r>
              <a:rPr b="0" lang="es-ES_tradnl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mal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¡Una persona puede tener más de un hijo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¿Ej. correcto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60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ersona(*id, nombre, apellid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60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Hijos(*id_persona, *id_hijo, nombre, apellid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Conceptos Básicos: Datos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090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¿Qué es un Dato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Conjunto de caracteres con algún significad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¿Qué es una Base de Datos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Colección ordenada de dat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Generalmente pertenecientes al mismo contex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Organizados de tal forma que puedan ser consultados posteriormen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Modelo Entidad-Relación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Permite “diagramar” una B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Además de las entidades tenemos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1"/>
          <a:stretch/>
        </p:blipFill>
        <p:spPr>
          <a:xfrm>
            <a:off x="2627280" y="2349360"/>
            <a:ext cx="374508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Modelo Entidad-Relación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Arial"/>
              </a:rPr>
              <a:t>Atribut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Propiedades o características de las entidad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Existen varios tip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Obligatorios: tienen que tener un valor (nombre, fecha nacimient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Opcionales: pueden no tener ningún valor (nro. cuenta corriente, código post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3635280" y="3789360"/>
            <a:ext cx="720360" cy="360360"/>
            <a:chOff x="3635280" y="3789360"/>
            <a:chExt cx="720360" cy="360360"/>
          </a:xfrm>
        </p:grpSpPr>
        <p:sp>
          <p:nvSpPr>
            <p:cNvPr id="282" name=""/>
            <p:cNvSpPr/>
            <p:nvPr/>
          </p:nvSpPr>
          <p:spPr>
            <a:xfrm>
              <a:off x="3635280" y="3789360"/>
              <a:ext cx="384480" cy="36036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019760" y="3994200"/>
              <a:ext cx="335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3635280" y="5229360"/>
            <a:ext cx="720360" cy="358560"/>
            <a:chOff x="3635280" y="5229360"/>
            <a:chExt cx="720360" cy="358560"/>
          </a:xfrm>
        </p:grpSpPr>
        <p:sp>
          <p:nvSpPr>
            <p:cNvPr id="285" name=""/>
            <p:cNvSpPr/>
            <p:nvPr/>
          </p:nvSpPr>
          <p:spPr>
            <a:xfrm>
              <a:off x="4019760" y="5382360"/>
              <a:ext cx="335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3635280" y="5229360"/>
              <a:ext cx="384480" cy="35856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Modelo Entidad-Relación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Relacio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Vinculación o correspondencia entre entidad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Ej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19640" y="2781360"/>
            <a:ext cx="504720" cy="431640"/>
          </a:xfrm>
          <a:prstGeom prst="flowChartDecision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" descr="Interrelación regular"/>
          <p:cNvPicPr/>
          <p:nvPr/>
        </p:nvPicPr>
        <p:blipFill>
          <a:blip r:embed="rId1"/>
          <a:stretch/>
        </p:blipFill>
        <p:spPr>
          <a:xfrm>
            <a:off x="2268360" y="3573360"/>
            <a:ext cx="3888000" cy="23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Modelo Entidad-Relación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Cardinalid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Número</a:t>
            </a: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 máximo y mínimo de ejemplares de una entidad que pueden estar asociados, mediante una determinada relación, con un ejemplar de otra entid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Pueden ser de la siguiente forma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(0,n), (n,0), (1,n), (n,1), (0,1), (1,0), (0,0) ó (n,n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" descr="Cardinalidad"/>
          <p:cNvPicPr/>
          <p:nvPr/>
        </p:nvPicPr>
        <p:blipFill>
          <a:blip r:embed="rId1"/>
          <a:stretch/>
        </p:blipFill>
        <p:spPr>
          <a:xfrm>
            <a:off x="1116000" y="4869000"/>
            <a:ext cx="6985080" cy="11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Metodología de Diseño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do un problem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dentificar las entidad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dentificar las relacion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dentificar los atributos y asociarlos a entidades y relacion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terminar los dominios de los atribut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terminar los identificado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bujar el diagrama entidad-relació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visar el esquema conceptual local con el problema inicial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petir si algo falta o no está completamente correct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Ejemplo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 desea recoger en una base de datos la información acerca de las corridas de toros que se celebran en España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 desea tener información acerca de cada corrida, identificada conjuntamente por un número de orden, la feria en la que se celebra y el año de celebración (por ejemplo: orden = 2, feria = San Isidro, Año = 1999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 una corrida actúan una serie de toreros (mínimo 1 y máximo 3) de los que desea guardar su DNI, nombre, apodo y fecha en que se convirtió en matador de toro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demás se desea saber quien fue el torero que lo apadrinó ese día (un torero puede apadrinar a varios toreros o a ninguno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Ejemplo (cont.)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 cada corrida, un torero obtiene una serie de premios (orejas, rabos y si salió por la puerta grande o no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da torero puede tener un apoderado del que es protegido. A su vez, un apoderado puede proteger a varios toreros. De cada apoderado se desea saber su DNI, nombre, dirección y teléfono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na corrida se celebra en una plaza de toros de la que se desea saber su nombre que se supone único, localidad y dirección. En una misma plaza se pueden celebrar varias corridas de toro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Ejemplo (cont.)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69960" indent="-32544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n cada corrida son estoqueados al menos 6 toros. Cada toro viene identificado por el código de la ganadería a la que pertenece, el año en que nació y un número de orden. Además se desea mantener información acerca de su nombre y color así como el orden en que fue toread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da toro pertenece a una ganadería determinada. De cada ganadería se pretende saber su código, localidad y fecha de creació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Solución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303" name="" descr="Entidad-relación de los amigos de la Fiesta"/>
          <p:cNvPicPr/>
          <p:nvPr/>
        </p:nvPicPr>
        <p:blipFill>
          <a:blip r:embed="rId1"/>
          <a:stretch/>
        </p:blipFill>
        <p:spPr>
          <a:xfrm>
            <a:off x="611280" y="887400"/>
            <a:ext cx="7921440" cy="52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3399"/>
                </a:solidFill>
                <a:latin typeface="Arial"/>
              </a:rPr>
              <a:t>Ejemplo conjunto: </a:t>
            </a:r>
            <a:br>
              <a:rPr sz="3800"/>
            </a:br>
            <a:r>
              <a:rPr b="0" lang="es-ES_tradnl" sz="3800" spc="-1" strike="noStrike">
                <a:solidFill>
                  <a:srgbClr val="003399"/>
                </a:solidFill>
                <a:latin typeface="Arial"/>
              </a:rPr>
              <a:t>alumnos, profesores y cursos</a:t>
            </a:r>
            <a:endParaRPr b="0" lang="en-US" sz="3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Proces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Modelo E-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Tabl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Y ahora, ¿cómo consultamos la información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3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Conceptos Básicos: SGBD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¿Qué es un SGBD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sistema gestor de la base de datos)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Es un programa que se ubica entre los usuarios y los datos como ta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¿Cuál es su utilidad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Evita la interacción directa con la informació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Permite un acceso a la información a nivel lógic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Permite un mayor grado de independencia entre las aplicaciones y la información físic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SQL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SQL = Structured Query Languag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Estructura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eleccionar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iertos campos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sde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iertas tabl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uando se cumplan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iertas condi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Ejemplo</a:t>
            </a:r>
            <a:r>
              <a:rPr b="1" lang="es-ES_tradnl" sz="2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eleccionar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nombre y apellido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sde tabla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Alumn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uando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la edad sea mayor a 18 añ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SQL: Sintaxis real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0224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ELECT A.nombre, A.apelli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FROM Alumnos as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WHERE A.edad&gt;1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Ejercici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Seleccionar los nombres de todos los cursos que son dictados el 2do semestre del año 2008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Un ejemplo más complejo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Encontrar nombre y apellido de todos los alumnos que est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án tomando el curso llamado “Computación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La consulta…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Select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a.nombre, a.apellid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From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Alumnos as a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Curso as c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TomaCurso as t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Wher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c.nombre = “Computación” a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c.id = tc.curso a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tc.alumno = a.i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Que pasa debido a la consulta…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315" name=""/>
          <p:cNvGraphicFramePr/>
          <p:nvPr/>
        </p:nvGraphicFramePr>
        <p:xfrm>
          <a:off x="1116000" y="2924280"/>
          <a:ext cx="2881440" cy="1064880"/>
        </p:xfrm>
        <a:graphic>
          <a:graphicData uri="http://schemas.openxmlformats.org/drawingml/2006/table">
            <a:tbl>
              <a:tblPr/>
              <a:tblGrid>
                <a:gridCol w="505080"/>
                <a:gridCol w="1295280"/>
                <a:gridCol w="10810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mb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lli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u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nar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ancis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16" name=""/>
          <p:cNvGraphicFramePr/>
          <p:nvPr/>
        </p:nvGraphicFramePr>
        <p:xfrm>
          <a:off x="2050920" y="4581360"/>
          <a:ext cx="2016000" cy="1065240"/>
        </p:xfrm>
        <a:graphic>
          <a:graphicData uri="http://schemas.openxmlformats.org/drawingml/2006/table">
            <a:tbl>
              <a:tblPr/>
              <a:tblGrid>
                <a:gridCol w="431640"/>
                <a:gridCol w="15843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mb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utaci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g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17" name=""/>
          <p:cNvGraphicFramePr/>
          <p:nvPr/>
        </p:nvGraphicFramePr>
        <p:xfrm>
          <a:off x="5003640" y="3213000"/>
          <a:ext cx="1873080" cy="1460520"/>
        </p:xfrm>
        <a:graphic>
          <a:graphicData uri="http://schemas.openxmlformats.org/drawingml/2006/table">
            <a:tbl>
              <a:tblPr/>
              <a:tblGrid>
                <a:gridCol w="1009440"/>
                <a:gridCol w="8636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um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urs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Identificadores con “a” para alumnos y “c” para cursos, así se entiende mej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400" spc="-1" strike="noStrike">
                <a:solidFill>
                  <a:srgbClr val="003399"/>
                </a:solidFill>
                <a:latin typeface="Arial"/>
              </a:rPr>
              <a:t>“</a:t>
            </a:r>
            <a:r>
              <a:rPr b="0" lang="es-CL" sz="2600" spc="-1" strike="noStrike">
                <a:solidFill>
                  <a:srgbClr val="003399"/>
                </a:solidFill>
                <a:latin typeface="Arial"/>
              </a:rPr>
              <a:t>From Alumnos as a, Curso as c,TomaCurso as tc” implica la combinación de </a:t>
            </a:r>
            <a:r>
              <a:rPr b="1" lang="es-CL" sz="2600" spc="-1" strike="noStrike">
                <a:solidFill>
                  <a:srgbClr val="003399"/>
                </a:solidFill>
                <a:latin typeface="Arial"/>
              </a:rPr>
              <a:t>TODO con TODO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320" name=""/>
          <p:cNvGraphicFramePr/>
          <p:nvPr/>
        </p:nvGraphicFramePr>
        <p:xfrm>
          <a:off x="900000" y="1557360"/>
          <a:ext cx="7272360" cy="4360680"/>
        </p:xfrm>
        <a:graphic>
          <a:graphicData uri="http://schemas.openxmlformats.org/drawingml/2006/table">
            <a:tbl>
              <a:tblPr/>
              <a:tblGrid>
                <a:gridCol w="586080"/>
                <a:gridCol w="1223640"/>
                <a:gridCol w="1152720"/>
                <a:gridCol w="574560"/>
                <a:gridCol w="1585800"/>
                <a:gridCol w="1151280"/>
                <a:gridCol w="9982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.i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.nomb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.apelli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.i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.nomb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c.alum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c.curs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u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nar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ut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u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nar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ut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u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nar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ut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u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nar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glé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u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nar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glé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u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nar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glé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ancis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u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ut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ancis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u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ut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ancis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u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ut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ancis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u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glé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ancis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u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glé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ancis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u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glé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where c.nombre = “Computación”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322" name=""/>
          <p:cNvGraphicFramePr/>
          <p:nvPr/>
        </p:nvGraphicFramePr>
        <p:xfrm>
          <a:off x="900000" y="1557360"/>
          <a:ext cx="7272360" cy="4360680"/>
        </p:xfrm>
        <a:graphic>
          <a:graphicData uri="http://schemas.openxmlformats.org/drawingml/2006/table">
            <a:tbl>
              <a:tblPr/>
              <a:tblGrid>
                <a:gridCol w="586080"/>
                <a:gridCol w="1223640"/>
                <a:gridCol w="1152720"/>
                <a:gridCol w="574560"/>
                <a:gridCol w="1585800"/>
                <a:gridCol w="1151280"/>
                <a:gridCol w="9982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.i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.nomb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.apelli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.i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.nomb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c.alum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c.curs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u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nar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ut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u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nar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ut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u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nar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ut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Manu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Vernar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nglé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Manu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Vernar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nglé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Manu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Vernar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nglé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ancis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u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ut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ancis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u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ut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ancis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u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ut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Francis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Lu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nglé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Francis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Lu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nglé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Francis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Lu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nglé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and c.id =  tc.curso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324" name=""/>
          <p:cNvGraphicFramePr/>
          <p:nvPr/>
        </p:nvGraphicFramePr>
        <p:xfrm>
          <a:off x="900000" y="1557360"/>
          <a:ext cx="7272360" cy="2351160"/>
        </p:xfrm>
        <a:graphic>
          <a:graphicData uri="http://schemas.openxmlformats.org/drawingml/2006/table">
            <a:tbl>
              <a:tblPr/>
              <a:tblGrid>
                <a:gridCol w="586080"/>
                <a:gridCol w="1223640"/>
                <a:gridCol w="1152720"/>
                <a:gridCol w="574560"/>
                <a:gridCol w="1585800"/>
                <a:gridCol w="1151280"/>
                <a:gridCol w="9982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.i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.nomb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.apelli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.i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.nomb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c.alum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c.curs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u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nar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ut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Manu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Vernar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omput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Manu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Vernar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omput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ancis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u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ut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Francis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Lu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omput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Francis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Lu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omput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and tc.alumno =  a.id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326" name=""/>
          <p:cNvGraphicFramePr/>
          <p:nvPr/>
        </p:nvGraphicFramePr>
        <p:xfrm>
          <a:off x="900000" y="1557360"/>
          <a:ext cx="7272360" cy="1011240"/>
        </p:xfrm>
        <a:graphic>
          <a:graphicData uri="http://schemas.openxmlformats.org/drawingml/2006/table">
            <a:tbl>
              <a:tblPr/>
              <a:tblGrid>
                <a:gridCol w="586080"/>
                <a:gridCol w="1223640"/>
                <a:gridCol w="1152720"/>
                <a:gridCol w="574560"/>
                <a:gridCol w="1585800"/>
                <a:gridCol w="1151280"/>
                <a:gridCol w="9982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.i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.nomb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.apelli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.i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.nomb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c.alum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c.curs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u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nar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ut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Francis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Lu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omput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select a.nombre, a.apellido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328" name=""/>
          <p:cNvGraphicFramePr/>
          <p:nvPr/>
        </p:nvGraphicFramePr>
        <p:xfrm>
          <a:off x="900000" y="1557360"/>
          <a:ext cx="7272360" cy="676080"/>
        </p:xfrm>
        <a:graphic>
          <a:graphicData uri="http://schemas.openxmlformats.org/drawingml/2006/table">
            <a:tbl>
              <a:tblPr/>
              <a:tblGrid>
                <a:gridCol w="586080"/>
                <a:gridCol w="1223640"/>
                <a:gridCol w="1152720"/>
                <a:gridCol w="574560"/>
                <a:gridCol w="1585800"/>
                <a:gridCol w="1151280"/>
                <a:gridCol w="9982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.i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.nomb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.apelli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.i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.nomb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c.alum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c.curs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</a:tr>
              <a:tr h="33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u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nar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omput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SGBD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539640" y="2205000"/>
            <a:ext cx="7643880" cy="23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Resultado Final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330" name=""/>
          <p:cNvGraphicFramePr/>
          <p:nvPr/>
        </p:nvGraphicFramePr>
        <p:xfrm>
          <a:off x="2843280" y="1557360"/>
          <a:ext cx="2376360" cy="676080"/>
        </p:xfrm>
        <a:graphic>
          <a:graphicData uri="http://schemas.openxmlformats.org/drawingml/2006/table">
            <a:tbl>
              <a:tblPr/>
              <a:tblGrid>
                <a:gridCol w="1223640"/>
                <a:gridCol w="11527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.nomb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.apelli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</a:tr>
              <a:tr h="33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u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nar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26920" y="2060280"/>
            <a:ext cx="7623360" cy="10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03399"/>
                </a:solidFill>
                <a:latin typeface="Arial"/>
              </a:rPr>
              <a:t>¿Preguntas?</a:t>
            </a:r>
            <a:endParaRPr b="0" lang="en-US" sz="5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Trabajo Práctico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Dibuje un modelo entidad-relación que modele la información de asociada a los pacientes de un centro médic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Su modelo, debe incluir al menos la siguiente información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acie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Visitas/consultas médic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xáme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Historial méd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Debe incluir las entidades y relaciones que estime conveniente, además de las correspondientes cardinalidad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Conceptos Básicos: SGBD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También sirve para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Reducir la redundancia en la B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Asegurar la consistencia de los dat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Mantener la integridad ante fallas (datos malos, fallas de hardware, cortes de luz, etc.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Proveer algún tipo de seguridad al acceder la B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Controlar el acceso concurren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Mejorar la eficienci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SGBD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51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DBMS Grati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 u="sng">
                <a:solidFill>
                  <a:srgbClr val="4c6d80"/>
                </a:solidFill>
                <a:uFillTx/>
                <a:latin typeface="Arial"/>
                <a:hlinkClick r:id="rId1"/>
              </a:rPr>
              <a:t>mySQ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 u="sng">
                <a:solidFill>
                  <a:srgbClr val="4c6d80"/>
                </a:solidFill>
                <a:uFillTx/>
                <a:latin typeface="Arial"/>
                <a:hlinkClick r:id="rId2"/>
              </a:rPr>
              <a:t>PostgreSQ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 u="sng">
                <a:solidFill>
                  <a:srgbClr val="4c6d80"/>
                </a:solidFill>
                <a:uFillTx/>
                <a:latin typeface="Arial"/>
                <a:hlinkClick r:id="rId3"/>
              </a:rPr>
              <a:t>Firebir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 u="sng">
                <a:solidFill>
                  <a:srgbClr val="4c6d80"/>
                </a:solidFill>
                <a:uFillTx/>
                <a:latin typeface="Arial"/>
                <a:hlinkClick r:id="rId4"/>
              </a:rPr>
              <a:t>SQLi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DBMS Comercia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Orac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MS Acc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MS SQL Serv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dB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Tipos de Bases de Datos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Una clasificación posible es dado el tipo de organización en la base de dat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BD Jer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árquic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BD de R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BD Relacional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Bases de Datos Jer</a:t>
            </a:r>
            <a:r>
              <a:rPr b="0" lang="es-ES_tradnl" sz="4200" spc="-1" strike="noStrike">
                <a:solidFill>
                  <a:srgbClr val="003399"/>
                </a:solidFill>
                <a:latin typeface="Arial"/>
                <a:ea typeface="ＭＳ Ｐゴシック"/>
              </a:rPr>
              <a:t>árquicas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4582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Estructura de árbol: nodo padre tiene muchos nodos hij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Pr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Muy eficiente pues los sistemas de archivo son jer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árquic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Contr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Relaciones son unidireccionales: 1: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Difícil evitar la redundancia </a:t>
            </a:r>
            <a:r>
              <a:rPr b="0" lang="es-ES_tradnl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 inconsistenci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Bases de Datos Jer</a:t>
            </a:r>
            <a:r>
              <a:rPr b="0" lang="es-ES_tradnl" sz="4200" spc="-1" strike="noStrike">
                <a:solidFill>
                  <a:srgbClr val="003399"/>
                </a:solidFill>
                <a:latin typeface="Arial"/>
                <a:ea typeface="ＭＳ Ｐゴシック"/>
              </a:rPr>
              <a:t>árquicas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Reino Anim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Cursos y Alumn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013440" y="3357720"/>
            <a:ext cx="457200" cy="4572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481880" y="3370320"/>
            <a:ext cx="152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omputaci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302520" y="4653000"/>
            <a:ext cx="95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I. Roj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505480" y="4148280"/>
            <a:ext cx="457200" cy="4572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934880" y="4653000"/>
            <a:ext cx="122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D. Salin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419880" y="4148280"/>
            <a:ext cx="457200" cy="4572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516720" y="2492280"/>
            <a:ext cx="457200" cy="4572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950880" y="2492280"/>
            <a:ext cx="9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urs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093080" y="3357720"/>
            <a:ext cx="457200" cy="4572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223600" y="335772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Ingl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719360" y="3429000"/>
            <a:ext cx="457200" cy="4572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927000" y="4365720"/>
            <a:ext cx="457200" cy="4572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719360" y="4292640"/>
            <a:ext cx="457200" cy="4572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2295360" y="2637000"/>
            <a:ext cx="1919880" cy="457200"/>
            <a:chOff x="2295360" y="2637000"/>
            <a:chExt cx="1919880" cy="457200"/>
          </a:xfrm>
        </p:grpSpPr>
        <p:sp>
          <p:nvSpPr>
            <p:cNvPr id="118" name=""/>
            <p:cNvSpPr/>
            <p:nvPr/>
          </p:nvSpPr>
          <p:spPr>
            <a:xfrm>
              <a:off x="2295360" y="2637000"/>
              <a:ext cx="457200" cy="45720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679840" y="2660760"/>
              <a:ext cx="1535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Reino Anim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326880" y="3500280"/>
            <a:ext cx="142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Vertebr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513160" y="4869000"/>
            <a:ext cx="126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Mam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fe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97520" y="4869000"/>
            <a:ext cx="8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e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434960" y="4797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Rept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440080" y="4365720"/>
            <a:ext cx="457200" cy="4572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871720" y="3440160"/>
            <a:ext cx="457200" cy="4572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255840" y="3463920"/>
            <a:ext cx="157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nvertebr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7" name=""/>
          <p:cNvCxnSpPr>
            <a:stCxn id="118" idx="4"/>
            <a:endCxn id="114" idx="0"/>
          </p:cNvCxnSpPr>
          <p:nvPr/>
        </p:nvCxnSpPr>
        <p:spPr>
          <a:xfrm flipH="1">
            <a:off x="1947960" y="3094200"/>
            <a:ext cx="57636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8" name=""/>
          <p:cNvCxnSpPr>
            <a:stCxn id="118" idx="4"/>
            <a:endCxn id="125" idx="0"/>
          </p:cNvCxnSpPr>
          <p:nvPr/>
        </p:nvCxnSpPr>
        <p:spPr>
          <a:xfrm>
            <a:off x="2523600" y="3093840"/>
            <a:ext cx="577080" cy="346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9" name=""/>
          <p:cNvCxnSpPr>
            <a:stCxn id="114" idx="4"/>
            <a:endCxn id="115" idx="0"/>
          </p:cNvCxnSpPr>
          <p:nvPr/>
        </p:nvCxnSpPr>
        <p:spPr>
          <a:xfrm flipH="1">
            <a:off x="1154880" y="3886200"/>
            <a:ext cx="793080" cy="480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0" name=""/>
          <p:cNvCxnSpPr>
            <a:stCxn id="114" idx="4"/>
            <a:endCxn id="116" idx="0"/>
          </p:cNvCxnSpPr>
          <p:nvPr/>
        </p:nvCxnSpPr>
        <p:spPr>
          <a:xfrm>
            <a:off x="1947600" y="3885840"/>
            <a:ext cx="1080" cy="407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1" name=""/>
          <p:cNvCxnSpPr>
            <a:stCxn id="114" idx="4"/>
            <a:endCxn id="124" idx="0"/>
          </p:cNvCxnSpPr>
          <p:nvPr/>
        </p:nvCxnSpPr>
        <p:spPr>
          <a:xfrm>
            <a:off x="1947960" y="3886200"/>
            <a:ext cx="721440" cy="480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2" name=""/>
          <p:cNvCxnSpPr>
            <a:stCxn id="110" idx="4"/>
            <a:endCxn id="104" idx="0"/>
          </p:cNvCxnSpPr>
          <p:nvPr/>
        </p:nvCxnSpPr>
        <p:spPr>
          <a:xfrm flipH="1">
            <a:off x="6241680" y="2949480"/>
            <a:ext cx="504000" cy="408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3" name=""/>
          <p:cNvCxnSpPr>
            <a:stCxn id="104" idx="4"/>
            <a:endCxn id="107" idx="0"/>
          </p:cNvCxnSpPr>
          <p:nvPr/>
        </p:nvCxnSpPr>
        <p:spPr>
          <a:xfrm flipH="1">
            <a:off x="5733360" y="3814920"/>
            <a:ext cx="5086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4" name=""/>
          <p:cNvCxnSpPr>
            <a:stCxn id="104" idx="4"/>
            <a:endCxn id="109" idx="0"/>
          </p:cNvCxnSpPr>
          <p:nvPr/>
        </p:nvCxnSpPr>
        <p:spPr>
          <a:xfrm>
            <a:off x="6241680" y="3814920"/>
            <a:ext cx="40716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5" name=""/>
          <p:cNvCxnSpPr>
            <a:stCxn id="110" idx="4"/>
            <a:endCxn id="112" idx="0"/>
          </p:cNvCxnSpPr>
          <p:nvPr/>
        </p:nvCxnSpPr>
        <p:spPr>
          <a:xfrm>
            <a:off x="6744960" y="2949480"/>
            <a:ext cx="577080" cy="408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136" name=""/>
          <p:cNvGrpSpPr/>
          <p:nvPr/>
        </p:nvGrpSpPr>
        <p:grpSpPr>
          <a:xfrm>
            <a:off x="7021440" y="3814920"/>
            <a:ext cx="1871640" cy="2278080"/>
            <a:chOff x="7021440" y="3814920"/>
            <a:chExt cx="1871640" cy="2278080"/>
          </a:xfrm>
        </p:grpSpPr>
        <p:cxnSp>
          <p:nvCxnSpPr>
            <p:cNvPr id="137" name=""/>
            <p:cNvCxnSpPr>
              <a:stCxn id="112" idx="4"/>
              <a:endCxn id="138" idx="0"/>
            </p:cNvCxnSpPr>
            <p:nvPr/>
          </p:nvCxnSpPr>
          <p:spPr>
            <a:xfrm>
              <a:off x="7321320" y="3814920"/>
              <a:ext cx="721440" cy="335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39" name=""/>
            <p:cNvSpPr/>
            <p:nvPr/>
          </p:nvSpPr>
          <p:spPr>
            <a:xfrm>
              <a:off x="7670880" y="4653000"/>
              <a:ext cx="95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I. Roj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813440" y="4149720"/>
              <a:ext cx="457200" cy="457200"/>
            </a:xfrm>
            <a:prstGeom prst="ellipse">
              <a:avLst/>
            </a:prstGeom>
            <a:solidFill>
              <a:srgbClr val="4c6d4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021440" y="5157720"/>
              <a:ext cx="1871640" cy="935280"/>
            </a:xfrm>
            <a:prstGeom prst="irregularSeal1">
              <a:avLst/>
            </a:prstGeom>
            <a:solidFill>
              <a:srgbClr val="4c6d4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ffffff"/>
                  </a:solidFill>
                  <a:latin typeface="Arial"/>
                </a:rPr>
                <a:t>Redundanci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3T01:09:36Z</dcterms:created>
  <dc:creator/>
  <dc:description/>
  <dc:language>en-US</dc:language>
  <cp:lastModifiedBy>rtoledo</cp:lastModifiedBy>
  <dcterms:modified xsi:type="dcterms:W3CDTF">2010-05-14T18:12:29Z</dcterms:modified>
  <cp:revision>240</cp:revision>
  <dc:subject/>
  <dc:title>Bases de Datos</dc:title>
</cp:coreProperties>
</file>