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8E589-8274-4B89-901D-5351A2328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B788A-2B38-4E1A-9FB0-58E074871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8DE32-B298-4E26-B620-051BE23BF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90A3-0EAC-4A72-B4F9-877F3F99C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E6EAA-D7F8-4B63-AC68-3B4B5C9C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151EC-5B55-4D93-9BE4-8ECE4858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14CF7-E3CC-4D97-AAFB-E218D9B4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03DB9-1177-41BE-A220-3BDAFB8B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C2F58-9F9D-43AE-9920-11549E7C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BAC37-C73D-410F-9FAF-952687BD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B54C5-FEE8-4718-B5D4-EEEE2CF8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FEC5-40F6-4B2B-877C-22C6A44D8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F6C21-D88B-4BD5-9599-64FA347D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9216F-98AD-4BEE-A724-28FDFB7E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4DA50-0D5F-43AD-979D-4C2118BE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486DE-6D31-4341-B63B-1143BEF8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46209-9E91-4600-A6CD-85F18FBB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BD3DA-0A85-448F-B860-919B8841F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3EB0-3AF9-41A2-B1A0-7C70B2BAE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420B-BA22-4B3D-9AFF-B94EB50D1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ABA8C-8F94-4341-A45D-A95BA8697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F40E1-AA16-4589-BC41-13051F1FE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BAAA-66EF-4B57-80A4-59EDE3E4C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2376-AE0B-4B9A-963B-3CA38CC37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, Otoño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2FC0-78CF-468E-9ABF-2F28603E53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850D-50EE-4789-9F4C-0C47E386C7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herskov@dcc.uchile.cl" TargetMode="External"/><Relationship Id="rId2" Type="http://schemas.openxmlformats.org/officeDocument/2006/relationships/hyperlink" Target="mailto:rtoledo@dcc.uchile.cl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9625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aleria Herskovic – </a:t>
            </a:r>
            <a:r>
              <a:rPr b="0" lang="es-CL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odolfo Toledo – </a:t>
            </a:r>
            <a:r>
              <a:rPr b="0" lang="es-CL" sz="2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rtoledo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nguaj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 lenguaje sobre un alfabeto 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un subconjunto de 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Ejemp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a,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= a,b,ab,ba,aa,bb,aab,aba,abb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Lenguaj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a, b, ab,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,…,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=a,b,...,abbbb,…,auto,…, barco,…. bbirvf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uaje=a, auto, barco, cas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17524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n resumen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lfabeto: conjunto de 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mbolos con los que escribiremos cadenas, o palab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dena: similar a una palabra, usa los símbolos del alfabe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nguaje: conjunto de cade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nguajes regular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n aquellos lenguajes que se pueden describir utilizando, equivalentemente,  cualquiera de las siguientes tres técn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resiones Regu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ómatas finitos determinís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utómatas finitos no determinís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xpresiones Regular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odo caracter c en el lenguaje es una 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Arial"/>
              </a:rPr>
              <a:t> (vacío) también es una 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s siguientes combinaciones de caracteres también son una 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| b = a o b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• b = a seguido de b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* = a repetido cero o más ve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ero se aplica *, luego • y luego |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, seguido de cualquier n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cluye a, b, aaaab, abbbbbbb, aaaabbbb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o incluye ba, aba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spuesta: 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b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y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 cualquier o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spuesta: (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b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066680"/>
            <a:ext cx="84582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uerd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a | b = a o b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b = ab, a* = a repetido 0 o más v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mienza y termina co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(b|a)*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con cualquier cantidad de a’s, pero un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impar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(ba*ba*)*ba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066680"/>
            <a:ext cx="84582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uerd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a | b = a o b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b = ab, a* = a repetido 0 o más v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Autómatas finitos determinísticos (AFD)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conoce cadenas de lenguaje mediante estados y transici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809880"/>
            <a:ext cx="9144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95280" y="4876920"/>
            <a:ext cx="914400" cy="914400"/>
            <a:chOff x="1295280" y="4876920"/>
            <a:chExt cx="914400" cy="914400"/>
          </a:xfrm>
        </p:grpSpPr>
        <p:sp>
          <p:nvSpPr>
            <p:cNvPr id="125" name=""/>
            <p:cNvSpPr/>
            <p:nvPr/>
          </p:nvSpPr>
          <p:spPr>
            <a:xfrm>
              <a:off x="1295280" y="48769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41360" y="492300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242440" y="407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0840" y="51814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do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75400" y="30481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do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2819520"/>
            <a:ext cx="1295280" cy="914400"/>
            <a:chOff x="914400" y="2819520"/>
            <a:chExt cx="1295280" cy="914400"/>
          </a:xfrm>
        </p:grpSpPr>
        <p:sp>
          <p:nvSpPr>
            <p:cNvPr id="131" name=""/>
            <p:cNvSpPr/>
            <p:nvPr/>
          </p:nvSpPr>
          <p:spPr>
            <a:xfrm>
              <a:off x="1295280" y="2819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914400" y="33080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914400" y="30794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114800" y="2509920"/>
            <a:ext cx="480528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comienza en el estado in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“leen” los caracteres de la cadena a reconocer uno a uno, pasando al estado correspondiente según el carácter leído (siempre debe haber una transición por cada caracter en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 al terminar de leer la cadena el autómata se encuentra en el estado final, la cadena pertenece al lenguaje. De otra manera,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Autómatas finitos determinísticos</a:t>
            </a:r>
            <a:br>
              <a:rPr sz="3800"/>
            </a:b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ena a reconoc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4572000"/>
            <a:ext cx="685800" cy="687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010280" y="3124080"/>
            <a:ext cx="685800" cy="687600"/>
            <a:chOff x="7010280" y="3124080"/>
            <a:chExt cx="685800" cy="687600"/>
          </a:xfrm>
        </p:grpSpPr>
        <p:sp>
          <p:nvSpPr>
            <p:cNvPr id="139" name=""/>
            <p:cNvSpPr/>
            <p:nvPr/>
          </p:nvSpPr>
          <p:spPr>
            <a:xfrm>
              <a:off x="7010280" y="3124080"/>
              <a:ext cx="685800" cy="687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44840" y="3158640"/>
              <a:ext cx="616680" cy="61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181120" y="3200400"/>
            <a:ext cx="971640" cy="687240"/>
            <a:chOff x="5181120" y="3200400"/>
            <a:chExt cx="971640" cy="687240"/>
          </a:xfrm>
        </p:grpSpPr>
        <p:sp>
          <p:nvSpPr>
            <p:cNvPr id="142" name=""/>
            <p:cNvSpPr/>
            <p:nvPr/>
          </p:nvSpPr>
          <p:spPr>
            <a:xfrm>
              <a:off x="5466960" y="3200400"/>
              <a:ext cx="685800" cy="687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181480" y="3567240"/>
              <a:ext cx="28548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5181120" y="3395520"/>
              <a:ext cx="28548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57200" y="2362320"/>
            <a:ext cx="4267080" cy="4282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u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comienza en el estado in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“leen” los caracteres de la cadena a reconocer uno a uno, pasando al estado correspondiente según el carácter leí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 al terminar de leer la cadena el autómata se encuentra en el estado final, la cadena pertenece al lenguaje. De otra manera,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2" idx="0"/>
            <a:endCxn id="139" idx="0"/>
          </p:cNvCxnSpPr>
          <p:nvPr/>
        </p:nvCxnSpPr>
        <p:spPr>
          <a:xfrm flipH="1" flipV="1" rot="5400000">
            <a:off x="6543720" y="2390760"/>
            <a:ext cx="76680" cy="1543680"/>
          </a:xfrm>
          <a:prstGeom prst="curvedConnector5">
            <a:avLst>
              <a:gd name="adj1" fmla="val 401415"/>
              <a:gd name="adj2" fmla="val 49988"/>
              <a:gd name="adj3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4"/>
            <a:endCxn id="137" idx="2"/>
          </p:cNvCxnSpPr>
          <p:nvPr/>
        </p:nvCxnSpPr>
        <p:spPr>
          <a:xfrm flipH="1" rot="16200000">
            <a:off x="5400720" y="4296960"/>
            <a:ext cx="1029600" cy="210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7" idx="3"/>
            <a:endCxn id="137" idx="5"/>
          </p:cNvCxnSpPr>
          <p:nvPr/>
        </p:nvCxnSpPr>
        <p:spPr>
          <a:xfrm flipH="1" rot="16200000">
            <a:off x="6361920" y="4916880"/>
            <a:ext cx="2160" cy="48672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1"/>
            <a:endCxn id="137" idx="7"/>
          </p:cNvCxnSpPr>
          <p:nvPr/>
        </p:nvCxnSpPr>
        <p:spPr>
          <a:xfrm flipH="1" rot="16200000">
            <a:off x="6361920" y="4429440"/>
            <a:ext cx="2160" cy="486720"/>
          </a:xfrm>
          <a:prstGeom prst="curvedConnector5">
            <a:avLst>
              <a:gd name="adj1" fmla="val -20700000"/>
              <a:gd name="adj2" fmla="val 49962"/>
              <a:gd name="adj3" fmla="val -20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0" idx="1"/>
            <a:endCxn id="139" idx="7"/>
          </p:cNvCxnSpPr>
          <p:nvPr/>
        </p:nvCxnSpPr>
        <p:spPr>
          <a:xfrm flipH="1" flipV="1" rot="5400000">
            <a:off x="7353000" y="3006000"/>
            <a:ext cx="26280" cy="461160"/>
          </a:xfrm>
          <a:prstGeom prst="curvedConnector5">
            <a:avLst>
              <a:gd name="adj1" fmla="val 1393055"/>
              <a:gd name="adj2" fmla="val 50000"/>
              <a:gd name="adj3" fmla="val 13930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9" idx="5"/>
          </p:cNvCxnSpPr>
          <p:nvPr/>
        </p:nvCxnSpPr>
        <p:spPr>
          <a:xfrm flipH="1" rot="16200000">
            <a:off x="7352640" y="3468960"/>
            <a:ext cx="2160" cy="48672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554520" y="2514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4000" y="259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3640" y="403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7240" y="403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67040" y="4114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6520" y="5410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5912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0560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7840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4524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, seguido de cualquier n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7600" y="3429000"/>
            <a:ext cx="914400" cy="914400"/>
            <a:chOff x="3657600" y="3429000"/>
            <a:chExt cx="914400" cy="914400"/>
          </a:xfrm>
        </p:grpSpPr>
        <p:sp>
          <p:nvSpPr>
            <p:cNvPr id="165" name=""/>
            <p:cNvSpPr/>
            <p:nvPr/>
          </p:nvSpPr>
          <p:spPr>
            <a:xfrm>
              <a:off x="3657600" y="342900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03680" y="347508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90720" y="3429000"/>
            <a:ext cx="1295280" cy="914400"/>
            <a:chOff x="990720" y="3429000"/>
            <a:chExt cx="1295280" cy="914400"/>
          </a:xfrm>
        </p:grpSpPr>
        <p:sp>
          <p:nvSpPr>
            <p:cNvPr id="168" name=""/>
            <p:cNvSpPr/>
            <p:nvPr/>
          </p:nvSpPr>
          <p:spPr>
            <a:xfrm>
              <a:off x="1371600" y="342900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990720" y="39175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990720" y="36889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1" name=""/>
          <p:cNvCxnSpPr>
            <a:stCxn id="168" idx="0"/>
            <a:endCxn id="165" idx="0"/>
          </p:cNvCxnSpPr>
          <p:nvPr/>
        </p:nvCxnSpPr>
        <p:spPr>
          <a:xfrm flipH="1" rot="16200000">
            <a:off x="2971080" y="228636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2" name=""/>
          <p:cNvCxnSpPr>
            <a:stCxn id="165" idx="4"/>
            <a:endCxn id="173" idx="6"/>
          </p:cNvCxnSpPr>
          <p:nvPr/>
        </p:nvCxnSpPr>
        <p:spPr>
          <a:xfrm rot="5400000">
            <a:off x="3504240" y="4267080"/>
            <a:ext cx="53424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4" name=""/>
          <p:cNvSpPr/>
          <p:nvPr/>
        </p:nvSpPr>
        <p:spPr>
          <a:xfrm>
            <a:off x="2808000" y="2698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4572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/>
          <p:nvPr/>
        </p:nvCxnSpPr>
        <p:spPr>
          <a:xfrm flipH="1" rot="16200000">
            <a:off x="1808640" y="3257280"/>
            <a:ext cx="252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7" name=""/>
          <p:cNvCxnSpPr/>
          <p:nvPr/>
        </p:nvCxnSpPr>
        <p:spPr>
          <a:xfrm flipH="1" rot="16200000">
            <a:off x="4120200" y="322020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8" name=""/>
          <p:cNvSpPr/>
          <p:nvPr/>
        </p:nvSpPr>
        <p:spPr>
          <a:xfrm>
            <a:off x="1487160" y="2629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14560" y="2604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4419720"/>
            <a:ext cx="9144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/>
          <p:nvPr/>
        </p:nvCxnSpPr>
        <p:spPr>
          <a:xfrm flipH="1" rot="16200000">
            <a:off x="2976840" y="4895640"/>
            <a:ext cx="2520" cy="648360"/>
          </a:xfrm>
          <a:prstGeom prst="curvedConnector5">
            <a:avLst>
              <a:gd name="adj1" fmla="val 34800000"/>
              <a:gd name="adj2" fmla="val 50000"/>
              <a:gd name="adj3" fmla="val 348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1" name=""/>
          <p:cNvSpPr/>
          <p:nvPr/>
        </p:nvSpPr>
        <p:spPr>
          <a:xfrm>
            <a:off x="2839680" y="5727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3276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¡Más dificil que con expresiones regula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/>
          <p:nvPr/>
        </p:nvCxnSpPr>
        <p:spPr>
          <a:xfrm flipH="1" rot="16200000">
            <a:off x="2964240" y="4209840"/>
            <a:ext cx="252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4" name=""/>
          <p:cNvSpPr/>
          <p:nvPr/>
        </p:nvSpPr>
        <p:spPr>
          <a:xfrm>
            <a:off x="2808000" y="360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514600"/>
            <a:ext cx="4876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3048120"/>
            <a:ext cx="2743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y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 cualquier o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90920" y="3886200"/>
            <a:ext cx="914400" cy="914400"/>
            <a:chOff x="2590920" y="3886200"/>
            <a:chExt cx="914400" cy="914400"/>
          </a:xfrm>
        </p:grpSpPr>
        <p:sp>
          <p:nvSpPr>
            <p:cNvPr id="190" name=""/>
            <p:cNvSpPr/>
            <p:nvPr/>
          </p:nvSpPr>
          <p:spPr>
            <a:xfrm>
              <a:off x="2590920" y="388620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37000" y="393228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184480" y="4114440"/>
            <a:ext cx="380880" cy="457200"/>
            <a:chOff x="2184480" y="4114440"/>
            <a:chExt cx="380880" cy="457200"/>
          </a:xfrm>
        </p:grpSpPr>
        <p:sp>
          <p:nvSpPr>
            <p:cNvPr id="193" name=""/>
            <p:cNvSpPr/>
            <p:nvPr/>
          </p:nvSpPr>
          <p:spPr>
            <a:xfrm flipV="1">
              <a:off x="2184480" y="43430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2184480" y="41144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562720" y="3276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¡Más fácil que con expresiones regula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/>
          <p:nvPr/>
        </p:nvCxnSpPr>
        <p:spPr>
          <a:xfrm flipH="1" rot="16200000">
            <a:off x="3053520" y="4364640"/>
            <a:ext cx="2160" cy="648360"/>
          </a:xfrm>
          <a:prstGeom prst="curvedConnector5">
            <a:avLst>
              <a:gd name="adj1" fmla="val 34800000"/>
              <a:gd name="adj2" fmla="val 50000"/>
              <a:gd name="adj3" fmla="val 348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7" name=""/>
          <p:cNvSpPr/>
          <p:nvPr/>
        </p:nvSpPr>
        <p:spPr>
          <a:xfrm>
            <a:off x="2916000" y="5195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/>
          <p:nvPr/>
        </p:nvCxnSpPr>
        <p:spPr>
          <a:xfrm flipH="1" rot="16200000">
            <a:off x="3040920" y="367884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9" name=""/>
          <p:cNvSpPr/>
          <p:nvPr/>
        </p:nvSpPr>
        <p:spPr>
          <a:xfrm>
            <a:off x="2884320" y="3076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514600"/>
            <a:ext cx="4876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3048120"/>
            <a:ext cx="2743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Objetivo del curs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15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bjetivo: Interiorizar al estudiante en el funcionamiento de los sistemas computacionales que apoyarán su trabajo profes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prender cómo funciona un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841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con cualquier cantidad de a’s, pero un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impar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86200" y="3809880"/>
            <a:ext cx="914400" cy="914400"/>
            <a:chOff x="3886200" y="3809880"/>
            <a:chExt cx="914400" cy="914400"/>
          </a:xfrm>
        </p:grpSpPr>
        <p:sp>
          <p:nvSpPr>
            <p:cNvPr id="205" name=""/>
            <p:cNvSpPr/>
            <p:nvPr/>
          </p:nvSpPr>
          <p:spPr>
            <a:xfrm>
              <a:off x="3886200" y="380988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32280" y="385596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219320" y="3809880"/>
            <a:ext cx="1295280" cy="914400"/>
            <a:chOff x="1219320" y="3809880"/>
            <a:chExt cx="1295280" cy="914400"/>
          </a:xfrm>
        </p:grpSpPr>
        <p:sp>
          <p:nvSpPr>
            <p:cNvPr id="208" name=""/>
            <p:cNvSpPr/>
            <p:nvPr/>
          </p:nvSpPr>
          <p:spPr>
            <a:xfrm>
              <a:off x="1600200" y="380988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219320" y="42984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1219320" y="40698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1" name=""/>
          <p:cNvCxnSpPr>
            <a:stCxn id="208" idx="0"/>
            <a:endCxn id="205" idx="0"/>
          </p:cNvCxnSpPr>
          <p:nvPr/>
        </p:nvCxnSpPr>
        <p:spPr>
          <a:xfrm flipH="1" rot="16200000">
            <a:off x="3199320" y="2666520"/>
            <a:ext cx="252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2" name=""/>
          <p:cNvCxnSpPr>
            <a:stCxn id="205" idx="4"/>
            <a:endCxn id="208" idx="4"/>
          </p:cNvCxnSpPr>
          <p:nvPr/>
        </p:nvCxnSpPr>
        <p:spPr>
          <a:xfrm rot="5400000">
            <a:off x="3198960" y="3582000"/>
            <a:ext cx="2520" cy="2286720"/>
          </a:xfrm>
          <a:prstGeom prst="curvedConnector5">
            <a:avLst>
              <a:gd name="adj1" fmla="val 14400000"/>
              <a:gd name="adj2" fmla="val 49992"/>
              <a:gd name="adj3" fmla="val 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3" name=""/>
          <p:cNvSpPr/>
          <p:nvPr/>
        </p:nvSpPr>
        <p:spPr>
          <a:xfrm>
            <a:off x="3036600" y="3079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03200" y="5068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/>
          <p:nvPr/>
        </p:nvCxnSpPr>
        <p:spPr>
          <a:xfrm flipH="1" rot="16200000">
            <a:off x="2037600" y="363924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6" name=""/>
          <p:cNvCxnSpPr/>
          <p:nvPr/>
        </p:nvCxnSpPr>
        <p:spPr>
          <a:xfrm flipH="1" rot="16200000">
            <a:off x="4348800" y="358848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7" name=""/>
          <p:cNvSpPr/>
          <p:nvPr/>
        </p:nvSpPr>
        <p:spPr>
          <a:xfrm>
            <a:off x="1868400" y="3009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79600" y="2960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3276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ás o menos lo mismo que con expresiones reg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514600"/>
            <a:ext cx="4876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3048120"/>
            <a:ext cx="2743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Aut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mata finito no determinís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el caso de un AFD, dado el estado actual y el siguiente carácter, se sabe exactamente a qué estado pasará el autóm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un AFND puede haber varias alternativas a seguir para un mismo caracter. El AFND sigue todas las alternativas al mismo tiempo. Esto implica que hay más de un estado activo a la ve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(Recordar que los AFD y los AFND son equivalentes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(ab|aba)* - AF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4931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(ab|aba)* - AFN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0866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¿Qué queda fuera de los lenguajes regulares?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nguajes con reglas más comple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: Lenguajes libres de con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odas las cadenas con la misma cantidad de 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’s y 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b, aabb, abab, bba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odas las cadenas con N a’s seguidas de N b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b, aabb, aaabbb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odas las cadenas con paréntesis balance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3+4)*((8-2)*5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alance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5+3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no balance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nte definir estos ejemplos utilizando ER, AFD o AFND. ¿Qué problemas encuent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Trabajo 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utorial de jFlap (10m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e los AFD en jFlap para los siguientes lenguaj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ntiene las palabras ab y ba. Ejemplo de cadena: 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mienza por cualquier número de a’s, y termina con una b. Ejemplo de cadena: aaaa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ntiene exactamente dos caracteres que pueden ser a o b. Ejemplo de cadena: b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ntiene a’s y b’s alternadamente. Ejemplo de cadena: abababa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semana: Clase teórica + trabajo práct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trega trabajo práctico: mismo día clase teórica, 17:30 horas, sin fal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valu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T: Evaluaciones teóricas (2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4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P: Trabajos p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ctico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2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: Proyectos (3) = 4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imición con 5,5 o más, siempre que 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≥4, TP≥4, PR≥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ta Final = 70% Nota Presentaci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Arial"/>
              </a:rPr>
              <a:t>ón + 30% Exa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iencias de la computación: estudio de la teoría de la información y compu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ocesos algorítimicos que crean, describen y transforman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udio de máquinas abstractas y los problemas que éstas pueden resol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undamentos de la comput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Hoy: lenguajes regulares – usando expresiones regulares y autóma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óxima clase: utilizaremos este tipo de abstracciones para definir una Máquina de Tu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áquina de Turing: es capaz de realizar operaciones matemáticas de manera mecánica. Se demostró que esta máquina permite computar cualquiera de estas operaciones y por lo tanto son equivalentes a cualquier comput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lfabet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638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ju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inito (cierto 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 de elemen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No puede estar vací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 llamaremos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s elementos son símbolos que llamaremos caracte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Ejempl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,b,c,d,e,f,g,h,i,j,k,l,m,n,ñ,o,p,q,r,s,t,u,v,w,x,y,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0,1,2,3,4,5,6,7,8,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A,4,#,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34280" y="990720"/>
            <a:ext cx="1719000" cy="2361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91320" y="3657600"/>
            <a:ext cx="3276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aden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cuencia finita de símbolos de un alfab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gunas cadenas: aaa, abba, b, bbbbbb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,…,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gunas cadenas: auto,barco,casa,bbirv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* es el conjunto de todas las cadenas de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a,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= a,b,ab,ba,aa,bb,aab,aba,abb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,…,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=a,b,...,abbbb,…,auto,…, barco,…. bbirvf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4:23:54Z</dcterms:created>
  <dc:creator/>
  <dc:description/>
  <dc:language>en-US</dc:language>
  <cp:lastModifiedBy>Valeria Herskovic</cp:lastModifiedBy>
  <dcterms:modified xsi:type="dcterms:W3CDTF">2010-03-25T19:32:13Z</dcterms:modified>
  <cp:revision>82</cp:revision>
  <dc:subject/>
  <dc:title>E-learning</dc:title>
</cp:coreProperties>
</file>