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C079-C9E7-49FE-B41A-E92D413A4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0053-318E-41DF-A44E-7BF1BF8A9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7B98-4A6B-451C-8AF7-416A13F23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A051-04FD-4FDE-9638-E85206E05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A881F-BA1E-474D-B11C-FF07EA35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16631-552E-4FFD-AB37-E6DB8DE5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FFEFA-D51C-41B1-AA1D-CC016D9C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97969-B69A-4BB7-8D90-FD07FA3A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B20C9-3799-45E5-B27D-9156416D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5F979-3813-4C59-8C77-FAAA654E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EE381-38DF-4C5F-B0EB-763F11CC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A54D-34AC-425B-96D3-ADEA413AF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5FD79-AD13-4386-B127-15810649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16DEB-AFC4-4452-8D74-34713FA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858E1-A21C-4D86-9F2F-23E39E7C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F4FF5-AA79-47E7-8244-1963FF60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F3420-96A8-4223-A4B4-D7BE5788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4903-6F40-4D11-8052-09403DCD8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CE11-6863-404E-955D-1EE464BA1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1E63-BD10-4CBD-9275-9148123AF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A275-114B-4830-93EF-E3EDD9F9F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EC3F-D81D-44D8-A524-A1D3D2821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E622-E3C2-4AAE-BA10-0C78F7AD4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867E-A30A-4D33-893E-E1101A201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2C52-1703-4ECD-80E3-3A7505B896BB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DC15-8A0A-40DF-AC4F-268FDF49C9DE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6880" y="630864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s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relativ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1, B3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basa en la posición relativa de la celda que contiene la fórmula y de la celda a la que hac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cambia la posición de la celda que contiene la fórmula, se cambia la referenc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absolut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$A$1, $B$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empre hace referencia a una celda en una ubicación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usa $ para indicar lo que se quiere dejar fijo. Ejemp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1: columna A fija, fil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$1: fila 1 fija, column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$1: columna y fila f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130320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órmulas: instrucciones que se ingresan para realizar cálc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ten por signo =, usan nombres de celdas (A4, B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peraciones típica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095640" cy="124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0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16000" y="4940280"/>
            <a:ext cx="3240000" cy="122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00720" y="4940280"/>
            <a:ext cx="3168360" cy="119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602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2720" y="6093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hacer cálculos más comple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= NOMBRE_FORMULA(paramet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3352680"/>
            <a:ext cx="3200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ipos de pará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815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numero;num_deci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(numero), SIN(numero), TAN(nu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(num1;num2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ERAGE(num1;num2;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um_decim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trega u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B4;$B$2)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(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;número;númer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entrega u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SUM(1;2);ROUND(3.4242;1)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2819520" cy="201420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dond /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400" y="42274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que quiero 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3352320"/>
            <a:ext cx="91440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1480" y="41911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os decimales debe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19360" y="3352320"/>
            <a:ext cx="99036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680" y="5638680"/>
            <a:ext cx="7346520" cy="36828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jo: separador de parámetros puede ser ; o , según el idioma de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93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489744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37120" y="2120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25527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SUM(c3;d3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2960" y="2336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c2+d2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0520" y="276876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c4;d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2040" y="298440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5;d5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1120" y="2336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1120" y="2552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49480" y="27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5520" y="291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692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rango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ERAGE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840360" cy="20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00000" y="371808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2:g2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72608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2920" y="49417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AX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1880" y="5157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IN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5516640"/>
            <a:ext cx="769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unta: SUM(c2;c6) versus SUM(c2:c6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1676520"/>
            <a:ext cx="220968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di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mpar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 “comparador”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aradores”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&lt;, &lt;=, &gt;=, =, &lt;&gt; (disti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3 &gt;= 4, A3 &lt;&gt;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ultado: verdadero o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ó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F(condicion;valor_si_verdad;valor_si_f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UNTIF(rango;criterio). Ejs criterio: “&gt;X”,”X”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4032000" cy="1958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53760" y="443700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pita, ¿aprobó Castell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“R” si reprob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” si apro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ar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inando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(condicion1,condicion2,…): si todas son verdaderas, es verdadero OR(condicion1,condicion2,…): si una es verdadera, es verd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mbinaciones compuestas también pueden usarse como condicio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4032360" cy="1959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3760" y="4149720"/>
            <a:ext cx="392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obados: Sólo si tienen nota “az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a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nto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133720"/>
            <a:ext cx="17524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para texto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CATENATE(text1;text2;text3;…): junta varios textos en uno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FT(texto;N): entrega los primer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IGHT(texto;N): entrega los ultim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(texto): largo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7200720" cy="16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81680" y="228600"/>
            <a:ext cx="205740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cat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licación para manejar hojas de cálc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la aplicación más usada para estos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tras: Google Docs, OpenOffice 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570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0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871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1265040"/>
            <a:ext cx="7692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n muchas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rmulas predefinidas (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car la que nos sirve y aplicar a par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etros corr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971800" cy="25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81024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34280" y="6248520"/>
            <a:ext cx="328968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/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 – Elegir Tipo de Grá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624852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ar/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1 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7480" y="1757520"/>
            <a:ext cx="1467000" cy="3495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280" y="1271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8720" y="16844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5080" y="2620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3076560" cy="2295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429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2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7240" y="9810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760" y="48769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95640" cy="305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962520" cy="270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895480" y="4419720"/>
            <a:ext cx="3594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3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981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7600" y="306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591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Gráficos con dos ej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1280" y="11426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icar de maner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una serie 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hange Series Char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rmat Data Series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Secondary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97560" cy="276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971800" cy="179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6324480"/>
            <a:ext cx="8839440" cy="3373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2003: Seleccionar serie/cambiar tipo de 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fico,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mato de serie de datos/eje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acr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7148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cro: Conjunto de instrucciones que sirven para automatizar procesos o acciones. (Ej: darle formato a una cel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Excel Options -&gt; Show Developer ta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-&gt;Record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2604960" cy="2519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Tools/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09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Formato Condicional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demos darle cierto formato a las celdas que cumplan con ciertas cond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-&gt; Conditional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86320" cy="132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Format/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el provee gestión de li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era fila: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nombres de camp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, todos di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0064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Data/Filter/Auto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94880" y="1260360"/>
            <a:ext cx="52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rdenar Datos: Data/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4333680" cy="2324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952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51600" y="1371600"/>
            <a:ext cx="303048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19160" y="394164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19680" y="3941640"/>
            <a:ext cx="369576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120" y="990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.1 en Windows 2.1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7920" y="990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97 en Windows XP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" y="35812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3 en Windows XP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3581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7 en Windows Vista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ubTotal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ordenar la lista para agrupar las filas cuyos subtotales se desea calcul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 pueden calcularse los subtotales de cualquier columna que contenga núme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ubTotals, o Sum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886200" cy="2505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352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n al usuario interactuar de modo que se facilita el análisis y comprensión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áticamente cuentan, suman los datos de una tabla y crean una segunda tabla resumen que presenta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mos qué aparecerá en las filas, columnas y celdas de la nueva tabla, y excel automáticamente reorganizará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96600" y="126504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/Pivot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0160" y="1827360"/>
            <a:ext cx="322920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8183520" cy="11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59240" y="204480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ivotTable and PivotChar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 Dinámicos (Pivot Chart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 informe de gráfico dinámico representa gráficamente los datos de un informe de tabla dinám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99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n grupos de a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sta clase y excel disponibles en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u-curso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r antes de las 1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xcel 2003 vs Excel 2007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148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67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cumento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8360" y="2421000"/>
            <a:ext cx="1439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268000" y="836280"/>
            <a:ext cx="2519640" cy="554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2520" y="2205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160000" y="3895560"/>
            <a:ext cx="358560" cy="230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92000" y="5013360"/>
            <a:ext cx="331164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360" y="479736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enombrar, orden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Hoj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hoja tiene filas y colum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2951280" cy="260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90840" y="349416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108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16280" y="33498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0" y="2197080"/>
            <a:ext cx="3737880" cy="2160360"/>
            <a:chOff x="3751200" y="2197080"/>
            <a:chExt cx="3737880" cy="2160360"/>
          </a:xfrm>
        </p:grpSpPr>
        <p:sp>
          <p:nvSpPr>
            <p:cNvPr id="120" name=""/>
            <p:cNvSpPr/>
            <p:nvPr/>
          </p:nvSpPr>
          <p:spPr>
            <a:xfrm flipH="1">
              <a:off x="4255560" y="2412720"/>
              <a:ext cx="208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175560" y="3277080"/>
              <a:ext cx="1655640" cy="504720"/>
            </a:xfrm>
            <a:prstGeom prst="rect">
              <a:avLst/>
            </a:prstGeom>
            <a:solidFill>
              <a:srgbClr val="009999">
                <a:alpha val="1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5360" y="21970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lu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4800600"/>
            <a:ext cx="824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las: 1, 2, 3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lumnas: A, B, C, …, Z, AA, AB, …, AZ, B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1240" y="2840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eld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uce de una fila con una colum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guarda un va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293920"/>
            <a:ext cx="2951280" cy="260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73392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718360" y="3589920"/>
            <a:ext cx="1655640" cy="50472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4000" y="3733920"/>
            <a:ext cx="50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25640" y="3806640"/>
            <a:ext cx="2663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0720" y="459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05520"/>
            <a:ext cx="82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dentifican por su fila y columna. Ejemplos: C7, AB1001, Z5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cel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celda puede guardar un texto,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, cantidad de dinero, fecha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76364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419720" cy="3252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4648320" cy="323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2708280"/>
            <a:ext cx="3810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onjuntos de Celdas, Rang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60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fil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2:B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column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4:C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z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3:C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87344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0894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aleria Herskovic</cp:lastModifiedBy>
  <dcterms:modified xsi:type="dcterms:W3CDTF">2010-09-14T15:55:45Z</dcterms:modified>
  <cp:revision>75</cp:revision>
  <dc:subject/>
  <dc:title>(Microsoft Office) Excel y Access</dc:title>
</cp:coreProperties>
</file>