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3.png" ContentType="image/png"/>
  <Override PartName="/ppt/media/image30.png" ContentType="image/png"/>
  <Override PartName="/ppt/media/image54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7.jpeg" ContentType="image/jpeg"/>
  <Override PartName="/ppt/media/image5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EEC2C-0A1B-463A-9BBE-9691BD751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2E98C-E944-48BF-8B8F-2C3937A7D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3FE9C-B64A-46F2-B57C-ECA031F4C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AC3C-000B-4609-9D16-6C2B7974C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7EC63-76D7-4FC4-BA80-555A2C0F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4BA91-5421-4A8E-B7FA-F2A86077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B5494-49A1-4AA8-89E9-E7FEA9AD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2967E-9B15-4837-A3FA-73900C69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5012A-F8F1-4205-BAB3-68EE531F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4F106-9DAF-448A-889C-B314682C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65878-A731-43A9-AE32-9FF87193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E9BCB-8A59-41C4-BC68-0FF09BE9D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1075D-0203-4A81-8604-14AA760B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2D24F-1F84-4F18-BC37-A9B85FA0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32D00-02BF-4C79-956A-3B655E9C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1CF03-1F11-4AA0-AE8A-E7D57724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DE382-9A12-45A0-B9D2-CBBAA61E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BCE1-2CF5-41CC-9FB9-62A999877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04026-2563-4062-9955-83E83D002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F34A-EF35-4D3E-A1BE-B67923F4F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CD6C2-AFAF-4E89-AF1A-DC5C373ED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3243-80C8-43C2-9B1B-5D1BA7493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4BC7-72C4-476B-96B2-66C144A16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2F7A4-EDBD-4484-8B8F-F16FFAB43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4E1D-D6EF-4547-BE72-EB37B13C2D03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908C-28E6-4EAB-AA07-2C5EA1446FAB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Microsoft Excel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rso Computación-Tecnología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2016000" cy="1533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6880" y="6308640"/>
            <a:ext cx="43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ferencias: Apuntes Universidad de Nava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ferencias relativ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1, B3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 basa en la posición relativa de la celda que contiene la fórmula y de la celda a la que hace ref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 cambia la posición de la celda que contiene la fórmula, se cambia la referenc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ferencias absolut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$A$1, $B$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iempre hace referencia a una celda en una ubicación específ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usa $ para indicar lo que se quiere dejar fijo. Ejemp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A1: columna A fija, fila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$1: fila 1 fija, columna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A$1: columna y fila fij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11280" y="1303200"/>
            <a:ext cx="853272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órmulas: instrucciones que se ingresan para realizar cálcu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arten por signo =, usan nombres de celdas (A4, B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peraciones típicas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, -, *, 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16000" y="3645000"/>
            <a:ext cx="3095640" cy="1241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0" y="3500280"/>
            <a:ext cx="3097080" cy="1435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116000" y="4940280"/>
            <a:ext cx="3240000" cy="1225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500720" y="4940280"/>
            <a:ext cx="3168360" cy="1192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284720" y="6021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12720" y="609300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miten hacer cálculos más complej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orma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= NOMBRE_FORMULA(parametr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3962520" cy="2324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495680" y="3352680"/>
            <a:ext cx="3200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ipos de parámet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úm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an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2240" indent="-22428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815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rmulas que se aplican a un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numero;num_decim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(numero), SIN(numero), TAN(num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M(num1;num2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VERAGE(num1;num2;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um_decimal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entrega u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úm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UND(B4;$B$2)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M(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úmero;número;númer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 entrega u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M(SUM(1;2);ROUND(3.4242;1);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990720"/>
            <a:ext cx="2819520" cy="201420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Redond /Redond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400" y="422748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que quiero redond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905120" y="3352320"/>
            <a:ext cx="914400" cy="838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01480" y="4191120"/>
            <a:ext cx="32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ántos decimales debe 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419360" y="3352320"/>
            <a:ext cx="990360" cy="8384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6680" y="5638680"/>
            <a:ext cx="7346520" cy="368280"/>
          </a:xfrm>
          <a:prstGeom prst="rect">
            <a:avLst/>
          </a:prstGeom>
          <a:noFill/>
          <a:ln cap="rnd" w="22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jo: separador de parámetros puede ser ; o , según el idioma de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55640" y="1125360"/>
            <a:ext cx="7693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4897440" cy="2185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037120" y="212076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62600" y="2552760"/>
            <a:ext cx="13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SUM(c3;d3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62960" y="233676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(c2+d2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70520" y="2768760"/>
            <a:ext cx="170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AVERAGE(c4;d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92040" y="298440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ROUND(AVERAGE(c5;d5);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21120" y="23367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1120" y="25527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49480" y="27687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35520" y="29131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61760" y="1143000"/>
            <a:ext cx="7692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rmulas que se aplican a un rango de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M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VERAGE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X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N(ra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6840360" cy="2028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300000" y="371808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ROUND(AVERAGE(c2:g2);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72360" y="472608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AVERAGE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2920" y="4941720"/>
            <a:ext cx="12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MAX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01880" y="5157720"/>
            <a:ext cx="11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MIN(h2:h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5516640"/>
            <a:ext cx="7692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gunta: SUM(c2;c6) versus SUM(c2:c6)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29400" y="1676520"/>
            <a:ext cx="2209680" cy="146556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o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á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M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769284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dició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compara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n: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úmero “comparador”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aradores”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, &lt;, &lt;=, &gt;=, =, &lt;&gt; (disti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s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3 &gt;= 4, A3 &lt;&gt; 7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sultado: verdadero o f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ó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F(condicion;valor_si_verdad;valor_si_fal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UNTIF(rango;criterio). Ejs criterio: “&gt;X”,”X”,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71640" y="4292640"/>
            <a:ext cx="4032000" cy="19587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153760" y="4437000"/>
            <a:ext cx="30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pita, ¿aprobó Castella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“R” si reprobó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” si aprob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2743200"/>
            <a:ext cx="2209680" cy="91692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tar.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7692840" cy="28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binando cond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0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D(condicion1,condicion2,…): si todas son verdaderas, es verdadero OR(condicion1,condicion2,…): si una es verdadera, es verdad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combinaciones compuestas también pueden usarse como condicion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55640" y="4076640"/>
            <a:ext cx="4032360" cy="1959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793760" y="4149720"/>
            <a:ext cx="392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probados: Sólo si tienen nota “azu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ambos r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a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re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ántos reprobar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2133720"/>
            <a:ext cx="1752480" cy="91692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para texto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CATENATE(text1;text2;text3;…): junta varios textos en uno so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FT(texto;N): entrega los primeros N caracteres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IGHT(texto;N): entrega los ultimos N caracteres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N(texto): largo d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71640" y="4437000"/>
            <a:ext cx="7200720" cy="1623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781680" y="228600"/>
            <a:ext cx="2057400" cy="1465560"/>
          </a:xfrm>
          <a:prstGeom prst="rect">
            <a:avLst/>
          </a:prstGeom>
          <a:solidFill>
            <a:srgbClr val="ffff99">
              <a:alpha val="49000"/>
            </a:srgbClr>
          </a:solidFill>
          <a:ln w="2232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ñ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oncate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Iz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ere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La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icrosoft Exce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7693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plicación para manejar hojas de cálcu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la aplicación más usada para estos f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tras: Google Docs, OpenOffice Ca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1657080" cy="1133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4038840" cy="2081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38718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órmulas de Cálculo predefini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4000" y="1265040"/>
            <a:ext cx="769284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isten muchas 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órmulas predefinidas (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Formula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uscar la que nos sirve y aplicar a par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metros correc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2971800" cy="2500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267080" y="3352680"/>
            <a:ext cx="3810240" cy="2173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34280" y="6248520"/>
            <a:ext cx="328968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xcel 2003: Insert/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sert – Elegir Tipo de Gráf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99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624852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xcel 2003: Insertar/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1 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17480" y="1757520"/>
            <a:ext cx="1467000" cy="3495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01280" y="127152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48720" y="168444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05080" y="262080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286000" y="2362320"/>
            <a:ext cx="3076560" cy="2295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486400" y="3200400"/>
            <a:ext cx="34290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2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00" y="98100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47240" y="981000"/>
            <a:ext cx="32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3760" y="487692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664000" cy="2360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095640" cy="3051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2895480" y="1447920"/>
            <a:ext cx="3962520" cy="2706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2895480" y="4419720"/>
            <a:ext cx="35942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: Ejemplo 3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5600" y="98100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lecciona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7240" y="98100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ertar/Gra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gir Tipo de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87600" y="306864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icar y Config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520720" cy="1977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895480" y="1523880"/>
            <a:ext cx="2886120" cy="32004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267080" y="3505320"/>
            <a:ext cx="459108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Gráficos con dos eje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581280" y="11426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Graficar de manera nor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cionar una serie 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hange Series Chart 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ormat Data Series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Secondary Ax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4597560" cy="27684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2971800" cy="1795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52280" y="6324480"/>
            <a:ext cx="8839440" cy="33732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 2003: Seleccionar serie/cambiar tipo de gr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áfico,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mato de serie de datos/eje secund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acr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71480" y="9140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acro: Conjunto de instrucciones que sirven para automatizar procesos o acciones. (Ej: darle formato a una celd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ffice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 Excel Options -&gt; Show Developer tab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er-&gt;Record mac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114800" y="3276720"/>
            <a:ext cx="2604960" cy="2519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14300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Tools/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33520" y="3200400"/>
            <a:ext cx="3409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Formato Condicional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demos darle cierto formato a las celdas que cumplan con ciertas condi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 -&gt; Conditional Forma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133720" y="3733920"/>
            <a:ext cx="4486320" cy="1323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Format/Conditional Form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istas de Dat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917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cel provee gestión de lis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1era fila: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nombres de campo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, todos difer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ata/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54360" y="2027160"/>
            <a:ext cx="4400640" cy="6001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Data/Filter/Auto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istas de Dato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794880" y="1260360"/>
            <a:ext cx="52578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rdenar Datos: Data/S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4333680" cy="2324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49528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lgo de histori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15920" y="13716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51600" y="1371600"/>
            <a:ext cx="3030480" cy="2189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19160" y="3941640"/>
            <a:ext cx="2913120" cy="2189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819680" y="3941640"/>
            <a:ext cx="3695760" cy="2189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43120" y="990720"/>
            <a:ext cx="34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.1 en Windows 2.1(19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57920" y="990720"/>
            <a:ext cx="33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97 en Windows XP(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200" y="358128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003 en Windows XP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82680" y="358128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 2007 en Windows Vista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ubTotales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ero ordenar la lista para agrupar las filas cuyos subtotales se desea calcul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ego pueden calcularse los subtotales de cualquier columna que contenga númer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ata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 SubTotals, o Sumato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3886200" cy="25052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800600" y="3581280"/>
            <a:ext cx="3352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ablas Dinámicas (Pivot Table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761760" y="1218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miten al usuario interactuar de modo que se facilita el análisis y comprensión de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m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áticamente cuentan, suman los datos de una tabla y crean una segunda tabla resumen que presenta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egimos qué aparecerá en las filas, columnas y celdas de la nueva tabla, y excel automáticamente reorganizará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ablas Dinámicas (Pivot Tables)*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96600" y="126504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sert/PivotT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30160" y="1827360"/>
            <a:ext cx="3229200" cy="1666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8183520" cy="1171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359240" y="2044800"/>
            <a:ext cx="4032360" cy="2120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066680" y="6324480"/>
            <a:ext cx="685800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PivotTable and PivotChar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Gr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áficos Dinámicos (Pivot Chart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 informe de gráfico dinámico representa gráficamente los datos de un informe de tabla dinámic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69994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En grupos de a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Esta clase y excel disponibles en: </a:t>
            </a:r>
            <a:r>
              <a:rPr b="1" lang="es-CL" sz="2500" spc="-1" strike="noStrike">
                <a:solidFill>
                  <a:srgbClr val="000000"/>
                </a:solidFill>
                <a:latin typeface="Arial"/>
              </a:rPr>
              <a:t>u-cursos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egar antes de las 17: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xcel 2003 vs Excel 2007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621480" cy="2247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6732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Documento Exce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5734080" cy="4143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5508360" y="2421000"/>
            <a:ext cx="143964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2268000" y="836280"/>
            <a:ext cx="2519640" cy="554508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22520" y="220500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160000" y="3895560"/>
            <a:ext cx="358560" cy="230508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492000" y="5013360"/>
            <a:ext cx="331164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7360" y="479736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as h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renombrar, orden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Hoj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hoja tiene filas y colum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2951280" cy="2608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90840" y="349416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421080"/>
            <a:ext cx="2879640" cy="14436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16280" y="334980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751200" y="2197080"/>
            <a:ext cx="3737880" cy="2160360"/>
            <a:chOff x="3751200" y="2197080"/>
            <a:chExt cx="3737880" cy="2160360"/>
          </a:xfrm>
        </p:grpSpPr>
        <p:sp>
          <p:nvSpPr>
            <p:cNvPr id="120" name=""/>
            <p:cNvSpPr/>
            <p:nvPr/>
          </p:nvSpPr>
          <p:spPr>
            <a:xfrm flipH="1">
              <a:off x="4255560" y="2412720"/>
              <a:ext cx="2087640" cy="6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3175560" y="3277080"/>
              <a:ext cx="1655640" cy="504720"/>
            </a:xfrm>
            <a:prstGeom prst="rect">
              <a:avLst/>
            </a:prstGeom>
            <a:solidFill>
              <a:srgbClr val="009999">
                <a:alpha val="1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45360" y="219708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colum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62120" y="4800600"/>
            <a:ext cx="824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ilas: 1, 2, 3,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lumnas: A, B, C, …, Z, AA, AB, …, AZ, B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41240" y="28404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eld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880" y="106632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uce de una fila con una colum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 guarda un va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0" y="2293920"/>
            <a:ext cx="2951280" cy="2608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0" y="3733920"/>
            <a:ext cx="2879640" cy="14436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2718360" y="3589920"/>
            <a:ext cx="1655640" cy="504720"/>
          </a:xfrm>
          <a:prstGeom prst="rect">
            <a:avLst/>
          </a:prstGeom>
          <a:solidFill>
            <a:srgbClr val="009999">
              <a:alpha val="1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94000" y="3733920"/>
            <a:ext cx="504720" cy="144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3725640" y="3806640"/>
            <a:ext cx="2663640" cy="93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90720" y="459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el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5105520"/>
            <a:ext cx="82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identifican por su fila y columna. Ejemplos: C7, AB1001, Z50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Tipos de celd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na celda puede guardar un texto, 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mero, cantidad de dinero, fecha,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763640" cy="3048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4419720" cy="3252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900000" y="2708280"/>
            <a:ext cx="4648320" cy="3238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900000" y="2708280"/>
            <a:ext cx="381024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onjuntos de Celdas, Rang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895120" y="1676160"/>
            <a:ext cx="608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as filas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2:B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as columnas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4:C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riz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3:C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1873440" cy="1378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1944720" cy="1022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38080" y="4343400"/>
            <a:ext cx="20894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0:41:02Z</dcterms:created>
  <dc:creator>Vale</dc:creator>
  <dc:description/>
  <dc:language>en-US</dc:language>
  <cp:lastModifiedBy>Valeria Herskovic</cp:lastModifiedBy>
  <dcterms:modified xsi:type="dcterms:W3CDTF">2010-09-14T15:55:45Z</dcterms:modified>
  <cp:revision>75</cp:revision>
  <dc:subject/>
  <dc:title>(Microsoft Office) Excel y Access</dc:title>
</cp:coreProperties>
</file>