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6824-5B81-4E05-A192-253C19B15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488A-EBC9-4EFC-A013-A924FD753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8DA2-0CF3-4709-A526-20DB0BB36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8225-B26D-4B34-B437-AA00D6420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BD6C5-53DE-4EE3-8EAE-E9A4501D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9B3F7-9BD8-4EA9-9C3B-9C5D868B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6398E-E931-46E6-89E2-FF5733FA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286B7-DF8F-4454-A8E1-3F718339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C5A60-EB89-4BA6-86B0-5F4AD98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050A8-F0C6-4FA8-BA5F-683FF53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80749-15DF-4DE9-8D79-F4320C3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8EFC-87DA-4B64-8C16-D698882DC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2D3DF-4E82-4034-9031-E711657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1D315-4048-42C6-BAA4-4B8DBC0C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9DE4-24C9-4804-B58B-EC7E5BFD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CCD46-44BB-40FB-947A-AA4B9B6B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35E7A-66F4-4442-B6B8-0C44FD3D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34CD-6D58-4307-B7B8-66C4EA7AB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F4F4-1B73-4886-A2D8-4828689B6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28EA-9A2F-459D-BC7D-EE4471934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E51B-89BB-4DD2-A47B-F596D8454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D832-10E9-46F6-8F36-6E718FD7E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D8EC-67B7-4A90-8903-A30FA57EF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4966-8274-425E-9D78-329B3DF32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8226-0FFE-409B-8D41-3278CBFEB6E9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8360-D2B8-4A6C-9450-8B553FA4244D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access/HA102388991033.aspx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Access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7240" y="6308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minios (Tipos de Dato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hasta 255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Mem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gran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umeros enteros y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Date/Tim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Currenc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tos mon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Auto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úmero en secuencia introducido automáticamente po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Yes/N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es b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LE Objec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objeto OLE (imagen, sonido, hoja de cálculo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Hyperlink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uardan direcciones de página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ar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atabase Tools /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tionships/Edit Relationship/Create 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egir qué tablas y columnas rela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16360" cy="23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384720" cy="24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Tools/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ngresar info a la 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 final de la tab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ara “preguntarle” algo a la base de 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/Query Wizard/Simple Query Wiz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r info que quiero en la respu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59892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Queries/New/Simple Query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uego, podemos filtrar las res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ome/Filter/Advanced/Filter by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le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gg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62485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990720" y="624852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s-&gt;Filter-&gt;Filter By Form, Apply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 lanzar consultas con el fin de recuperar -de una forma sencilla- información de interés de una base de datos, así como también hacer cambios sobre la mi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ax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1,col2,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abla1,tabla2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condicion AND/OR condic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BY 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o ingresar SQL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Query Design / cerrar ve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QL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 Resultado: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8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1895400" cy="1866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90720" y="6165720"/>
            <a:ext cx="7181640" cy="6721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ries/New/Design View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ew/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ver resultado: View-&gt;DataShee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1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t A.id, A.nombre, A.apellido, A.fechanacimi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Where A.fechanacimiento&l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fechas se escriben entre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 op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n: Select * (seleccionar todos los camp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Hoy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e 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ienzo Proyect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2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, ordenados por apellido y nom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.fechanacimiento&lt;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 By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3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perar el nombre de las pel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ículas animadas (Cartoo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ientes (des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del 20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.tipo=‘Cartoon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anno&gt;20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4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es son los actores que han participado en comed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T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OM actores as a, actuan as ac, 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HERE a.id=ac.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ac.pelicula=p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t.tipo='Comedia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Parámetr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que Access consulte por alg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n dato para llenar la consulta, se usan los caracteres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Queremos las películas de X a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OM Peliculas 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HERE p.An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ormul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7480" y="2135160"/>
            <a:ext cx="49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ir tabla o consulta co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2412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4797360"/>
            <a:ext cx="331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 fichas de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90720" y="632448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w 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Repor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5257800" cy="223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6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 (grupos 2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r una base de datos de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nar la BD con los datos de 5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r cons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6928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crosoft Access es un SGBD, programa para gestionar bases de datos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2870280" cy="175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72480" y="3395520"/>
            <a:ext cx="19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19840" y="4233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91440" y="3852720"/>
            <a:ext cx="2384280" cy="18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5040" y="3471840"/>
            <a:ext cx="128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ess vers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1.0 -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vers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4c6d80"/>
                </a:solidFill>
                <a:uFillTx/>
                <a:latin typeface="Arial"/>
                <a:ea typeface="ＭＳ Ｐゴシック"/>
                <a:hlinkClick r:id="rId1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01276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470320" cy="24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72440" y="19051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69284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base de datos está compuesta de tablas y relaciones entre el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tabla tiene atributos (columnas, campos). Un elemento (fila) de una tabla es un reg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: Tabla 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ributos: Nombre, apellido, fecha nacimiento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s: Jim Carrey 17/01/1962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todos sus datos), Mel Gibson ...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656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23800" y="31572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125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bla (Pelic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0400" y="9810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pos (atribu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940000" y="119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1700280"/>
            <a:ext cx="1366560" cy="453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221000"/>
            <a:ext cx="669780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2040" y="3860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(1 f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38036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ablas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LICULA(Id, Titulo, 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ño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OR(Id, Nombre, Apellido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1206360"/>
                <a:gridCol w="1123920"/>
                <a:gridCol w="100980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91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049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2330280"/>
                <a:gridCol w="628920"/>
                <a:gridCol w="38088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66880" y="5181480"/>
          <a:ext cx="4038840" cy="125100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</a:tblGrid>
              <a:tr h="3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re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 d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lank Database (elegir nom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tabla (botón derecho), 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tab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cada colum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tipo de datos que guard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: Nombre? Edad? Fecha nac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lave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ia (Primary 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9520" y="4592520"/>
            <a:ext cx="432108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2819160" y="4952520"/>
            <a:ext cx="33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9840" y="4087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tributo (colum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3160" y="430380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440" y="51814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(text, number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New Blank Database, Create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Herskovic</cp:lastModifiedBy>
  <dcterms:modified xsi:type="dcterms:W3CDTF">2010-10-12T21:26:53Z</dcterms:modified>
  <cp:revision>67</cp:revision>
  <dc:subject/>
  <dc:title>(Microsoft Office) Excel y Access</dc:title>
</cp:coreProperties>
</file>