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84C5-E25D-4DAB-95F8-36C007D97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B3D7-BC9F-4F7F-A789-D76191CFF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BF84-CD41-4E77-902F-75044BAD9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6289-41DF-46D6-9FD3-64D5A16E3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9C7ED-51CE-4709-8A36-AE6DBE6C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FF951-21CA-4840-AC4E-BBB6DC6D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7911F-87B0-4E9E-934E-1FB5C3B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D6FBF-C7AC-40AC-AC32-147FDEBD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8873D-5ECA-4239-8F46-63DC0D22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56CB6-F142-44F4-91CF-377FE875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613B2-BC01-40BF-B070-A08DF4C2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0611-045C-414D-939F-653AAB44B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31572-5658-4CE9-9C21-953E445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D1032-424B-4185-B8F6-5FA856EB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1CE44-6EAF-44D2-B795-75F19DB6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4E57E-6442-4B2E-A441-A4261062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80369-1713-4576-AF18-EAAEF49D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47FC-7EB5-4F58-AADA-76ECC39A4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4900-BF2F-4E27-BEBA-FDC3FB532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5D97-BD57-4514-ADA8-300B70176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BB7B-EA1F-4ABB-96E8-FC3F7F053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AA10-640A-40DA-B5F3-BD8926F33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B5BB-665A-4DB4-AA9A-AA026C043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2E7C-F7E0-453B-9C31-15B83FAA5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345B-06AF-41BD-AFD2-3E9F0A53F5B7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6FB2-6AC2-453D-8CFD-7EB6023B8ECC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access/HA102388991033.aspx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Access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7240" y="6308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minios (Tipos de Dato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hasta 255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Mem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gran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umeros enteros y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Date/Tim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Currenc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tos mon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Auto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úmero en secuencia introducido automáticamente po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Yes/N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es b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LE Objec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objeto OLE (imagen, sonido, hoja de cálculo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Hyperlink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uardan direcciones de página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ar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atabase Tools /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tionships/Edit Relationship/Create 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egir qué tablas y columnas rela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16360" cy="23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384720" cy="24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Tools/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ngresar info a la 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 final de la tab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ara “preguntarle” algo a la base de 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/Query Wizard/Simple Query Wiz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r info que quiero en la respu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59892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Queries/New/Simple Query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uego, podemos filtrar las res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ome/Filter/Advanced/Filter by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le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gg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62485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990720" y="624852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s-&gt;Filter-&gt;Filter By Form, Apply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 lanzar consultas con el fin de recuperar -de una forma sencilla- información de interés de una base de datos, así como también hacer cambios sobre la mi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ax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1,col2,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abla1,tabla2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condicion AND/OR condic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BY 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o ingresar SQL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Query Design / cerrar ve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QL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 Resultado: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8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1895400" cy="1866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90720" y="6165720"/>
            <a:ext cx="7181640" cy="6721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ries/New/Design View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ew/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ver resultado: View-&gt;DataShee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1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t A.id, A.nombre, A.apellido, A.fechanacimi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Where A.fechanacimiento&l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fechas se escriben entre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 op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n: Select * (seleccionar todos los camp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Hoy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e 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ienzo Proyect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2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, ordenados por apellido y nom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.fechanacimiento&lt;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 By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3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perar el nombre de las pel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ículas animadas (Cartoo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ientes (des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del 20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.tipo=‘Cartoon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anno&gt;20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4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es son los actores que han participado en comed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T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OM actores as a, actuan as ac, 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HERE a.id=ac.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ac.pelicula=p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t.tipo='Comedia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Parámetr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que Access consulte por alg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n dato para llenar la consulta, se usan los caracteres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Queremos las películas de X a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OM Peliculas 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HERE p.An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ormul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7480" y="2135160"/>
            <a:ext cx="49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ir tabla o consulta co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2412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4797360"/>
            <a:ext cx="331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 fichas de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90720" y="632448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w 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Repor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5257800" cy="223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6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 (grupos 2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r una base de datos de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nar la BD con los datos de 5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r cons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6928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crosoft Access es un SGBD, programa para gestionar bases de datos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2870280" cy="175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72480" y="3395520"/>
            <a:ext cx="19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19840" y="4233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91440" y="3852720"/>
            <a:ext cx="2384280" cy="18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5040" y="3471840"/>
            <a:ext cx="128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ess vers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1.0 -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vers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4c6d80"/>
                </a:solidFill>
                <a:uFillTx/>
                <a:latin typeface="Arial"/>
                <a:ea typeface="ＭＳ Ｐゴシック"/>
                <a:hlinkClick r:id="rId1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01276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470320" cy="24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72440" y="19051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69284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base de datos está compuesta de tablas y relaciones entre el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tabla tiene atributos (columnas, campos). Un elemento (fila) de una tabla es un reg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: Tabla 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ributos: Nombre, apellido, fecha nacimiento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s: Jim Carrey 17/01/1962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todos sus datos), Mel Gibson ...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656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23800" y="31572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125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bla (Pelic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0400" y="9810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pos (atribu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940000" y="119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1700280"/>
            <a:ext cx="1366560" cy="453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221000"/>
            <a:ext cx="669780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2040" y="3860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(1 f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38036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ablas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LICULA(Id, Titulo, 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ño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OR(Id, Nombre, Apellido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1206360"/>
                <a:gridCol w="1123920"/>
                <a:gridCol w="100980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91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049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2330280"/>
                <a:gridCol w="628920"/>
                <a:gridCol w="38088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66880" y="5181480"/>
          <a:ext cx="4038840" cy="125100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</a:tblGrid>
              <a:tr h="3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re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 d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lank Database (elegir nom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tabla (botón derecho), 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tab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cada colum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tipo de datos que guard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: Nombre? Edad? Fecha nac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lave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ia (Primary 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9520" y="4592520"/>
            <a:ext cx="432108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2819160" y="4952520"/>
            <a:ext cx="33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9840" y="4087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tributo (colum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3160" y="430380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440" y="51814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(text, number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New Blank Database, Create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Herskovic</cp:lastModifiedBy>
  <dcterms:modified xsi:type="dcterms:W3CDTF">2010-10-12T21:26:53Z</dcterms:modified>
  <cp:revision>67</cp:revision>
  <dc:subject/>
  <dc:title>(Microsoft Office) Excel y Access</dc:title>
</cp:coreProperties>
</file>